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5CA4-BA71-4EB2-A0FA-459CF9B53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4A38-36B2-45AE-AF6C-F8C65CE8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1A8D-2BBE-4DF8-B992-3AD1930FF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48FF-50C6-49FA-BB88-A2B74F67E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EC9FC-EC9D-4535-8647-20EC975D6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7E174C-09D1-4A51-8E08-305475D7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FC92D-B37A-45C9-9729-B0E1CFD4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F2F12-3D69-4B73-A76D-729AC067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E7D96-4B24-4BC8-9E3A-B607F003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C9D78-9202-4582-A409-8D09976A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66F6AF-4396-449E-9FAA-E51D5750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8711-559F-4200-B081-B6FA81C6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7BAAAA-31D1-423F-8288-E27AE089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1DD24B-8071-4B79-BB0F-629C01E6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ED4180-02F0-4CD9-AF31-3EB3D9EF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1AF43-A79F-493A-BAF1-7593EB76C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4E7B9-8373-450D-92A1-EC6E205AE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BB93-809E-445C-8B6E-43EFB73F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346A-21A6-4DEB-B6CD-912BCC22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8F1B-CEC6-470F-96CE-FD6D2935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0BDC-FA07-41E5-81EC-73822BD2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1B9C-D461-4D90-84BC-7894D5FC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D5AF-C269-4609-8A95-D36AC1EE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5E96-FAB0-44C5-9C71-9661ED68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EC99-588F-4707-8305-829DBAEEC3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6DF0-7740-4E01-B33B-F013C15F81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ahoma"/>
              </a:rPr>
              <a:t>Компьютерная грамотность как условие становления социального работника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92880" y="398520"/>
            <a:ext cx="8957520" cy="5869440"/>
            <a:chOff x="92880" y="398520"/>
            <a:chExt cx="8957520" cy="5869440"/>
          </a:xfrm>
        </p:grpSpPr>
        <p:sp>
          <p:nvSpPr>
            <p:cNvPr id="99" name=""/>
            <p:cNvSpPr/>
            <p:nvPr/>
          </p:nvSpPr>
          <p:spPr>
            <a:xfrm>
              <a:off x="92880" y="398520"/>
              <a:ext cx="8957520" cy="58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08120" y="1976760"/>
              <a:ext cx="5179320" cy="21736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608120" y="3611520"/>
              <a:ext cx="517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08120" y="3074040"/>
              <a:ext cx="517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08120" y="2516040"/>
              <a:ext cx="517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08120" y="1976760"/>
              <a:ext cx="517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608120" y="1976760"/>
              <a:ext cx="5179320" cy="217368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112120" y="3611520"/>
              <a:ext cx="691920" cy="5389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32920" y="2255760"/>
              <a:ext cx="711000" cy="18946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573160" y="3871800"/>
              <a:ext cx="691920" cy="2786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608120" y="1976760"/>
              <a:ext cx="2160" cy="217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15240" y="4150800"/>
              <a:ext cx="92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15240" y="3611520"/>
              <a:ext cx="92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15240" y="3074040"/>
              <a:ext cx="92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15240" y="2516040"/>
              <a:ext cx="92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15240" y="1976760"/>
              <a:ext cx="92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08120" y="4150800"/>
              <a:ext cx="517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1608120" y="4150440"/>
              <a:ext cx="2160" cy="9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3328920" y="4150440"/>
              <a:ext cx="2160" cy="9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067000" y="4150440"/>
              <a:ext cx="1800" cy="9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6787800" y="4150440"/>
              <a:ext cx="1800" cy="9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58920" y="602280"/>
              <a:ext cx="6784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Группы социальных работников по уровню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14960" y="992160"/>
              <a:ext cx="6072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ладения компьютерной грамотностью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80960" y="4002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380960" y="3463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380960" y="29246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380960" y="23662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380960" y="1829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37480" y="4411080"/>
              <a:ext cx="651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очень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94280" y="4764600"/>
              <a:ext cx="750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низкий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034520" y="4411080"/>
              <a:ext cx="750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низкий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685480" y="4411080"/>
              <a:ext cx="930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средний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154680" y="5247720"/>
              <a:ext cx="2939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Уровень компьютерной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53000" y="5618520"/>
              <a:ext cx="1518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грамотности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6200000">
              <a:off x="-1006200" y="2888280"/>
              <a:ext cx="3047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Количество социальных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16200000">
              <a:off x="174960" y="2855880"/>
              <a:ext cx="1441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работников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93360" y="2516040"/>
              <a:ext cx="196380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86600" y="2664360"/>
              <a:ext cx="169200" cy="1681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689240" y="2591280"/>
              <a:ext cx="1300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Количество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695720" y="2924640"/>
              <a:ext cx="1352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социальных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89240" y="3259440"/>
              <a:ext cx="1283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работников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Результаты анкетирования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(начало 2009года)</a:t>
            </a: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0" y="1479600"/>
          <a:ext cx="9144000" cy="5378400"/>
        </p:xfrm>
        <a:graphic>
          <a:graphicData uri="http://schemas.openxmlformats.org/drawingml/2006/table">
            <a:tbl>
              <a:tblPr/>
              <a:tblGrid>
                <a:gridCol w="667080"/>
                <a:gridCol w="2176920"/>
                <a:gridCol w="1333800"/>
                <a:gridCol w="1899000"/>
                <a:gridCol w="1199880"/>
                <a:gridCol w="186732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/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ц.работн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л-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+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л-во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+»(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л-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-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ровень владения К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ернышева 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сок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ычкова 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сок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мирнова 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сок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вановская 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сок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Шемякина Э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сок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ащина 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сок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ронина 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сок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пова 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сок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ротина 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сок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апылева 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сок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2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редний бал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сок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0" y="-231840"/>
          <a:ext cx="9144000" cy="6972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31840"/>
                    <a:ext cx="9144000" cy="697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Результаты анкетирования после контрольного срез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0" y="1633680"/>
          <a:ext cx="9144000" cy="491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33680"/>
                    <a:ext cx="9144000" cy="49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Условия, способствующие развитию компьютерной грамотности социальных работник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личие кадров, владеющих компьютерной грамотностью на высоком  уровн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личие необходимой материальной базы (наличие необходимого ПО, свободный выход в интернет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Выводы в результате анализа литературы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-369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дной из составляющих компьютерной грамотности является освоение теории и практики в совокупнос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9360" indent="-369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и выявлении уровня компьютерной грамотности необходимо учитывать особенности пользователя компьютера, в нашем случае – социальных работник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9360" indent="-369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качестве оценки уровня владения социальными работниками компьютерной грамотностью могут выступать количество положительных ответов на предложенные вопросы анкет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9360" indent="-369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качестве условий, способствующих развитию компьютерной грамотности социальных работников, выступают следующие услови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9360" indent="-369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личие кадров, владеющих компьютерной грамотностью на высоком уровн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9360" indent="-369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личие необходимой материальной базы (наличие необходимого ПО, свободный выход в Интернет и т.д.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Цел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роанализировать компьютерную грамотность как условие становления социального работни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Задача исследов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11284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пределить и выявить уровень владения компьютерной грамотностью социальных работников по средством анкетирования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-31680"/>
            <a:ext cx="9144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Объектом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работы стало условие профессионального становления социального работни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редметом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является компьютерная грамотность как условие становления социального работни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роблема исследования –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вление роли уровня компьютерной грамотности в профессиональном становлении социального работни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Гипотеза –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сли социальный работник будет достойно владеть компьютерной грамотностью, то его профессиональный рост будет более значителе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Для достижения цели использовали следующие методы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зучение литературы по данной программ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нализ и синтез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общение , систематизац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ксперимент, который направлен на овладение компьютерной грамотностью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блюде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про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о мнению М.П. Лапчика, освоение компьютерной грамотностью предполагает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Освоение практических навыков обращения с компьютером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Знание основ программирования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Представление о принципах действия и устройств компьютера и его основных элементов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Применение и обозначение роли компьютеров в производстве и других областях деятельности человека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Виды компьютерной грамотност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90720" y="1380960"/>
            <a:ext cx="7162560" cy="5477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Этапы проведения исследов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ведение констатирующего эксперимента, с целью выявления уровня компьютерной грамотности социальных работни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ведение формирующего эксперимента, где будем включать разработанные практические рабо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ведение контрольного срез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равнение результатов на констатирующем и контрольном срез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Уровни владения социальными работниками компьютерной грамотностью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80880" y="2743200"/>
          <a:ext cx="8763120" cy="3806640"/>
        </p:xfrm>
        <a:graphic>
          <a:graphicData uri="http://schemas.openxmlformats.org/drawingml/2006/table">
            <a:tbl>
              <a:tblPr/>
              <a:tblGrid>
                <a:gridCol w="4419720"/>
                <a:gridCol w="4343400"/>
              </a:tblGrid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ровень влад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мпьютерно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рамотностью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личество положительны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вет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чень низк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нее 25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изк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% - 5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редн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% - 85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сок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5% - 10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9-04-07T09:27:13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