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14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5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6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7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8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9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20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521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2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23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524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5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26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527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29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530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31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7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7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57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8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58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8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58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8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58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9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64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5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6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8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0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71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2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3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74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5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21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22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25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6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27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28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9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30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31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2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2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3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4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78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79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0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81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82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3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84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85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6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87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88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9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0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3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35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36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37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39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0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41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42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3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44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45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6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86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7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9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0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1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92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93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4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95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96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7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98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99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0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01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302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3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43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45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48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349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350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1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52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353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4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55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356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7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58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359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0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00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1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3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4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5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06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407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8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09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410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1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12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413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4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15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416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57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8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9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63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464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65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66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467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68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69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470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71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72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473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74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3366ff"/>
                </a:solidFill>
                <a:latin typeface="Arial Narrow"/>
              </a:rPr>
              <a:t>ИЗУЧЕНИЕ СПОСОБОВ ОЦЕНКИ ЭФФЕКТИВНОСТИ</a:t>
            </a:r>
            <a:br>
              <a:rPr sz="3600"/>
            </a:br>
            <a:r>
              <a:rPr b="1" lang="ru-RU" sz="3600" spc="-1" strike="noStrike">
                <a:solidFill>
                  <a:srgbClr val="3366ff"/>
                </a:solidFill>
                <a:latin typeface="Arial Narrow"/>
              </a:rPr>
              <a:t>ПРЕДОСТАВЛЕНИЯ СОЦИАЛЬНЫХ УСЛУГ В </a:t>
            </a:r>
            <a:br>
              <a:rPr sz="3600"/>
            </a:br>
            <a:r>
              <a:rPr b="1" lang="ru-RU" sz="3600" spc="-1" strike="noStrike">
                <a:solidFill>
                  <a:srgbClr val="3366ff"/>
                </a:solidFill>
                <a:latin typeface="Arial Narrow"/>
              </a:rPr>
              <a:t>ОТДЕЛЕНИИ СОЦИАЛЬНОГО ОБСЛУЖИВАНИЯ</a:t>
            </a:r>
            <a:br>
              <a:rPr sz="3600"/>
            </a:br>
            <a:r>
              <a:rPr b="1" lang="ru-RU" sz="3600" spc="-1" strike="noStrike">
                <a:solidFill>
                  <a:srgbClr val="3366ff"/>
                </a:solidFill>
                <a:latin typeface="Arial Narrow"/>
              </a:rPr>
              <a:t>НА ДОМУ ГРАЖДАН ПОЖИЛОГО ВОЗРАСТА И </a:t>
            </a:r>
            <a:br>
              <a:rPr sz="3600"/>
            </a:br>
            <a:r>
              <a:rPr b="1" lang="ru-RU" sz="3600" spc="-1" strike="noStrike">
                <a:solidFill>
                  <a:srgbClr val="3366ff"/>
                </a:solidFill>
                <a:latin typeface="Arial Narrow"/>
              </a:rPr>
              <a:t>ИНВАЛИДОВ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 Narrow"/>
              </a:rPr>
              <a:t>Выборк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ожилые люди и инвалиды, находящиеся на обслуживании в отделении социального обслуживания на дому граждан пожилого возраста и инвалидов в возрасте от 60 до 89 лет, в количестве 58 человек.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социальные работники отделения социального обслуживания на дому граждан пожилого возраста и инвалидов в количестве 22 человек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Arial Narrow"/>
              </a:rPr>
              <a:t>Диагностический инструментар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анкета для клиентов с целью определения эффективности предоставляемых социальных услуг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анкета для социальных работников с целью изучения особенностей, существа и характеристик профессии социального работник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50220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Diagram 54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42640" y="91440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атегории клиентов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2" name="Line 315"/>
          <p:cNvSpPr/>
          <p:nvPr/>
        </p:nvSpPr>
        <p:spPr>
          <a:xfrm>
            <a:off x="2279520" y="254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3" name="Line 443"/>
          <p:cNvSpPr/>
          <p:nvPr/>
        </p:nvSpPr>
        <p:spPr>
          <a:xfrm>
            <a:off x="2279520" y="397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4" name="Rectangle 531"/>
          <p:cNvSpPr/>
          <p:nvPr/>
        </p:nvSpPr>
        <p:spPr>
          <a:xfrm>
            <a:off x="0" y="513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55" name="Object 558"/>
          <p:cNvGraphicFramePr/>
          <p:nvPr/>
        </p:nvGraphicFramePr>
        <p:xfrm>
          <a:off x="1676520" y="2057400"/>
          <a:ext cx="63244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Object 5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3244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акие дополнительные услуги Вы хотели бы получать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58" name="Diagram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659" name="Object 10"/>
          <p:cNvGraphicFramePr/>
          <p:nvPr/>
        </p:nvGraphicFramePr>
        <p:xfrm>
          <a:off x="5257800" y="2057400"/>
          <a:ext cx="29703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057400"/>
                    <a:ext cx="29703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62" name="Object 29"/>
          <p:cNvGraphicFramePr/>
          <p:nvPr/>
        </p:nvGraphicFramePr>
        <p:xfrm>
          <a:off x="685800" y="1600200"/>
          <a:ext cx="769608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600200"/>
                    <a:ext cx="7696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Что является самым ценным для клиенто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65" name="Object 5"/>
          <p:cNvGraphicFramePr/>
          <p:nvPr/>
        </p:nvGraphicFramePr>
        <p:xfrm>
          <a:off x="914400" y="1828800"/>
          <a:ext cx="7542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542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Narrow"/>
              </a:rPr>
              <a:t>Стаж работы в системе социальной защит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68" name="Object 4"/>
          <p:cNvGraphicFramePr/>
          <p:nvPr/>
        </p:nvGraphicFramePr>
        <p:xfrm>
          <a:off x="1523880" y="2057400"/>
          <a:ext cx="609624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09624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71" name="Object 4"/>
          <p:cNvGraphicFramePr/>
          <p:nvPr/>
        </p:nvGraphicFramePr>
        <p:xfrm>
          <a:off x="685800" y="685800"/>
          <a:ext cx="77724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7724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74" name="Object 4"/>
          <p:cNvGraphicFramePr/>
          <p:nvPr/>
        </p:nvGraphicFramePr>
        <p:xfrm>
          <a:off x="533520" y="685800"/>
          <a:ext cx="8001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85800"/>
                    <a:ext cx="8001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Narrow"/>
              </a:rPr>
              <a:t>Что влияет на эффективность работы социальных работников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77" name="Object 4"/>
          <p:cNvGraphicFramePr/>
          <p:nvPr/>
        </p:nvGraphicFramePr>
        <p:xfrm>
          <a:off x="1523880" y="19810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Narrow"/>
              </a:rPr>
              <a:t>Трудности с которыми сталкиваются социальные работник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85800" y="1981080"/>
          <a:ext cx="7772400" cy="3459240"/>
        </p:xfrm>
        <a:graphic>
          <a:graphicData uri="http://schemas.openxmlformats.org/drawingml/2006/table">
            <a:tbl>
              <a:tblPr/>
              <a:tblGrid>
                <a:gridCol w="6095880"/>
                <a:gridCol w="167652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Отсутствие или нехватка спецодеж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(4,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Тяжелый физический тр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(13,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отдаленность от места жительства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(4,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ное транспортное сооб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(13,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ые психологические нагру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(45,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ление доброжелательных отношений с коллег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(4,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ff"/>
                </a:solidFill>
                <a:latin typeface="Arial"/>
              </a:rPr>
              <a:t>Цель исследования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учение способов оценки  эффективности предоставления услуг в отделении социального обслуживания населения на дому граждан пожилого возраста и инвалидов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Narrow"/>
              </a:rPr>
              <a:t>Каким образом добираются социальные работники до клиентов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85800" y="259092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автомоби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елосипе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(9,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(9,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(81,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Narrow"/>
              </a:rPr>
              <a:t>Требования к социальным работникам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4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Narrow"/>
              </a:rPr>
              <a:t>В чем причина повышения требовани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7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Каким образом Вы повышаете свой профессиональный уровен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685800" y="2590920"/>
          <a:ext cx="7772400" cy="2582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 изучаете специальную литерату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пециальных учебах проводимых на базе Цен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настав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 Narrow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Unicode MS"/>
              </a:rPr>
              <a:t>Ежеквартально проводить семинары - практикумы на базе Центра для специалистов по социальной работе МУ «Междуреченский комплексный  центр социального обслуживания населения».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Unicode MS"/>
              </a:rPr>
              <a:t>Проводить профессиональные учебы для социальных работников, как на базе Центра, так и при выезде в поселения (согласно графику выездов).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Unicode MS"/>
              </a:rPr>
              <a:t>Увеличить объем дополнительных социальных услуг.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Unicode MS"/>
              </a:rPr>
              <a:t>По возможности обеспечить социальных работников транспортными средствами (велосипед).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Unicode MS"/>
              </a:rPr>
              <a:t>Использовать различные методы сбора информации об эффективности социальной работы и ее оценки.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 Narrow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анализировать литературу по проблеме эффективности социального обслуживания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ать понятие, что такое эффективность и качество социального обслуживания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крыть способы оценки эффективности оказания социальных услуг на примере отделения социального обслуживания на дому граждан пожилого возраста и инвалидов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вести анализ результативности деятельности отделения социального обслуживания на дому граждан пожилого возраста и инвалидов,  дать рекомендации в зависимости от полученных результатов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457200" y="533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ahoma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14400" y="2895480"/>
            <a:ext cx="723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990720" y="838080"/>
            <a:ext cx="73911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i="1" lang="ru-RU" sz="4400" spc="-1" strike="noStrike">
                <a:solidFill>
                  <a:srgbClr val="3366ff"/>
                </a:solidFill>
                <a:latin typeface="Arial Unicode MS"/>
              </a:rPr>
              <a:t>Объект исследования</a:t>
            </a:r>
            <a:r>
              <a:rPr b="1" i="1" lang="ru-RU" sz="4400" spc="-1" strike="noStrike">
                <a:solidFill>
                  <a:srgbClr val="99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эффективность предоставления услуг в отделении 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социального обслуживания на дому граждан пожилого возраста и инвалидов.</a:t>
            </a:r>
            <a:r>
              <a:rPr b="1" i="1" lang="ru-RU" sz="3200" spc="-1" strike="noStrike">
                <a:solidFill>
                  <a:srgbClr val="000000"/>
                </a:solidFill>
                <a:latin typeface="Arial Unicode MS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 Unicode MS"/>
              </a:rPr>
              <a:t>Предмет исследован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09480" y="1752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-78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способы оценки эффективности социального обслуживания в отделении социального обслуживания на дому граждан пожилого возраста и инвалидов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533520" y="533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838080" y="-137520"/>
            <a:ext cx="76964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 Unicode MS"/>
              </a:rPr>
              <a:t>Гипотеза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если определить наиболее оптимальные способы оценки эффективности предоставления социальных услуг, то  можно улучшить качество предоставляемых услуг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 Narrow"/>
              </a:rPr>
              <a:t>Практическая значимость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Для социальных работников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Для специалистов по социальной работ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 Narrow"/>
              </a:rPr>
              <a:t>Этапы исследования: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1. Описание выборки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2. Подбор диагностического инструментария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3. Анализ результативности и выводы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 Narrow"/>
              </a:rPr>
              <a:t>База исследован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МУ «Междуреченский комплексный центр социального обслуживания населения», отделение социального обслуживания на дому граждан пожилого возраста и инвалидов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</cp:lastModifiedBy>
  <dcterms:modified xsi:type="dcterms:W3CDTF">2010-10-28T10:18:51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