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204-A6DC-41B6-82D2-B83BA86A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ADD-1E74-4675-81C5-450A5203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CA1-68D4-44BB-A241-3214DFDC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892-1030-477C-AE6E-BAC8E0B8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DBB7D-5E63-4A82-A24D-51BAF573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63DBD-75CA-4F50-8D50-031AA0F3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A5C6F-07CC-4965-9639-83188F7E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DDBBA-A6FA-47EA-89AD-17FD5BAA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D6DEC-D1DB-4584-BA80-02FFC35D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D5A12-C271-4477-8D81-46FDBF1D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9944D-8A77-42D5-B3ED-993AA985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A8A-5B03-4706-B07D-BBA1B604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03FF9-D0C4-4ACF-939C-579D4B5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30303-062D-4425-9F84-9BF2CD12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EBA71-CEEB-4FD5-B946-61820D51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67FD0-9795-47B2-BACE-80C32B6A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9E746-51B6-4088-A853-45AE21D6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419-6A3C-44F2-A0F6-D74E815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E58-76EA-4889-B31A-CBE2A9FE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FEA-6BB7-42C3-B1B7-7E53D33D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11D-6558-4F45-A1B4-C2621310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754-C86B-4D4C-9E1D-78A19D8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8A3-3A76-4241-BD3F-4AACDC23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FD0-0D0A-42B6-B82A-FF9D9D3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FC96-0596-4B6C-B65A-94DCD22C2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B093-5410-4A8F-B920-DE137A3D7C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05968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У КЦСОН «Гармония» г. Устюж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ытаетесь реши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увствуете ли вы себ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диноким человеком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редк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оитесь ли вы одиночества?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сли да, то почему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905120"/>
          <a:ext cx="8229600" cy="4410000"/>
        </p:xfrm>
        <a:graphic>
          <a:graphicData uri="http://schemas.openxmlformats.org/drawingml/2006/table">
            <a:tbl>
              <a:tblPr/>
              <a:tblGrid>
                <a:gridCol w="4425840"/>
                <a:gridCol w="1746360"/>
                <a:gridCol w="205740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потому что совсем одн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даже поговорить не с к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, страшно умереть в одиночеств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гда заболеешь, страшно лежать одно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что жена умрёт раньше ме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роводите своё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вободное время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аюсь с сосед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та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отрю телевиз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хаживаю за растени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событий в мире 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нашей стране интересуют вас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большей степени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ит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оном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смотрю сериал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вам необходимо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ля активной жизн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йти интересное занят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нимание окружающ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, физические си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могает ли вам не испытывать одиночество общени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 социальными работникам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08280"/>
          <a:ext cx="7948800" cy="2073240"/>
        </p:xfrm>
        <a:graphic>
          <a:graphicData uri="http://schemas.openxmlformats.org/drawingml/2006/table">
            <a:tbl>
              <a:tblPr/>
              <a:tblGrid>
                <a:gridCol w="3975120"/>
                <a:gridCol w="1986120"/>
                <a:gridCol w="198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77"/>
          <p:cNvSpPr/>
          <p:nvPr/>
        </p:nvSpPr>
        <p:spPr>
          <a:xfrm>
            <a:off x="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ли помог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 в чём это проявляе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844640"/>
          <a:ext cx="8136000" cy="4389480"/>
        </p:xfrm>
        <a:graphic>
          <a:graphicData uri="http://schemas.openxmlformats.org/drawingml/2006/table">
            <a:tbl>
              <a:tblPr/>
              <a:tblGrid>
                <a:gridCol w="5040360"/>
                <a:gridCol w="1727280"/>
                <a:gridCol w="13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говорит и на душе легче станов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пытываю радость при общ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наю что-то новое, интерес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сть с кем поделиться бедами, проблем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да выслушает, успокоит, помогают в трудную мину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юблю поговорить о прошлом, а социальный работник всегда выслуша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ду с нетерпением дня, когда придёт социальный работ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54"/>
          <p:cNvSpPr/>
          <p:nvPr/>
        </p:nvSpPr>
        <p:spPr>
          <a:xfrm>
            <a:off x="0" y="507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ктивнее внедрять эффективные социальные технологии (мобильная социальная помощь гражданам, проживающим в отдалённых деревнях, выездные социальные дн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мини-клубов на дому, с целью расширения круга общения клиен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влечение волонтеров в работе с пожилыми людьми и инвалид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лучшение качества обслуживания населения через создание участковых социальных служб на территориях муниципальных образо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альбома жизнеописания клиентов (запись впечатлений от прожитой жизни, наиболее ярких воспоминаний, описание событий, происходящих в настоящее врем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2924280"/>
            <a:ext cx="8136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Объек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одиночество как социальная проблем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Предме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возможности специалиста по социальной работе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Изучить возможности специалиста по социальной работе отделения социального обслуживания на дому граждан пожилого возраста и инвалидов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анализировать литературу по проблеме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скрыть особенности деятельности специалиста по социальной работе отделения социального обслуживания на дому граждан пожилого возраста и инвалид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вести исследование анализа проблемы  одиночества среди 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зработать рекомендации для специалистов по социальной работе по решению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Гипотеза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ы предполагаем, что проблема одиночества для пожилых людей является первостепенной и как следствие специалист по социальной работе может выступать инициатором в решении этой пробл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3300"/>
                </a:solidFill>
                <a:latin typeface="Times New Roman"/>
              </a:rPr>
              <a:t>Характеристика выбор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96"/>
          <p:cNvSpPr/>
          <p:nvPr/>
        </p:nvSpPr>
        <p:spPr>
          <a:xfrm>
            <a:off x="2749680" y="3017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2781360"/>
          <a:ext cx="8640720" cy="2592360"/>
        </p:xfrm>
        <a:graphic>
          <a:graphicData uri="http://schemas.openxmlformats.org/drawingml/2006/table">
            <a:tbl>
              <a:tblPr/>
              <a:tblGrid>
                <a:gridCol w="1225440"/>
                <a:gridCol w="503280"/>
                <a:gridCol w="647640"/>
                <a:gridCol w="503280"/>
                <a:gridCol w="865440"/>
                <a:gridCol w="1079280"/>
                <a:gridCol w="504720"/>
                <a:gridCol w="719280"/>
                <a:gridCol w="453960"/>
                <a:gridCol w="843120"/>
                <a:gridCol w="503280"/>
                <a:gridCol w="792000"/>
              </a:tblGrid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Муж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Же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90 и 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60-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тносите ли вы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бя к пожилым людя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548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считаете, какие проблемы возникают у пожилых людей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блемы со здоровь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этих проблем больш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его тревожат Вас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вы пытаетесь реши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03:24Z</dcterms:created>
  <dc:creator>User</dc:creator>
  <dc:description/>
  <dc:language>en-US</dc:language>
  <cp:lastModifiedBy>Максим</cp:lastModifiedBy>
  <dcterms:modified xsi:type="dcterms:W3CDTF">2010-10-27T18:53:24Z</dcterms:modified>
  <cp:revision>5</cp:revision>
  <dc:subject/>
  <dc:title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 МУ КЦСОН «Гармония» г. Устюжна)</dc:title>
</cp:coreProperties>
</file>