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A98E-2789-4A0A-8B6D-AE74EB71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1D8-4DAA-42AE-883F-B443378E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F19-DC1A-48E9-A8E3-6A19CC16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52C-3793-49A0-9210-0BCF60A5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CC47-47CE-404F-815C-72413680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618E-853C-4F8D-AAFA-BA1687C2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301C-D572-43D9-ACF5-48E1C4C1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6756-5B86-45F7-8DF4-7CB56FBC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66EC-F23E-42DF-B35B-5F8B5FF3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3C65-F4D2-42AF-B595-EF9C5CC5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12ED-C404-4890-B5FF-9CC52676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FE27-5B54-47B5-B33D-52C14398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1986-4CA1-420A-BFBB-4F5BBA79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A6A2-765B-4009-AB4D-5396EB9F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9648-5D96-41A5-9542-2AE3B317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026D-98A7-445E-AA49-67C60355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45A3-01E4-4735-B848-0208EA20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5BCA-5D7D-47EB-8CD5-D885DCF8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5A3-5A58-42BE-B891-69388729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9FB-BEDE-48F2-9A8E-C0E53FC9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0051-D04A-4761-A533-807ECD8B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5ED6-784C-4EA7-BAAA-33300816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B362-57A3-42E5-AA7E-6F51AE43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8479-83E2-4087-AA60-881EE021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5EA4-096C-4771-A3AF-4D641CC62C2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40E5-7FA8-4A49-BCC2-8267358FC64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842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Организация работы по профилактике суицида в образовательной среде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4724280"/>
            <a:ext cx="8537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кладчик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леся Ракова, педагог-психолог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бинет психологической помощи «Инсайт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ДТ ПМЦ «Таншолпан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. Степногорс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Третий уровень –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вторичная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рофилактик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219320"/>
            <a:ext cx="85406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ель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Предотвращение самоубий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роприя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ценка риска самоубийст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овещение соответствующего учреждения психического здоровья (психиатрическая клиника?), запрос помощи. Оповещение родите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бор случая со школьным персоналом, который был включен в работу, так чтобы он мог выразить свои чувства, переживания, внести предложения относительно стратегий и плана работ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6800760" y="0"/>
            <a:ext cx="2343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500"/>
                            </p:stCondLst>
                            <p:childTnLst>
                              <p:par>
                                <p:cTn id="2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Четвертый уровень –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третичная профилактик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40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Цел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нижение последствий и уменьшение вероятности дальнейших случае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Мероприят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овещение, возмож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консультироваться 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сихологом, внимание 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моциональному климату 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школе и его изменени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207040" y="3429000"/>
            <a:ext cx="39369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320" y="304920"/>
            <a:ext cx="8537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Если самоубийство официально признается причиной смерти учащегося, тогда в уведомлении о причине смерти в среде учащихся должно звучать слово «самоубийство», а не «несчастный случай» или «неизвестная причина смерти». Однако ни в коем случае не должно быть упоминания средств совершения самоубийств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Собрать близких друзей и дать возможность работы со специалистом в области психического здоровь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Друзьям и учащимся должно быть разрешено посещение похорон. Но они не должны нести гроб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Будьте готовы сказать «нет» на все просьбы о проведении вечера памяти в честь погибшего учащегося. Это может увеличить возможность эпидемии самоубийств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Четвертый уровень –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третичная профилактик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40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Цел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циальная и психологическая реабилитация суициден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Мероприят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1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лубинная психотерапевтическая коррекция, обеспечивающая профилактику образования конфликтно-стрессовых переживаний в дальнейше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урмистрова Е.В.. Психологическая помощь в кризисных ситуациях (предупреждение кризисных ситуаций в образовательной среде). Методические рекомендации для специалистов системы образования. М.: МГППУ, 200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роно Е.М. Предотвращение самоубийства. Руководство для подрост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вчарова Р.В. Практическая психология образования.- М., 200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уицид. О мерах профилактики суицида среди детей и подростков. Официальный сайт ФППМ ВШК (факультет Психолого-педагогического менеджмента Высшей Школы Социально-управленческого консалтинг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ерепанова Е. «Психологический стресс. Помоги себе и своему ребенку». М. 200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ернова Г.В. Программа профилактики суицидального поведения "Перекресток". Сайт фестиваля "Открытый урок": http://festival.1septembe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cc"/>
                </a:solidFill>
                <a:uFillTx/>
                <a:latin typeface="Tahoma"/>
              </a:rPr>
              <a:t>Суицид</a:t>
            </a:r>
            <a:r>
              <a:rPr b="0" lang="en-US" sz="6600" spc="-1" strike="noStrike" u="sng">
                <a:solidFill>
                  <a:srgbClr val="ffffcc"/>
                </a:solidFill>
                <a:uFillTx/>
                <a:latin typeface="Tahoma"/>
              </a:rPr>
              <a:t> –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38098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умышленное самоповреждение со смертельным исходом, (лишение себя жизни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4572000" y="914400"/>
            <a:ext cx="430524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                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Суицид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Является одной из основных причин смерти у молодежи на сегодняшний ден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уицид считается “убийцей № 2” молодых людей, в возрасте от пятнадцати до двадцати четырех ле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бийцей № 1” являются несчастные случаи, в том числе передозировка наркотиков, дорожные происшествия, падения с мостов и зданий, самоотравления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6000840" y="0"/>
            <a:ext cx="31431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01680" y="304560"/>
            <a:ext cx="854064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 мнению  суицидологов, многие из этих несчастных случаев в действительности были суицидами, замаскированными под несчастные случа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И если суицидологи правы, то тогда главным “убийцей” подростков является суицид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842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Учреждение образования, где подростки проводят треть дня, представляется идеальной средой для проведения программы предотвращения самоубийств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3352680"/>
            <a:ext cx="85406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и базовых вопроса могут быть заданы в этой связи: что должно быть сделано, чтобы предотвратить самоубийство, что должно быть сделано, когда молодой человек угрожает кончить жизнь самоубийством, и что необходимо делать, когда самоубийство произошл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01320" y="380880"/>
            <a:ext cx="579420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Уровни профилактики суицида в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образовательной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сред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6172200" y="1066680"/>
            <a:ext cx="27766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ервый уровень –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общая профилактик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Цель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вышение групповой сплоченности в школ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роприя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здание общих школьных программ психического здоровья, здоровой среды в школе, так чтобы дети чувствовали заботу, уют, любовь. Организация внеклассной воспитательной работы. Разработка эффективной модели взаимодействия школы и семьи, а также школы и всего сооб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торой уровень –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ервичная профилактик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ель -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деление групп суицидаль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иска; сопровождение детей, подростков и 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емей группы риска с целью предупрежд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амоубийст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роприя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иагностика суицидального пове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дивидуальные и групповые занятия по обучению проблем-разрешающего поведения, поиска социальной поддержки, ее восприятия и оказания, повышению самооценки, развитию адекватного отношения к собственной личности, эмпат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943600" y="1335240"/>
            <a:ext cx="32004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торой уровень –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ервичная профилактик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ель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Повышение осведомлен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ерсонала и учащихся о признака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зможного суицида, факторах риска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утях действия в этой ситуац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роприя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ассные часы, круглые столы, стендовая информ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работка плана действий в случае самоубийства, в котором должны быть процедуры действия при выявлении учащегося группы риска, действия при угрозе самоубийства и после самоубийств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5257800" y="11239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ksei</cp:lastModifiedBy>
  <dcterms:modified xsi:type="dcterms:W3CDTF">2009-03-29T13:24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