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604-89C5-4CB8-A432-C6E5E49A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7D3-20DB-4CDF-AC40-956032CD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394-B268-4F41-9090-CF28DEF1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E1C-5D26-4E6F-85B1-42A6A23E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4E2-7963-455B-830C-73EA93F3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0AE-E167-4A62-AE98-556463A3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BF2-D0D5-4DF0-9467-0FB17C3B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369-0A7D-4AB7-A557-90188C1F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166-66B2-4CD8-88E1-1E391A9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EB1-EB13-49B5-BFAA-029C343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52D-15E1-4559-A5EF-9A376EF5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901-BE01-4767-85AC-6A8B203B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8EDE-9DB7-4821-AC8E-F56B42FA2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66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ка социально-медицинского обслуживания на дому граждан пожил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удентки 501 групп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ашериной Ольги Степан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ВК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420640"/>
            <a:ext cx="734544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 специфики социально-медицинского обслуживания на дому людей пожилого возр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специфику социально-медицинского обслуживания на дому людей пожил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сти социологический опрос с людьми пожилого возраста по выявлению потребностей в социально-медицинском обслуживании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рекомендации по использованию материалов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за исслед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У ВО Комплексный центр социального обслуживания населения города Волог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Анкетирование людей пожил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Сравнительный анализ работы отделения за 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предполагаем, что социально-медицинское обслуживание на дому позволит более эффективно организовать социальную помощь, направленную на восстановление утраченных физических и психических способностей пожилых людей и может являться альтернативой определению их в стационарные учре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циальная защита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мплекс социально-экономических мер, проводимых государством и направленная на социальное обслуживание нетрудоспособных граж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циальное обслуживан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деятельность социальных служб по социальной поддержке, оказанию услуг и материальной помощи людям, находящихся в трудной жизненн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ход –это ориентированная на личность услуга , оказываемая нуждающемуся в уходе человеку в его разных жизненных ситуац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циальная поддержка – это вид социальной помощи, направленная на обеспечение граждан временно находящихся в трудной жизненной ситуации через услу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ая помощь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действие лицам, лишенных необходимых условий для нормальной жизни, оказание им поддержки и выражение им сочув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3213000"/>
            <a:ext cx="8064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ная жизненная ситуация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ситуация объективно нарушающая жизнедеятельность гражданина, которую он не может преодолеть самостоятельно(инвалидность, болезнь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оциально - медицинское-обслуживание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640" y="1773000"/>
            <a:ext cx="81360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получении медицинской, правовой, социально-психологической и натуральной видов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организации ритуальных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37:47Z</dcterms:created>
  <dc:creator>Customer</dc:creator>
  <dc:description/>
  <dc:language>en-US</dc:language>
  <cp:lastModifiedBy>111</cp:lastModifiedBy>
  <dcterms:modified xsi:type="dcterms:W3CDTF">2003-03-18T23:39:18Z</dcterms:modified>
  <cp:revision>8</cp:revision>
  <dc:subject/>
  <dc:title>Слайд 1</dc:title>
</cp:coreProperties>
</file>