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9CAB-51C2-4947-8197-77A7449C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39EA-A3F2-41E6-8D67-709661E1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B81B-7E6E-45D6-9CC6-4AF47999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E5EF-D385-45F6-B8C9-F461C8B2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9325-E7CA-4035-AC36-90CDAC0F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F112-6515-449D-AF59-9E9AACEC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F41B-25F4-4074-84AD-969F5748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5BB8-898E-4F5F-A8B4-96CA3BEE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DE18-ED57-4543-B8AF-10A45383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D302-5A95-414A-A9A2-94B2C9EF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C848-E592-4C76-9724-916756ED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BBAB-7BC3-4A3F-B3DF-54C96252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591A-CEDB-46B7-972F-DEF066F9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C6B6-5429-4A31-9BBE-EEE2A3E9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7953-3B72-45DB-928F-291F99A7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3ACC-DA27-4F42-AFB1-EFF743D1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86FC-1CE2-4CF4-909C-50341421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F5EF-5004-45B0-984A-E8FA068C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1F3C-E2C6-4E5F-8DC3-E767BA64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DD42-1AFF-4E98-B8F0-E58AB515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DCAE-C038-41E2-BC57-7CFD5E23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6C53-DB1D-44C2-9FCB-B284E8E2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9A28-56F5-44E6-BB70-8342AF56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DBFA-91A1-47E7-9895-716772ED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7A9A-3D64-4BFD-A1F1-C6638146B18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D8E5-A633-4ADC-93AD-A396E1ECEA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4149720"/>
            <a:ext cx="7704000" cy="209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 Narrow"/>
              </a:rPr>
              <a:t>Опасность </a:t>
            </a:r>
            <a:r>
              <a:rPr b="1" lang="ru-RU" sz="60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распространения проституции и ее профилактика в России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6" name="Рисунок 1" descr=""/>
          <p:cNvPicPr/>
          <p:nvPr/>
        </p:nvPicPr>
        <p:blipFill>
          <a:blip r:embed="rId1"/>
          <a:srcRect l="-4281" t="0" r="0" b="0"/>
          <a:stretch/>
        </p:blipFill>
        <p:spPr>
          <a:xfrm>
            <a:off x="6084720" y="260280"/>
            <a:ext cx="2811600" cy="45370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921440" cy="5927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830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 Narrow"/>
              </a:rPr>
              <a:t>Отношение респондентов к необходимости усиления борьбы с проституцией: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15" name="Object 5"/>
          <p:cNvGraphicFramePr/>
          <p:nvPr/>
        </p:nvGraphicFramePr>
        <p:xfrm>
          <a:off x="-468360" y="692280"/>
          <a:ext cx="9409320" cy="66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8360" y="692280"/>
                    <a:ext cx="9409320" cy="66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Narrow"/>
              </a:rPr>
              <a:t>Социальные последствия,  связанные с проституцией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792000" y="1773360"/>
            <a:ext cx="8028000" cy="50472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ступления, связанные с проституци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1258920" y="2924280"/>
            <a:ext cx="7561080" cy="50472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тление подрастающих поколен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1547640" y="3933720"/>
            <a:ext cx="7272360" cy="50508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гативное психологическое воздействие на социу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2050920" y="5084640"/>
            <a:ext cx="6840720" cy="50508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рон облику России в глазах мировой обществен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 Narrow"/>
              </a:rPr>
              <a:t>Проституция достигла уровня, подрывающего социально-экономические, духовные, нравственные основы жизнедеятельности российского общества: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375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онтрабанда людей в целях сексуальной эксплуат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инамика и тенденции венерических болезней и ВИЧ-инфекции свидетельствуют о значительном ухудшении здоровья насе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риминальная активность лиц, вступающих в половые сношения за пла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арушения прав человека в среде сексуальных работников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оституция сопряжена с созданием и распространением порнографической продукции (видео и фот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ексуальная дискриминация детей и подрост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Сироты от  СПИДа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25" name="Рисунок 7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456000" cy="51768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1285920" y="297000"/>
            <a:ext cx="7429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Защитники проституции оправдываютс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спрос рождает преступ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и проблема не в проститутках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а в их покупателя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Федеральный Закон Росс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Calibri"/>
                <a:ea typeface="Times New Roman"/>
              </a:rPr>
              <a:t>«</a:t>
            </a:r>
            <a:r>
              <a:rPr b="0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О предотвращении, предупреждении и профилактике распространения проституции</a:t>
            </a:r>
            <a:r>
              <a:rPr b="0" lang="ru-RU" sz="3200" spc="-1" strike="noStrike">
                <a:solidFill>
                  <a:srgbClr val="ff00ff"/>
                </a:solidFill>
                <a:latin typeface="Calibri"/>
                <a:ea typeface="Times New Roman"/>
              </a:rPr>
              <a:t>» 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- ЗАКОН КОТОРОГО НЕТ!!!!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4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6567840" cy="44035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8375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Narrow"/>
              </a:rPr>
              <a:t>29-летней Татьяна, ВИЧ-инфицированная хроническая наркоманка и проститутка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5899320" y="0"/>
            <a:ext cx="2833560" cy="40766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90" name="Rectangle 3"/>
          <p:cNvSpPr/>
          <p:nvPr/>
        </p:nvSpPr>
        <p:spPr>
          <a:xfrm>
            <a:off x="324000" y="2993400"/>
            <a:ext cx="88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Татьяны хроническая инфекция ног от постоянных уколов и её слабеющая иммунная система убивает её. Несмотря на это,  её зависимость заставляет её многократно ежедневно колоться в израненные ноги. У Татьяны есть одиннадцатилетний сын, знающий, что мать - наркоманка, но "не желающий об этом говорить". Татьяна живёт в двухкомнатной квартире с шестью другими проститутками, - все они ВИЧ-инфицированы и наркоманки. Ни у кого из них нет возможности получать антиретровирусное леч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426600"/>
            <a:ext cx="8532720" cy="55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 Narrow"/>
              </a:rPr>
              <a:t>Перечень хронических заболеваний, наблюдающихся 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Arial Narrow"/>
              </a:rPr>
              <a:t>у женщин, занимающихся  проституцией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4360" y="981000"/>
          <a:ext cx="8135640" cy="5851440"/>
        </p:xfrm>
        <a:graphic>
          <a:graphicData uri="http://schemas.openxmlformats.org/drawingml/2006/table">
            <a:tbl>
              <a:tblPr/>
              <a:tblGrid>
                <a:gridCol w="4479840"/>
                <a:gridCol w="944640"/>
                <a:gridCol w="2711160"/>
              </a:tblGrid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Times New Roman"/>
                          <a:ea typeface="Times New Roman"/>
                        </a:rPr>
                        <a:t>Симптомы заболе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Times New Roman"/>
                          <a:ea typeface="Times New Roman"/>
                        </a:rPr>
                        <a:t>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Times New Roman"/>
                          <a:ea typeface="Times New Roman"/>
                        </a:rPr>
                        <a:t>100 ч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Times New Roman"/>
                          <a:ea typeface="Times New Roman"/>
                        </a:rPr>
                        <a:t>Представительниц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Times New Roman"/>
                          <a:ea typeface="Times New Roman"/>
                        </a:rPr>
                        <a:t>оставившие занятие проституцией 1.5 года наза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ышечная бо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7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71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способность сконцентрировать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66% (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62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мптомы простуды и грип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61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43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ь в сустав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6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3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болевания желуд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59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57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ловные боли, мигр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5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4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жные заболе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43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3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шно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41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14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ливость ру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4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14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болевание органов слух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4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19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ь в области горла и челюстного аппара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3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24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абость мышц, парали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3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24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т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32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29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довлетворительное состояние здоровья в цел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3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1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25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386920" cy="61675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404280"/>
            <a:ext cx="5759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 Narrow"/>
              </a:rPr>
              <a:t>ВОЗРАСТ ПРОСТИТУТОК , %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95" name="Object 14"/>
          <p:cNvGraphicFramePr/>
          <p:nvPr/>
        </p:nvGraphicFramePr>
        <p:xfrm>
          <a:off x="395280" y="333360"/>
          <a:ext cx="8569440" cy="65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33360"/>
                    <a:ext cx="856944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Rectangle 6"/>
          <p:cNvSpPr/>
          <p:nvPr/>
        </p:nvSpPr>
        <p:spPr>
          <a:xfrm>
            <a:off x="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4486320" y="404640"/>
            <a:ext cx="4262400" cy="59770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Narrow"/>
              </a:rPr>
              <a:t>Коэффициент занятия проституцией в зависимости от образования 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 Narrow"/>
              </a:rPr>
              <a:t>(</a:t>
            </a:r>
            <a:r>
              <a:rPr b="1" lang="ru-RU" sz="2000" spc="-1" strike="noStrike">
                <a:solidFill>
                  <a:srgbClr val="ffffcc"/>
                </a:solidFill>
                <a:latin typeface="Arial Narrow"/>
              </a:rPr>
              <a:t>По результатам московского исследования в 2009г)</a:t>
            </a: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2276640"/>
          <a:ext cx="8420040" cy="3673440"/>
        </p:xfrm>
        <a:graphic>
          <a:graphicData uri="http://schemas.openxmlformats.org/drawingml/2006/table">
            <a:tbl>
              <a:tblPr/>
              <a:tblGrid>
                <a:gridCol w="1203120"/>
                <a:gridCol w="1202040"/>
                <a:gridCol w="1203120"/>
                <a:gridCol w="1203480"/>
                <a:gridCol w="1203120"/>
                <a:gridCol w="1201680"/>
                <a:gridCol w="1203480"/>
              </a:tblGrid>
              <a:tr h="13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Times New Roman"/>
                          <a:ea typeface="Times New Roman"/>
                        </a:rPr>
                        <a:t>Высше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Незаконченное высше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Средне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Среднее специально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Неполное средне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Начально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4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,9 %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,1 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Diagram 5"/>
          <p:cNvGrpSpPr/>
          <p:nvPr/>
        </p:nvGrpSpPr>
        <p:grpSpPr>
          <a:xfrm>
            <a:off x="380880" y="772200"/>
            <a:ext cx="8129520" cy="4482720"/>
            <a:chOff x="380880" y="772200"/>
            <a:chExt cx="8129520" cy="4482720"/>
          </a:xfrm>
        </p:grpSpPr>
        <p:sp>
          <p:nvSpPr>
            <p:cNvPr id="102" name="_s1028"/>
            <p:cNvSpPr/>
            <p:nvPr/>
          </p:nvSpPr>
          <p:spPr>
            <a:xfrm flipH="1" flipV="1">
              <a:off x="2437200" y="2816280"/>
              <a:ext cx="1011600" cy="1861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_s1029"/>
            <p:cNvSpPr/>
            <p:nvPr/>
          </p:nvSpPr>
          <p:spPr>
            <a:xfrm>
              <a:off x="380880" y="2023200"/>
              <a:ext cx="2111400" cy="12085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Санкт-Петербург –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20-30тыс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проституток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_s1030"/>
            <p:cNvSpPr/>
            <p:nvPr/>
          </p:nvSpPr>
          <p:spPr>
            <a:xfrm flipH="1">
              <a:off x="3204720" y="3671280"/>
              <a:ext cx="624600" cy="493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_s1031"/>
            <p:cNvSpPr/>
            <p:nvPr/>
          </p:nvSpPr>
          <p:spPr>
            <a:xfrm>
              <a:off x="1530360" y="4046400"/>
              <a:ext cx="2112480" cy="12085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Новосибирск и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Барнаул –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потребители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наркотиков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_s1032"/>
            <p:cNvSpPr/>
            <p:nvPr/>
          </p:nvSpPr>
          <p:spPr>
            <a:xfrm>
              <a:off x="5061600" y="3671280"/>
              <a:ext cx="624600" cy="489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5248440" y="4046400"/>
              <a:ext cx="2112480" cy="12085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Томск –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студентки местных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ВУЗов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_s1034"/>
            <p:cNvSpPr/>
            <p:nvPr/>
          </p:nvSpPr>
          <p:spPr>
            <a:xfrm flipV="1">
              <a:off x="5442840" y="2813040"/>
              <a:ext cx="1005840" cy="1854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_s1035"/>
            <p:cNvSpPr/>
            <p:nvPr/>
          </p:nvSpPr>
          <p:spPr>
            <a:xfrm>
              <a:off x="6397920" y="2023200"/>
              <a:ext cx="2112480" cy="12085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Казань –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безработные и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матери-одиночки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_s1036"/>
            <p:cNvSpPr/>
            <p:nvPr/>
          </p:nvSpPr>
          <p:spPr>
            <a:xfrm flipV="1">
              <a:off x="4442400" y="1980000"/>
              <a:ext cx="0" cy="6044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_s1037"/>
            <p:cNvSpPr/>
            <p:nvPr/>
          </p:nvSpPr>
          <p:spPr>
            <a:xfrm>
              <a:off x="3386520" y="772200"/>
              <a:ext cx="2111400" cy="12078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ffffff"/>
                  </a:solidFill>
                  <a:latin typeface="Times New Roman"/>
                </a:rPr>
                <a:t>Москва- 80-130тыс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ffffff"/>
                  </a:solidFill>
                  <a:latin typeface="Times New Roman"/>
                </a:rPr>
                <a:t>сексработниц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_s1038"/>
            <p:cNvSpPr/>
            <p:nvPr/>
          </p:nvSpPr>
          <p:spPr>
            <a:xfrm>
              <a:off x="3386520" y="2584800"/>
              <a:ext cx="2111400" cy="12078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66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Секс-индустрия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в РФ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50тыс женщин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7:36:14Z</dcterms:created>
  <dc:creator>Admin</dc:creator>
  <dc:description/>
  <dc:language>en-US</dc:language>
  <cp:lastModifiedBy>Admin</cp:lastModifiedBy>
  <dcterms:modified xsi:type="dcterms:W3CDTF">2010-05-24T18:48:11Z</dcterms:modified>
  <cp:revision>8</cp:revision>
  <dc:subject/>
  <dc:title>Опасность  распространения проституции и ее профилактика в России</dc:title>
</cp:coreProperties>
</file>