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jpeg" ContentType="image/jpeg"/>
  <Override PartName="/ppt/media/image8.wmf" ContentType="image/x-wmf"/>
  <Override PartName="/ppt/media/image12.jpeg" ContentType="image/jpeg"/>
  <Override PartName="/ppt/media/image13.png" ContentType="image/png"/>
  <Override PartName="/ppt/media/image19.jpeg" ContentType="image/jpeg"/>
  <Override PartName="/ppt/media/image17.wmf" ContentType="image/x-wmf"/>
  <Override PartName="/ppt/media/image15.jpeg" ContentType="image/jpeg"/>
  <Override PartName="/ppt/media/image7.jpeg" ContentType="image/jpeg"/>
  <Override PartName="/ppt/media/image18.png" ContentType="image/png"/>
  <Override PartName="/ppt/media/image16.jpeg" ContentType="image/jpeg"/>
  <Override PartName="/ppt/media/image14.wmf" ContentType="image/x-wmf"/>
  <Override PartName="/ppt/media/image5.jpeg" ContentType="image/jpeg"/>
  <Override PartName="/ppt/media/image10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3B7A-4E97-41A0-9732-0C760ADDB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5C4A-AFF5-4ED8-8177-138D1FA6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AA77-D6E3-451E-AA09-B557F975D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1F15-213D-4049-95E2-41985895C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7880-AC38-411E-A5F6-05E3D5D32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A320-161C-4821-8C59-64357125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12B1-134A-417E-BC80-7B90C234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186F-E6EE-4CA3-868F-18F62918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6A96-6C85-4807-BA2F-6288BBAC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827C-7535-4785-BAC0-1DADC7C9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EA3C-5AAC-461A-B180-E4A1D22E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5B52-39C7-41FA-8D03-7443EC53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DFF9-0B7C-4B28-8F76-BA594FE8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5401-AF43-4A93-8779-FBC189F0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BA68-F0D7-4C7D-AF5E-E18B62F7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61DA-6DA2-4F39-8698-ACC5DA816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84E8-AE72-4934-AE52-10BD8D1D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F7E1-AB0E-422B-8650-F9EA1410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6FA0-464E-4BB8-9A3E-A9ACC1D2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6228-7D84-4272-85F6-E5DBB61B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ACA5-7CC3-43A0-9BC7-E9D34C03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CDB0-6481-47BF-8BDE-CBC4192B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78F6-638A-4817-9021-CE02C4D5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1A5C-A20B-4D01-9022-520D4B97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D095-8AF2-40FE-B792-CB1170A1F2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A61F-2EF3-4EC2-8562-C5BD2964A5E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СОЦИАЛЬНАЯ  РЕАБИЛИТАЦИЯ ДЕТЕЙ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С НАРУШЕНИЕМ 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ОПОРНО-ДВИГАТЕЛЬНОГО АППАРАТА</a:t>
            </a:r>
            <a:br>
              <a:rPr sz="2800"/>
            </a:br>
            <a:br>
              <a:rPr sz="2000"/>
            </a:b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НА ПРИМЕРЕ ДЕЯТЕЛЬНОСТИ СПЕЦИАЛИСТОВ</a:t>
            </a:r>
            <a:br>
              <a:rPr sz="1800"/>
            </a:b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МУ СЗ «КОМПЛЕКСНЫЙ ЦЕНТР </a:t>
            </a:r>
            <a:br>
              <a:rPr sz="1800"/>
            </a:b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СОЦИАЛЬНОГО ОБСЛУЖИВАНИЯ НАСЕЛЕНИЯ»</a:t>
            </a:r>
            <a:br>
              <a:rPr sz="1800"/>
            </a:b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с. КИЧМЕНГСКИЙ ГОРОДОК)</a:t>
            </a:r>
            <a:br>
              <a:rPr sz="18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аза исследования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униципальное Учрежд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оциальной Защит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Комплексный центр социального обслуживания населения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. Кич – Городок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Отделение социального обслуживания на дому граждан пожилого возраста и инвалидов командой социальных работников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ь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действовать интеграции детей-инвалидов в общество, их социальной адаптации и развитию способносте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оддерживать и укреплять  психологическое и физическое здоровье детей-инвалид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Содействовать их  социокультурной реабилит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казывать содействие в получении образ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Формировать у детей потребность в физическом совершенствовании, содействовать в осознании ими возможности целенаправленных занятий физической культурой, спорт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казывать консультативную помощ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Содействовать в беспрепятственном доступе к информации и объектам социальной инфраструкту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пециалисты отдел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036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ые работн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Психоло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Медицинская сест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Инструктор по лечебной физкультур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пециалисты других отделений и образовательных учрежден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Социальный педаго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Педагог дома детского творч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Педагоги детской школы искусст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Педагоги музыкальной и воскресной шко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44020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его в проведенном исследовании приняло участие трое детей  с диагнозом детский церебральный парал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уровень интеллекта детей с ДЦП не у всех соответствует возрастной норм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9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11" descr="P1000208"/>
          <p:cNvPicPr/>
          <p:nvPr/>
        </p:nvPicPr>
        <p:blipFill>
          <a:blip r:embed="rId1"/>
          <a:stretch/>
        </p:blipFill>
        <p:spPr>
          <a:xfrm>
            <a:off x="5580000" y="4221000"/>
            <a:ext cx="3095640" cy="22323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2" descr="P1000222"/>
          <p:cNvPicPr/>
          <p:nvPr/>
        </p:nvPicPr>
        <p:blipFill>
          <a:blip r:embed="rId2"/>
          <a:stretch/>
        </p:blipFill>
        <p:spPr>
          <a:xfrm>
            <a:off x="971640" y="4221000"/>
            <a:ext cx="3529080" cy="23306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" descr=""/>
          <p:cNvPicPr/>
          <p:nvPr/>
        </p:nvPicPr>
        <p:blipFill>
          <a:blip r:embed="rId3"/>
          <a:stretch/>
        </p:blipFill>
        <p:spPr>
          <a:xfrm>
            <a:off x="5940360" y="1052640"/>
            <a:ext cx="2376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еречень услуг, предоставляемых в «КЦСОН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о – бытов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о – психолог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о – педагог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о – медицин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о – эконом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о – бытовые услуги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оставление транспорта для доставки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реждения для обучения, участия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ультурных мероприятиях, учрежд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дравоохран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Сопровождение вне дом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Сопровождение и обслуживание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нсорной комнате, кабинете ЛФК и массаж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1" descr="100_0381"/>
          <p:cNvPicPr/>
          <p:nvPr/>
        </p:nvPicPr>
        <p:blipFill>
          <a:blip r:embed="rId1"/>
          <a:stretch/>
        </p:blipFill>
        <p:spPr>
          <a:xfrm>
            <a:off x="900000" y="4292640"/>
            <a:ext cx="3527640" cy="230328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4" descr="100_0743"/>
          <p:cNvPicPr/>
          <p:nvPr/>
        </p:nvPicPr>
        <p:blipFill>
          <a:blip r:embed="rId2"/>
          <a:stretch/>
        </p:blipFill>
        <p:spPr>
          <a:xfrm>
            <a:off x="5572080" y="1785960"/>
            <a:ext cx="3143160" cy="209376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9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11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12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13" descr="100_1724"/>
          <p:cNvPicPr/>
          <p:nvPr/>
        </p:nvPicPr>
        <p:blipFill>
          <a:blip r:embed="rId3"/>
          <a:stretch/>
        </p:blipFill>
        <p:spPr>
          <a:xfrm>
            <a:off x="5508720" y="4292640"/>
            <a:ext cx="3240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Содержимое 2"/>
          <p:cNvGraphicFramePr/>
          <p:nvPr/>
        </p:nvGraphicFramePr>
        <p:xfrm>
          <a:off x="468360" y="404640"/>
          <a:ext cx="8385120" cy="597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4" name="Содержимое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04640"/>
                    <a:ext cx="8385120" cy="597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Rectangle 4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0040" y="164304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о–педагогические услуги</a:t>
            </a:r>
            <a:br>
              <a:rPr sz="2800"/>
            </a:br>
            <a:br>
              <a:rPr sz="2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Содействие в организации обучения на дому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мощь в выполнении домашнего задания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бучение навыкам самообслуживания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бучение поведению в быту и общественных местах, самоконтролю, навыкам общения и другим форам жизнедеятельности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Анимационные услуги (посещение выставок, экскурсий, праздников и других культурных мероприятий)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Содействие в получении образования с учетом физических и умственных способностей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0" name="Picture 1" descr="E:\Таня и Юля\P1000294.JPG"/>
          <p:cNvPicPr/>
          <p:nvPr/>
        </p:nvPicPr>
        <p:blipFill>
          <a:blip r:embed="rId1"/>
          <a:stretch/>
        </p:blipFill>
        <p:spPr>
          <a:xfrm>
            <a:off x="4932360" y="4076640"/>
            <a:ext cx="3297240" cy="237672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5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9" descr="100_0760"/>
          <p:cNvPicPr/>
          <p:nvPr/>
        </p:nvPicPr>
        <p:blipFill>
          <a:blip r:embed="rId2"/>
          <a:stretch/>
        </p:blipFill>
        <p:spPr>
          <a:xfrm>
            <a:off x="900000" y="4076640"/>
            <a:ext cx="33861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4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" name="Object 8"/>
          <p:cNvGraphicFramePr/>
          <p:nvPr/>
        </p:nvGraphicFramePr>
        <p:xfrm>
          <a:off x="539640" y="476280"/>
          <a:ext cx="8209080" cy="576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6280"/>
                    <a:ext cx="820908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о-психологические услуги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сихологическое консультирова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сихологическая коррекц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Тренинг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сихологическая диагност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роведение занятий в групп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Бесе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9" descr="100_0748"/>
          <p:cNvPicPr/>
          <p:nvPr/>
        </p:nvPicPr>
        <p:blipFill>
          <a:blip r:embed="rId1"/>
          <a:stretch/>
        </p:blipFill>
        <p:spPr>
          <a:xfrm>
            <a:off x="5076720" y="2637000"/>
            <a:ext cx="3600720" cy="26049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HWScan00031"/>
          <p:cNvPicPr/>
          <p:nvPr/>
        </p:nvPicPr>
        <p:blipFill>
          <a:blip r:embed="rId2"/>
          <a:stretch/>
        </p:blipFill>
        <p:spPr>
          <a:xfrm>
            <a:off x="1258920" y="3789360"/>
            <a:ext cx="2449440" cy="25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ъект исследован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цесс социальной реабилитации детей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нарушением опорно-двигательного аппарата (ОДА)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3284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едмет исследова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ятельность специалистов по социальной работе, которая направлена на социальную реабилитацию детей с нарушением 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4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4" name="Object 9"/>
          <p:cNvGraphicFramePr/>
          <p:nvPr/>
        </p:nvGraphicFramePr>
        <p:xfrm>
          <a:off x="611280" y="549360"/>
          <a:ext cx="8137440" cy="568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549360"/>
                    <a:ext cx="813744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о–медицинские услуги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00040" y="907560"/>
            <a:ext cx="822960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казание санитарно – гигиенических услуг (стрижка ногтей причесывани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Содействие в проведении медико-социальной экспертизы и получение ИП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роведение реабилитационных мероприятий социально медицинская характеристика в соответствии с ИП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беспечение техническими средствами ухода и реабилит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Организация лечебно- оздоровительных мероприятий (массаж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Сопровождение и занятия в тренажерной комна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Сопровождение клиентов в учреждения здравоохранения, образования, соц.защи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1116000" y="4437000"/>
            <a:ext cx="3311640" cy="20462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7" descr=""/>
          <p:cNvPicPr/>
          <p:nvPr/>
        </p:nvPicPr>
        <p:blipFill>
          <a:blip r:embed="rId2"/>
          <a:stretch/>
        </p:blipFill>
        <p:spPr>
          <a:xfrm>
            <a:off x="4932360" y="4365720"/>
            <a:ext cx="3114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4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8" name="Object 10"/>
          <p:cNvGraphicFramePr/>
          <p:nvPr/>
        </p:nvGraphicFramePr>
        <p:xfrm>
          <a:off x="539640" y="549360"/>
          <a:ext cx="8136000" cy="56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549360"/>
                    <a:ext cx="813600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жидаемый результат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*Повышение самооцен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*Формирование адекватного отношения к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воему физическому состоя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*Развитие компенсаторных умений 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вы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*Развитие коммуникативных навы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тей-инвалид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*Развитие творческих способнос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тей-инвалид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*Активизация внутренне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тенциала семь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*Самореализация родителей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фессиональной деятель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вышение социальной значимости семь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итывающей ребенка-инвали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Picture 9" descr=""/>
          <p:cNvPicPr/>
          <p:nvPr/>
        </p:nvPicPr>
        <p:blipFill>
          <a:blip r:embed="rId1"/>
          <a:stretch/>
        </p:blipFill>
        <p:spPr>
          <a:xfrm>
            <a:off x="731880" y="1195560"/>
            <a:ext cx="2206440" cy="24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стигнутый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результат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9200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екватная самооце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екватное отношение к своему физическому состоян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еренность в себ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остоятель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явилось больше друз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явились планы на будуще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лучшение физического состоя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еличение словарного запаса, расширение кругозора (у детей с сохранным интеллектом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лучшение эмоционального самочувств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Picture 9" descr="P1000191"/>
          <p:cNvPicPr/>
          <p:nvPr/>
        </p:nvPicPr>
        <p:blipFill>
          <a:blip r:embed="rId1"/>
          <a:stretch/>
        </p:blipFill>
        <p:spPr>
          <a:xfrm>
            <a:off x="6156360" y="2133720"/>
            <a:ext cx="26924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блемы в работе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оставление транспортных услуг (загруженность транспорта, отсутствие оборудования машин специальными креслами и ремням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утствие специалистов узкого профиля (логопед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достаточно эффективное сотрудничество с учреждениями здравоохранения и образо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достаток методического обеспечения (литературы по работе с детьми с нарушениями ОД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ьшая загруженность специалис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утствие специального образования у некоторых специалис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высокая оплата тру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комендации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осуществления транспортных услуг детям с нарушениями ОДА требуется предоставить отдельный специально оборудованный транспор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блюдение графика работы, в котором оговорено время подвоза детей к специалистам, и в первую очередь соблюдать интересы дет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влечение к работе специалистов узкого профиля, например, логопе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еспечение специалистов методической литературой, в которой бы описывалась работа социальных работников, социального педагога, психолога, инструктора по лечебной физкультуре и медицинской сестры с детьми с нарушениями О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величение времени работы специалистов с данной категорией детей  и достойная оплата тру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рганизация учебы для работников, не имеющих специального образования по работе с детьми с нарушениями О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крытие реабилитационного отделения по работе с детьми- инвалид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24000" y="-8305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Спасибо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за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внимание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Цель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:</a:t>
            </a:r>
            <a:br>
              <a:rPr sz="28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изучение деятельности специалистов Комплексного Центра социального обслуживания населения, которая направлена на социальную реабилитацию детей с нарушением опорно–двигательного аппарата.</a:t>
            </a:r>
            <a:br>
              <a:rPr sz="2000"/>
            </a:b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                                                    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Задачи:</a:t>
            </a:r>
            <a:br>
              <a:rPr sz="28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* дать общую характеристику детей-инвалидов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* изучить проблемы социальной реабилитации детей-инвалидов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* дать характеристику социальной реабилитации детей с нарушением опорно–двигательного аппарата в деятельности социальных служб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* проанализировать и обобщить опыт работы специалистов Комплексного Центра социального обслуживания населения с. Кичменгский Городок, направленной на реабилитацию детей с нарушением опорно– двигательного аппарата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Методы исследования:</a:t>
            </a:r>
            <a:br>
              <a:rPr sz="54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етическ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 анализ литературы и систематизация информации по теме исследования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ктические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 анализ документов, анкетировани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7"/>
          <p:cNvSpPr/>
          <p:nvPr/>
        </p:nvSpPr>
        <p:spPr>
          <a:xfrm>
            <a:off x="928800" y="260280"/>
            <a:ext cx="74293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ипотез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 предполагаем, что деятельность Комплексного Центра социального обслуживания населения, направленная на социальную реабилитацию детей с нарушением опорно– двигательного аппарата, должна отвечать следующим условия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личие нормативно–правовых документов, регламентирующих деятельност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)наличие и взаимодействие специалистов разного профил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оциального работника, социального педагога, инструктора по лечебной физкультуре, психолога, медицинской сестры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) наличие условий для работы специалист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снащённость, санитарно–гигиенические условия, методическое обеспечение, микроклимат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) взаимодействие с семьями, в которых растут дети с нарушением опорно–двигательного аппарата, а также наличие и состояние информации о таких семьях и их потребностя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16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57120" y="40464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валид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о лицо, имеющее нарушение здоровья со стойким расстройством функций организма, обусловленное заболеваниями, последствиями травм или дефектами, приводящими к ограничению жизнедеятельности и вызывающее необходимость социальной защи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бенок-инвалид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лицо в возрасте до 18 лет, признанное в установленном порядке инвалид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тегории детей-инвалид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нарушением слух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нарушением зр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нарушением реч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рушением интеллектуального развит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нарушением опорно-двигательного аппар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комплексными нарушениями психофизического развит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эмоционально-волевыми нарушени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6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57120" y="404640"/>
            <a:ext cx="82296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циальная реабилитация -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комплекс мер, направленных на повышение уровня функциональных  способностей в быту и социум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блемы социальной реабилит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Недостаточные формы социальной поддерж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Нарушение связей ребенка-инвалида  с окружающим мир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Отсутствие спецшкол и реабилитационных цент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роблема получения профе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роблема неравенства возможнос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ичины нарушения ОД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болевание нервной системы: детский церебральный паралич, полиомиели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ожденная патология О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обретенные заболевания и повреждения О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28760" y="571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циальные услуги, предоставляемые детям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 нарушением ОД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42960" y="2204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о – бытов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о – психолог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о – педагог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о – медицин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о - правов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циально – эконом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0" y="0"/>
            <a:ext cx="698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2:29:14Z</dcterms:created>
  <dc:creator>User</dc:creator>
  <dc:description/>
  <dc:language>en-US</dc:language>
  <cp:lastModifiedBy>Ната</cp:lastModifiedBy>
  <dcterms:modified xsi:type="dcterms:W3CDTF">2010-10-28T10:02:41Z</dcterms:modified>
  <cp:revision>41</cp:revision>
  <dc:subject/>
  <dc:title>Слайд 1</dc:title>
</cp:coreProperties>
</file>