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B5BE0-4140-4AFE-B78A-99044F922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15465-2CE8-410B-96C9-F8D123A0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26B5F-17D2-4A97-8AEE-42AFBAD8C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44FC6-BB64-4B5C-AFD6-6805D3E2F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E108-99FF-4040-9221-3332AC4AC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D6D3-CD47-49AB-8EBC-84A48038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21E9-16C2-4CD4-A849-0AE6D23F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4605-9581-4C8D-81F9-0F8F62B6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9296-4618-42EC-A2D8-83583D7F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13B7-1E77-46A9-8C6B-6BC878C2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5E05-7A85-48D5-A64E-047F9355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35FAA-C5F7-4848-85EF-412AA07C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BA96-B8C8-4539-81B5-02763AEE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AB19-4B6A-4B27-8D07-16FC42A9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F4F3-B43E-4896-8F00-EA5429EA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B89A-21DD-482A-B76F-14B4A37C2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F92B-B0DF-49A5-854A-C7820AB01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6AB55-E644-4AD1-AF31-DBA01BDD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F6349-3779-4384-9B79-C5F01659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1EA31-669E-44D7-8CE4-4617514B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9C16C-0A35-4EDF-BD68-91D660B5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B045A-28E5-433B-BFEB-195062EE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1A031-A299-4DD2-98EF-D92102E5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775CC-0786-49B5-A9A6-1A7D7AEF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C1913-225E-43B7-B0C5-1ABCF9BF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9F0EB-0A4F-4B04-9833-E5B01D9E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DBB50-2DDF-45C8-BDB8-D8B8BEE0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F6B03-0B36-464A-AA7C-C4F38306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208E4-15B0-49CF-A96D-026E5AE98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060CF-FAB9-4E2A-809F-70BEDD6FE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EEC1B-6D9D-41D0-9783-E4940DA47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DD6FF-96AD-4E3D-AAA5-C5E30E9A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8F376-1DB1-4077-B66E-3CCF7E93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5DECB-A023-4A3D-8441-DD66F948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1EEE8-E7D3-4216-BDEC-28001640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72C1F-ED73-461B-9F85-E0B9E794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B2FC5-132F-4A82-9910-F30A7B36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20226-752A-412A-914D-3CCDBC6C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0C609-1BF0-410E-8592-EDCE89F7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C89AC-6C7D-4645-B832-51F34C85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43A37-81A4-499A-AE59-A42D97C5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C5921-AC18-4AA8-9FCA-304C11656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C1D32-6162-4644-A756-1896FF415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825E7A-C2CE-4EB9-ABB9-138920F45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B9068-8277-4BE9-B7C1-B66C7FE7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75F0C0-FEFF-4EC2-B823-C5E79DCC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8756B3-2C81-4DB3-9660-E0CF3286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2F1B99-6EBE-498A-A2A3-AFFE2F04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BAF81C-3F47-4142-830E-B6B4BAE9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4123A7-31B4-4A53-9E12-EC0EE014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C2755C-4F50-44D3-A4CC-F245E094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AC8A9E-A1E9-4486-9580-06ED9EEC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8441FE-B16E-45E0-A7E3-12252F9B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5C5580-A50C-482A-A295-358148C5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7DCE59-C987-4DB8-A7B1-0234150B8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62A0E-7930-4B3D-9071-ADDECEDF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8CA0EF-A353-42D1-90B5-24290ACFB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123CC-1E0B-457C-8325-ADC0A65C0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946D9-ABB5-4855-94B3-65377A92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31F24-B3FA-4CAF-AB31-674C6EF5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3187F-3EDF-4709-884A-61E322C3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367B6-4A2C-4CD2-A2EF-37EEB1FC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395C6-AFD6-4573-A57C-FC696BC4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DBAAB-54A8-490F-BAA1-AD6253C6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EE408-6F75-45D2-9E7F-516B1CFB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9044D-8B40-4BE4-BD59-8C9D96EE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696A9-5C21-40E3-B676-06A14462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1E531-8BCC-4F6A-B203-4E13970D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C86C5-4CAE-4BB4-B735-3AE0E815C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5877F-552F-44E6-8480-E5EF1E27E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32CF0-656C-4D0B-B614-57081C761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43635-6E62-41FA-93A0-95C1BF29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AD592-25A1-43FC-A19D-752F2E2B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DE545-B23D-4394-9EB7-ABDD151F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5C113-7FC7-4A6C-8F81-FFACB652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37534-757A-4BE1-ADEC-E09B4129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0C586-1855-4C46-B258-ACFEBBE9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363C7-5B72-4338-B1AB-C18C1928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E6BC8-A454-4B3D-A803-34EF2BF7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682C0-B786-42B2-9E51-3D292B46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5632A-CBEA-4460-AC55-9CC928B9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ACCE7-B772-4A04-9394-572938158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4086E-0274-4D1D-B421-E35AE7757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3CD12-C4D7-4784-A827-D9A2B73DD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22B54-A5A9-4B2F-B3E2-40BE70FA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65ECF-3A52-485F-AAC6-5DFFFE9E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20DD9-27B0-4FAC-BA0D-F03E3386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02D02-E2AE-4C7A-8197-CEF49310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F0CD8-8CF4-4ED7-A9D9-859C3397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603BE-761F-444B-A8B5-3E457ABC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9AEEA-391D-4B7F-8FA1-420D45A3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EB61C-1327-4810-80F3-6D24DADB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14C2B-860D-4F29-9142-39BFD9B4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907F5-BE3E-4EA9-A65D-4EF2B302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FD03F-673B-4445-A3E1-9B67861F2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8F9C1-3DC6-479B-9E18-92BD726A5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A7BA-913A-4989-B61C-AB708638574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A79D-66B0-4EAE-99D2-33FC282EE8C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0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B8AA-631D-4E16-B49E-9BA2077C9FEF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3357-ECD3-44F5-A512-D60DB107938F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886F-F3B6-4463-908B-989CEE231DE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262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EC89-136B-4605-92EC-1989382930D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318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369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37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19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2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B763-FE9A-4512-9C59-D357255230D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423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424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430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dt" idx="22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ftr" idx="2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sldNum" idx="2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3007-C2CF-4A88-8F44-072019D2C5B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0000"/>
                </a:solidFill>
                <a:latin typeface="Garamond"/>
              </a:rPr>
              <a:t>ПРАВИЛА ПРАВОПИСУ</a:t>
            </a:r>
            <a:br>
              <a:rPr sz="5400"/>
            </a:b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971640" y="3573360"/>
            <a:ext cx="2205000" cy="237672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7020000" y="260280"/>
            <a:ext cx="1873080" cy="2490840"/>
          </a:xfrm>
          <a:prstGeom prst="rect">
            <a:avLst/>
          </a:prstGeom>
          <a:ln w="0">
            <a:noFill/>
          </a:ln>
        </p:spPr>
      </p:pic>
    </p:spTree>
  </p:cSld>
  <p:transition advTm="4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8002800" cy="11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Ненаголошені голосні 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[</a:t>
            </a:r>
            <a:r>
              <a:rPr b="0" lang="uk-UA" sz="3600" spc="-1" strike="noStrike">
                <a:solidFill>
                  <a:srgbClr val="ccecff"/>
                </a:solidFill>
                <a:latin typeface="Arial"/>
              </a:rPr>
              <a:t>Е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],[</a:t>
            </a:r>
            <a:r>
              <a:rPr b="0" lang="uk-UA" sz="3600" spc="-1" strike="noStrike">
                <a:solidFill>
                  <a:srgbClr val="ccecff"/>
                </a:solidFill>
                <a:latin typeface="Arial"/>
              </a:rPr>
              <a:t>И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]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7868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Ненаголошені голосні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[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е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],[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]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 під час письма потрібно перевіряти наголосом . Щоб знати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 яку букву (е чи и) писати в ненаголошеному складі кореня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треба змінити слово або добрати до нього спільнокореневе так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 щоб ненаголошений голосний став наголошеним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</a:t>
            </a:r>
            <a:r>
              <a:rPr b="0" lang="uk-UA" sz="3200" spc="-1" strike="noStrike">
                <a:solidFill>
                  <a:srgbClr val="ff0000"/>
                </a:solidFill>
                <a:latin typeface="Verdana"/>
              </a:rPr>
              <a:t>и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шневий                  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</a:t>
            </a:r>
            <a:r>
              <a:rPr b="0" lang="uk-UA" sz="3200" spc="-1" strike="noStrike">
                <a:solidFill>
                  <a:srgbClr val="ff0000"/>
                </a:solidFill>
                <a:latin typeface="Verdana"/>
              </a:rPr>
              <a:t>е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ани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943560" y="15825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771640" y="3933720"/>
            <a:ext cx="1800360" cy="432000"/>
          </a:xfrm>
          <a:prstGeom prst="wedgeEllipseCallout">
            <a:avLst>
              <a:gd name="adj1" fmla="val -46208"/>
              <a:gd name="adj2" fmla="val 7647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в</a:t>
            </a:r>
            <a:r>
              <a:rPr b="1" lang="uk-UA" sz="2400" spc="-1" strike="noStrike">
                <a:solidFill>
                  <a:srgbClr val="ff0000"/>
                </a:solidFill>
                <a:latin typeface="Garamond"/>
              </a:rPr>
              <a:t>и</a:t>
            </a: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шн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372360" y="3933720"/>
            <a:ext cx="1800000" cy="432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гр</a:t>
            </a:r>
            <a:r>
              <a:rPr b="1" lang="uk-UA" sz="2400" spc="-1" strike="noStrike">
                <a:solidFill>
                  <a:srgbClr val="ff0000"/>
                </a:solidFill>
                <a:latin typeface="Garamond"/>
              </a:rPr>
              <a:t>е</a:t>
            </a: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ч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3780000" y="4724280"/>
            <a:ext cx="1801800" cy="1944720"/>
          </a:xfrm>
          <a:prstGeom prst="rect">
            <a:avLst/>
          </a:prstGeom>
          <a:ln w="0">
            <a:noFill/>
          </a:ln>
        </p:spPr>
      </p:pic>
    </p:spTree>
  </p:cSld>
  <p:transition advTm="13000"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Garamond"/>
              </a:rPr>
              <a:t>Запам</a:t>
            </a: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’</a:t>
            </a:r>
            <a:r>
              <a:rPr b="1" lang="uk-UA" sz="4400" spc="-1" strike="noStrike">
                <a:solidFill>
                  <a:srgbClr val="ff0000"/>
                </a:solidFill>
                <a:latin typeface="Garamond"/>
              </a:rPr>
              <a:t>ята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5986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Garamond"/>
              </a:rPr>
              <a:t>У багатьох словах ненаголошені 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1" lang="uk-UA" sz="3200" spc="-1" strike="noStrike">
                <a:solidFill>
                  <a:srgbClr val="ff0000"/>
                </a:solidFill>
                <a:latin typeface="Garamond"/>
              </a:rPr>
              <a:t>е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],[</a:t>
            </a:r>
            <a:r>
              <a:rPr b="1" lang="uk-UA" sz="3200" spc="-1" strike="noStrike">
                <a:solidFill>
                  <a:srgbClr val="ff0000"/>
                </a:solidFill>
                <a:latin typeface="Garamond"/>
              </a:rPr>
              <a:t>и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] </a:t>
            </a:r>
            <a:r>
              <a:rPr b="0" lang="uk-UA" sz="3200" spc="-1" strike="noStrike">
                <a:solidFill>
                  <a:srgbClr val="ff0000"/>
                </a:solidFill>
                <a:latin typeface="Garamond"/>
              </a:rPr>
              <a:t>не можна перевірити наголосом: </a:t>
            </a:r>
            <a:r>
              <a:rPr b="0" i="1" lang="uk-UA" sz="3200" spc="-1" strike="noStrike">
                <a:solidFill>
                  <a:srgbClr val="ff0000"/>
                </a:solidFill>
                <a:latin typeface="Garamond"/>
              </a:rPr>
              <a:t>бензин</a:t>
            </a:r>
            <a:r>
              <a:rPr b="0" i="1" lang="en-US" sz="3200" spc="-1" strike="noStrike">
                <a:solidFill>
                  <a:srgbClr val="ff0000"/>
                </a:solidFill>
                <a:latin typeface="Garamond"/>
              </a:rPr>
              <a:t>,</a:t>
            </a:r>
            <a:r>
              <a:rPr b="0" i="1" lang="uk-UA" sz="3200" spc="-1" strike="noStrike">
                <a:solidFill>
                  <a:srgbClr val="ff0000"/>
                </a:solidFill>
                <a:latin typeface="Garamond"/>
              </a:rPr>
              <a:t> іспит</a:t>
            </a:r>
            <a:r>
              <a:rPr b="0" i="1" lang="en-US" sz="3200" spc="-1" strike="noStrike">
                <a:solidFill>
                  <a:srgbClr val="ff0000"/>
                </a:solidFill>
                <a:latin typeface="Garamond"/>
              </a:rPr>
              <a:t>. </a:t>
            </a:r>
            <a:r>
              <a:rPr b="0" lang="uk-UA" sz="3200" spc="-1" strike="noStrike">
                <a:solidFill>
                  <a:srgbClr val="ff0000"/>
                </a:solidFill>
                <a:latin typeface="Garamond"/>
              </a:rPr>
              <a:t>Написання таких слів перевіряй за орфографічним словником і запам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’</a:t>
            </a:r>
            <a:r>
              <a:rPr b="0" lang="uk-UA" sz="3200" spc="-1" strike="noStrike">
                <a:solidFill>
                  <a:srgbClr val="ff0000"/>
                </a:solidFill>
                <a:latin typeface="Garamond"/>
              </a:rPr>
              <a:t>ятовуй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6372360" y="3933720"/>
            <a:ext cx="244764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aeaea"/>
                </a:solidFill>
                <a:latin typeface="Tahoma"/>
              </a:rPr>
              <a:t>У коренів слів чергуються 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Голосні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І -  О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дім – дом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збір – збор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злість – злості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кріп – кроп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І – Е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іній – іне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куліш – кулеш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леміш – лемеш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причіп – причеп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09680" y="1981080"/>
            <a:ext cx="370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1763640" y="3429000"/>
            <a:ext cx="1656000" cy="100800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547640" y="2708280"/>
            <a:ext cx="2089440" cy="720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979640" y="3645000"/>
            <a:ext cx="358920" cy="28872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843280" y="3789360"/>
            <a:ext cx="288720" cy="504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ffffff"/>
                </a:solidFill>
                <a:uFillTx/>
                <a:latin typeface="Arial"/>
              </a:rPr>
              <a:t>Приголосн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Г – З – Ж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Ольга – Ользі – Ольж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дорога – дорозі – дорож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К – Ц – Ч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вік – у віці – віч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бік – на боці – боч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Х – С – Ш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посуха – у посусі – посуши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рух – у русі – руша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6156360" y="2781360"/>
            <a:ext cx="2579760" cy="2125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08:30:37Z</dcterms:created>
  <dc:creator>Student</dc:creator>
  <dc:description/>
  <dc:language>en-US</dc:language>
  <cp:lastModifiedBy>Ігор</cp:lastModifiedBy>
  <dcterms:modified xsi:type="dcterms:W3CDTF">2005-11-28T12:06:59Z</dcterms:modified>
  <cp:revision>12</cp:revision>
  <dc:subject/>
  <dc:title>ПРАВИЛА ПРАВОПИСУ </dc:title>
</cp:coreProperties>
</file>