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CC67-74F3-43D7-9F6E-3B097A58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6B9-CBA8-4F87-A427-FE6900C9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C290-3461-4B7E-994F-E3CBAB05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30FF-E1E4-4483-8312-E21BEC54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E18E-DA71-41A7-91EF-9C890AA7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31FB-46E8-4690-A146-AAE383F9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9CA3-2B3F-41FB-A88E-A6280FE6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7CB4-800F-4BA3-B7C3-EF376180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7994-FE87-4582-A20E-26D950A5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0518-7948-4933-88F7-51F3DF77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7165-43D6-4F35-A41A-E968B83A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EA1D-0E9A-4E95-A3DA-D2242608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E38A-A06F-4C57-A6D6-0CFD78D7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3EB8-6B9F-4DCE-B6A9-8D6E7E23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4D18-7C80-42C1-957B-F890770A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A64F-D536-41E9-A47B-C63C7A26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1E1C-3773-439E-8555-78404A53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DAA34-0304-4EC8-BD4E-EF16DCA3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69120-2CF2-45EB-B827-DE8035EF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6C74A-C078-4726-AE64-485789C8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83896-D811-4E5D-A0D4-6414C806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44187-E638-4895-A704-6CB13630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07E5-0ED1-4FF0-802A-49B859AC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9222B-FC1E-4CE5-90E8-D1ACF0AC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4054E-FE26-4E40-9B34-663CD515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714B6-786E-45C0-BA92-C36B4DB6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7281C-1599-451D-B941-EDB0147C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D9338-0F05-43EC-833A-D3808035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CDC65-774F-4088-B625-8DF8843E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A827C-5A56-4DB2-8ED9-27436AC0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F0296-D081-4238-9667-5FEB7ACB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5E851-A42F-4A60-BA53-185C1577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8BEAE-DE88-4DB1-9939-C21F2C27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BBE2-448D-4EAF-AAD3-BBBFF490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13642-F86C-4BB8-AB65-01F7BCDF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B42A1-0867-469E-9EE0-CF18525F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30CE8-A87A-4A24-9008-9B093978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84D5D-1E8F-48D1-AC38-5EA8F253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96B00-A7CD-4099-B58A-E4DAE7E7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942B0-2793-443F-BE5A-2FC23D63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A1303-AAAE-47B8-AC5E-4990A8BC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140CB-E499-49F7-A75E-02982D10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8830E-3A2C-4245-A321-3478390E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0D50A-023F-480D-87EF-BF1FAAD7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BE17-D26D-4FD9-9D7C-09DEE22C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8B8F2-C530-45A6-BBA0-461074B6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ABFB4-74E2-499C-9567-4C45A773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118F5-E6BF-499E-95DF-36E1444B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AA662-AC22-4002-BCF1-A6F1725C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BFFF6-361E-429E-80FB-E37CE19F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3D99B-88B4-4770-A382-412FA8E6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5B465-59DE-4AF0-B94C-D8A2BDDD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14073-208F-4618-B951-57A4957E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1F17D-201D-4776-886A-C05A6FFE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06F13-A238-46BA-9C31-F01236B4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B2FF-747F-48F4-A55E-D6C0B650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22E04-384D-4EE9-8ED9-62854EA4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2344E-5363-4EE3-8DDC-EB4B6B82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AEE4E-66F8-43B4-B23B-68A65CCF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42D54-7BF2-4181-896C-82D6A49C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7F570-546F-459A-9D56-1F8326E6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17359-9544-42FD-B80D-F182E126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A718B-637B-447B-8B2D-85AB799D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7D632-CAB2-4B2A-BD51-14D62697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956DB-BBFA-40AC-8208-91C47826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861CA-7135-4191-B478-C4567A85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D911-BCBF-4668-AC85-C3C2C700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4BD56-323B-451D-9C2D-EF967B5F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01F31-743A-45DD-8303-46E09EA7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3CAFA-3AAE-4213-AB53-541FF94F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7C91-0D10-4948-AF0D-9E6FEB85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4365-99C2-4FDD-93C9-69C2F202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8b89"/>
            </a:gs>
            <a:gs pos="100000">
              <a:srgbClr val="dedbd7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E454-03BC-43B0-8110-F139FD6C64AC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8b89"/>
            </a:gs>
            <a:gs pos="100000">
              <a:srgbClr val="dedbd7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2680-822A-45B0-8BB6-18D020BF1A25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8b89"/>
            </a:gs>
            <a:gs pos="100000">
              <a:srgbClr val="dedbd7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87CB-5DCC-4FB5-9EB3-D1833133FE7F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8b89"/>
            </a:gs>
            <a:gs pos="100000">
              <a:srgbClr val="dedbd7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B58D-D1EF-4C75-AAE6-8351B12DAAB7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8b89"/>
            </a:gs>
            <a:gs pos="100000">
              <a:srgbClr val="dedbd7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2A4F-B264-48AF-AE77-B0F5C0A35C1C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8b89"/>
            </a:gs>
            <a:gs pos="100000">
              <a:srgbClr val="dedbd7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AD8A-381C-49C1-8E37-D93E401CF776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85520" y="571320"/>
            <a:ext cx="7467480" cy="5143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ОЛЬ СОЦИАЛЬНОГО ПЕДАГОГ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РАБОТЕ С ДЕТЬМ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 ОГРАНИЧЕННЫМИ ВОЗМОЖНОСТЯМИ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НА ПРИМЕРЕ СПЕЦИАЛЬНОЙ КОРРЕКЦИОННОЙ ОБРАЗОВАТЕЛЬНОЙ ШКОЛЫ – ИНТЕРНА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I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ИДА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ЕТОДЫ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ие методы: анализ документации, обобщение информ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пирические  методы: социометрия с целью изучения взаимоотношений учащихся,  диагностика склонности к отклоняющему поведению (СОП),  анкета по профориентации, дифференциально – диагностический опросник (ДД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7467480" cy="442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ЕОРЕТИЧЕСКИЙ АНАЛИЗ ДЕЯТЕЛЬНОСТИ СОЦИАЛЬНОГО ПЕДАГОГА С ДЕТЬМ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 ОГРАНИЧЕННЫМИ ВОЗМОЖНОСТЯМИ 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СПЕЦИАЛЬНОЙ КОРРЕКЦИОННОЙ ОБРАЗОВАТЕЛЬНОЙ ШКОЛЕ – ИНТЕРНА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I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ИДА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wedg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7467480" cy="4797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РОЛИ СОЦИАЛЬНОГО ПЕДАГОГА С ДЕТЬМИ С ОГРАНИЧЕННЫМИ ВОЗМОЖНОСТЯМИ В СПЕЦИАЛЬНОЙ КОРРЕКЦИОННОЙ ОБРАЗОВАТЕЛЬНОЙ ШКОЛЕ _ ИНТЕРНА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I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ИДА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направления деятельности социального педагога в специальной коррекционной образовательной школе – интерна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ть направления деятельности социального педаго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критерии для оценки результативности направлений деятельности социального педаго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направления деятельности социального педаго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рекоменд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225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ЭТАПЫ РЕАЛИЗАЦИИ ИССЛЕДОВАНИЯ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785960"/>
            <a:ext cx="74674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АЗА ПРАКТИКИ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600200"/>
            <a:ext cx="74674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Нюксенская специальная коррекционная образовательная школа – интерна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Рисунок 2" descr="н г-2008 013"/>
          <p:cNvPicPr/>
          <p:nvPr/>
        </p:nvPicPr>
        <p:blipFill>
          <a:blip r:embed="rId1"/>
          <a:stretch/>
        </p:blipFill>
        <p:spPr>
          <a:xfrm>
            <a:off x="3714840" y="3286080"/>
            <a:ext cx="4857840" cy="287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ЫБОРКА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человека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999800"/>
            <a:ext cx="74674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ИАГНОСТИЧЕСКИЙ ИНСТРУМЕНТ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ометрия, диагностика склонности к отклоняющему поведению (СОП), анкета по профориентации, дифференциально – диагностический опросник (ДД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00920" cy="129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О – ПЕДАГОГИЧЕСКОЕ ИССЛЕДОВАНИЕ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1857240"/>
            <a:ext cx="78296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ометр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 – психологический портрет трудного ребё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паспортизация клас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склонности к отклоняющему поведению (СО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О – ПЕДАГОГИЧЕСКАЯ ЗАЩИТА ПРАВ РЕБЁНКА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785960"/>
            <a:ext cx="74674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ки учащихся, нуждающихся в социальной защите, опеке и попечитель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НАЧИМОСТЬ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тема  является значимой, т.к. в настоящее время, увеличивается количество детей с ограниченными возможностями, а детей с умственной отсталостью увеличивается вдвое, основная причина – алкоголизм родителей.  Для такой категории детей создаются специальные коррекционные образовательные школы – интернаты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, где значимая роль отводится социальному педаго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О – ПЕДАГОГИЧЕСКАЯ ПОДДЕРЖКА СЕМЬИ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 данных по неблагополучным семь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 обследования материально – бытовых условий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ое собр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О – ПЕДАГОГИЧЕСКОЕ КОНСУЛЬТИРОВАНИЕ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 с ребён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О – ПЕДАГОГИЧЕСКАЯ ПРОФИЛАКТИКА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 заседания Совета по профилактике правонарушений среди несовершеннолетн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оприятие «Профилактика наркомании у детей и подрост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00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О – ПЕДАГОГИЧЕСКАЯ ПОМОЩЬ В ПРОФЕССИОНАЛЬНОМ ОПРЕДЕЛЕНИИ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2143080"/>
            <a:ext cx="782964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а по профориент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оприятие «Выбор профе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00920" cy="1225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ОННО – МЕТОДИЧЕСКАЯ ДЕЯТЕЛЬНОСТЬ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1785960"/>
            <a:ext cx="74674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пление методической литера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оприятие «День Святого Валент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ЕКОМЕНДАЦИИ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оциального педагога должна быть направлена, в первую очередь, на детей, а не на документац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мероприятия совместно для детей и родителей, направленных на сплоч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ывать проведение занятий по профориентации с выпускник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о подготовить выпускников к поступлению в новое учебное завед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постоянный контроль постинтернатной адаптации выпуск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726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ПАСИБО ЗА ВНИМАНИЕ!!!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wedg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ЪЕКТ ИССЛЕДОВАНИЯ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 – педагогическая деятельность с детьми с ограниченными возможност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ЕДМЕТ ИССЛЕДОВАНИЯ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 – педагогическая деятельность с умственно – отсталыми детьми в специальной коррекционной образовательной школе – интерна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ЦЕЛЬ ИССЛЕДОВАНИЯ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роли социального педагога в работе с детьми  с ограниченными возможностями в специальной коррекционной образовательной школе – интерна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ДАЧИ РАБОТЫ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литературу по данной те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основные понятия: дети с ограниченными возможностями, умственно – отсталые дети, специальная коррекционная образовательная школа – интерна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, социально – педагогическая деяте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ть содержание деятельности социального педагога в специальной коррекционной образовательной школе – интерна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ИПОТЕЗА ИССЛЕДОВАНИЯ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роанализировать направления социально – педагогической деятельности, то можно определить пути дальнейшего повышения результативности роли социального педагога в специальной коррекционной образовательной школе – интерна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БЛЕМА ИССЛЕДОВАНИЯ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деятельности социального педагога в специальной коррекционной образовательной школе – интернат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АКТИЧЕСКАЯ ЗНАЧИМОСТЬ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редназначена для социального педагога, работающего в МОУ «Нюксенская специальная коррекционная образовательная школа – интерна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2T10:42:52Z</dcterms:created>
  <dc:creator>Admin</dc:creator>
  <dc:description/>
  <dc:language>en-US</dc:language>
  <cp:lastModifiedBy>Admin</cp:lastModifiedBy>
  <dcterms:modified xsi:type="dcterms:W3CDTF">2010-06-13T17:00:30Z</dcterms:modified>
  <cp:revision>28</cp:revision>
  <dc:subject/>
  <dc:title>Слайд 1</dc:title>
</cp:coreProperties>
</file>