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AC2-EE02-4601-A71C-FF4EB2FD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CE9-EB77-4978-9339-FDC00581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A51-5A53-4CDE-8526-F42F61FC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870-EB06-4A7A-B161-73E90804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0C4B-04F3-4DC1-9650-FE87D8D0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6496-4B26-4037-8CF6-6FD2E63B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1B1B-1533-4AFE-8288-EFF54B8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0424-AF47-49A9-8D00-96EECC7E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F4FF-5364-45D4-92B6-AAA4CD1B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F818-3C13-4A20-A96A-58AF615C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9325-DCC9-4837-A497-11665CB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A2F-7106-4695-B528-7EC62D85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EDEC-7F99-4BF6-8B11-51AA9FD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0B4A-91C8-4EF2-88BB-8EA518A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0645-625C-4444-9166-27F62EBB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128B-8390-406D-9BCE-3FC557EB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0B09-EC97-4E08-BA1E-3009EE1C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753-B509-4C16-AC5B-62941F9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EE8-885D-46B0-9F06-74BA4F48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D26-E701-4770-A5B8-3B37BC0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FA0-6DD2-4F43-B0D6-0CD16706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64A-25E3-4C6D-BC5B-9AC48FD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708-7D4F-41AF-9D42-ECF340FB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8B6-96B8-4B0D-90BF-BE557869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3449-847A-4D56-BC94-9FE79090B4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F53-6E62-4094-B3E9-9F304ABF2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468360" y="1268280"/>
            <a:ext cx="835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... до и после 14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8690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УДОВОЕ  ПРАВО  ПОДРОСТ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Organization Chart 7"/>
          <p:cNvGrpSpPr/>
          <p:nvPr/>
        </p:nvGrpSpPr>
        <p:grpSpPr>
          <a:xfrm>
            <a:off x="2684520" y="713520"/>
            <a:ext cx="3917880" cy="1635480"/>
            <a:chOff x="2684520" y="713520"/>
            <a:chExt cx="3917880" cy="1635480"/>
          </a:xfrm>
        </p:grpSpPr>
        <p:cxnSp>
          <p:nvCxnSpPr>
            <p:cNvPr id="94" name="_s102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48640" y="813240"/>
              <a:ext cx="227520" cy="10357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29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4012200" y="811800"/>
              <a:ext cx="227520" cy="103860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1030"/>
            <p:cNvSpPr/>
            <p:nvPr/>
          </p:nvSpPr>
          <p:spPr>
            <a:xfrm>
              <a:off x="3811680" y="713520"/>
              <a:ext cx="1665360" cy="50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подростк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_s1031"/>
            <p:cNvSpPr/>
            <p:nvPr/>
          </p:nvSpPr>
          <p:spPr>
            <a:xfrm>
              <a:off x="2684520" y="1444680"/>
              <a:ext cx="18446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Активны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37%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_s1032"/>
            <p:cNvSpPr/>
            <p:nvPr/>
          </p:nvSpPr>
          <p:spPr>
            <a:xfrm>
              <a:off x="4757760" y="1444680"/>
              <a:ext cx="18446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Пассивны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63%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9" name="Text Box 15"/>
          <p:cNvSpPr/>
          <p:nvPr/>
        </p:nvSpPr>
        <p:spPr>
          <a:xfrm>
            <a:off x="395280" y="3284640"/>
            <a:ext cx="3529080" cy="3448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ктивные нацелены на поиск работы. Их отличает серьезное, ответственное отношение к своему труду. Такие подростки реально оценивают свои возможности, знают на какую работу они могут рассчиты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558000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5148360" y="2924280"/>
            <a:ext cx="3744720" cy="4057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ассивные подростки не стремятся найти работу, даже если они очень нуждаются в деньгах. Для них лучше « на улице побегать, к подружкам сходить» Яркий пример отношения к труду- школьный лагерь. Свою работу учащиеся воспринимают , как отработку. По существу она им не нужн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Докумен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68360" y="1700280"/>
            <a:ext cx="8207280" cy="61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Заявл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огласие родителей на осуществление трудовой деятельности ребён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видетельство о рождении или паспо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правка о состоянии здоровья ( за счет работодателя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Трудовой до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На постоянную работу ( трудовая книж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труд2"/>
          <p:cNvPicPr/>
          <p:nvPr/>
        </p:nvPicPr>
        <p:blipFill>
          <a:blip r:embed="rId1"/>
          <a:stretch/>
        </p:blipFill>
        <p:spPr>
          <a:xfrm>
            <a:off x="0" y="0"/>
            <a:ext cx="3781440" cy="28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труд5"/>
          <p:cNvPicPr/>
          <p:nvPr/>
        </p:nvPicPr>
        <p:blipFill>
          <a:blip r:embed="rId2"/>
          <a:stretch/>
        </p:blipFill>
        <p:spPr>
          <a:xfrm>
            <a:off x="0" y="4265640"/>
            <a:ext cx="3240000" cy="2592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067280" y="549360"/>
            <a:ext cx="507672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ием на работу подростков 14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а не должна быть противопоказана здоровью несовершеннолетнег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а должна выполняться в свободное от учёбы врем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Согласие одного из родител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запрещено применять труд лиц моложе 18 лет на тяжёлых работах, на работах с вредными или опасными условиями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Привлекать к работе в ночное время и сверхурочной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е, в выходные и нерабочие д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8:41:46Z</dcterms:created>
  <dc:creator>Елена</dc:creator>
  <dc:description/>
  <dc:language>en-US</dc:language>
  <cp:lastModifiedBy>Тамара Андреевна</cp:lastModifiedBy>
  <dcterms:modified xsi:type="dcterms:W3CDTF">2008-10-15T05:08:16Z</dcterms:modified>
  <cp:revision>9</cp:revision>
  <dc:subject/>
  <dc:title>Слайд 1</dc:title>
</cp:coreProperties>
</file>