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EA7-56E6-4EC0-9BC2-A09BC589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DFF-DD2C-4E2B-9342-7C56907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D92-DB14-4571-8D68-2AFA4EBE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45C-2AE0-418F-8F5E-C491643A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B29D-F882-4573-80D1-302B7303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800E-06B9-4F7D-8ED8-EDB1777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859-4F9F-45FE-A3A6-6A35A218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9EC6-37D3-43E3-B883-7AC0290F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723-51D6-45FD-8C80-7AC1B62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E6C-B57D-4450-8FB4-5CC4364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A54E-0C2D-404C-AE69-2F482E4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189-A667-45E7-A669-306304C2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935-9953-4D4B-8C48-5395C19B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5ECD-E20B-4EFA-ABBC-D982264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FB5-55C8-4F60-A2D3-CB1C854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36A3-02B2-4141-AF1C-E435DD1A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CB2-EC87-44F2-8BE6-32D176BC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BBF-9C12-4593-B13F-D5B2D95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38D-3775-49D7-9FFC-9FB6639D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3E6-72CF-4C63-8E06-EF9FB7A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6EE-F8CC-407D-A489-C592A27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A3C-FF4C-4080-97EE-0E7164C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38E-8A0A-4388-A286-A11B80C7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675-27D3-4624-A804-CDBC88BC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F570-AAD2-41EA-91A4-72CB1C5C8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014-C9A0-4CD3-8D1B-2619212DB3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ой целью данной курсовой работы является получение небольшого числа ключевых (наиболее информативных) параметров, дающих объективную и точную картину финансового состояния банка, его прибылей и убытков, изменений в структуре активов и пассивов, в расчетах с дебиторами и кредиторам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уемый в Европе, базируется на выявлении банковских рисков, их оценке и эффективности управления и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е взаимоотношения Казахстана с другими странами продолжают носить долговой характер. За период с 2004 г. по 2007 г. и первое полугодие 2006 г. темпы роста внешних обя­зательств по сравнению с объемом на конец предыдущего года составляли 40%, 70%, 90% и 40% соответствен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онец 2007 года в стране действовало 35 банков второго уровня с суммарным собственным капиталом 1760,3  млрд. тенге, который увеличился за год на 46,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казатели адекватности собственного капитала банковского сектора по состоянию на 1 декабря 2007 года составили К1-0,11 (при нормативе-0,06)(для банка участником которого является банковский холдинг, норматив-0,05), К2-0,14 9при нормативе-0,12)(для банка, участником которого является банковский холдинг, норматив-0,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в, все показатели можно с уверенностью сказать, что все относительные показатели и их уровень показывают и характеризуют долгосрочную перспективу и хорошую тенденцию к дальнейшему развитию банковского сектора Республики Казахста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результатам 2007 года АО «Народный Банк Казахстана» сохранил лидирующие позиции среди трех банков по темпам роста привлеченных депозитов клиентов, в итоге, на конец года Банк вышел на первое место по объемам клиентских депози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финансовым состоянием понимается способность банка финансировать свою деятельность. Финансовое состояние - комплексное понятие. Оно характеризуется обеспеченностью финансовыми ресурсами, необходимыми для нормального функционирования банка, целесообразностью их  размещения и эффективностью использования, финансовыми взаимоотношениями с другими юридическими и физическими лицами, платежеспособностью и финансовой устойчив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034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8956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76880" y="-3546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8956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7688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76880" y="-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40520" y="954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2600" y="2017800"/>
          <a:ext cx="7637400" cy="4373640"/>
        </p:xfrm>
        <a:graphic>
          <a:graphicData uri="http://schemas.openxmlformats.org/drawingml/2006/table">
            <a:tbl>
              <a:tblPr/>
              <a:tblGrid>
                <a:gridCol w="4141800"/>
                <a:gridCol w="1087560"/>
                <a:gridCol w="2408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 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67 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тельст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1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й 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спределенный чистый до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3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активо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обязательств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собствен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прироста уставного капитала с начал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е активы ROA (&gt;1,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на средний собственный капитал RO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банка на финансовом рынке Казахстана, и определяя перспективные планы, можно с уверенностью говорить об оптимистичном прогнозе дальнейшего  развития АО «Народный Банк Казахстана» как одного из крупнейших банков страны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ей перспективой развития должно стать совершенствование методик анализа. Совершенствование методик анализа должно происходить на базе накопления опыта межбанковского кредитования у казахстанских банков.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следовать теоретические аспекты финансового анали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анализировать проблему финансовой деятельности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ить перспективы развития оценки финансового состояния ба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и укрепление института банковского аудита в Казахстане должно в дальнейшем сказаться на качестве отчетности и, соответственно, на дистанционном анализ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результате анализа работы АО «Народный банк» и его финансового состояния было выявлено, что банк является доходным и его финансовое положение устойчивым, т.к. результаты анализа показали увеличение почти всех показателей банк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ценивая текущее положение  банка на  финансовом рынке Казахстана, и определяя перспективные планы, можно с уверенностью говорить об оптимистическом прогнозе дальнейшего развития АО «Народный Банк Казахстана» как одного из крупнейших банков страны имеется в виду ближайшее будущее и долгосрочную перспектив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 направлением реализации выработанных стратегических задач должно стать повышение эффективности деятельности Банка за счет улучшения качества и доходности активов, активизация работы с проблемными кредитами, усиление диверсификации кредитного портфе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нансовый анализ направлен на изучение финансового состояния банка, использования его финансовых ресурсов. Надо определить, что представляет финансовое состояние банка, и каковы его характерные признаки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ежеспособность и финансовая устойчивость являются важнейшими  характеристиками финансово-экономической деятельности банка в условиях рыночной экономи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уальность темы: В условиях рыночной экономики многие традиционные взгляды, касающиеся изученности проблемы как рационально организовать финансовую деятельность банка для его дальнейшего процветания; как повысить эффективность управления финансовыми ресурсами; насколько правильно банк управляет финансовыми ресурсами в течение определенного периода, требует своего нового теоретического обосн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финансовую устойчивость банка влияет огромное многообразие факторов таких, как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ожение банка на  рынк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го потенциал в деловом сотрудничеств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зависимости от внешних кредиторов и инвес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личие неплатежеспособных дебитор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ффективность хозяйственных и финансовых операций и т.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 финансового состояния банка является составной частью общего финансового анализа. По мнению аналитиков, экспресс-анализ целесообразно выполнять в три этапа: подготовительный этап, предварительный обзор финансовой отчетности, экономическое чтение и анализ отчетн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овременных условиях банку, чтобы преодолеть проблемы и выжить необходимо, проявить инициативу, предприимчивость и бережливость для улучшения финансового состояния и для повышения эффективности производст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птуальный подход, использованный органами банковского надзора США при формировании комплексной оценки устойчивости банков, получивший название CAMELS основан н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ке и анализе совокупности факторов, влияющих на финансовое состояние банка   -   достаточности    капитала,    качества    активов,    ликвидности,    прибыльности, менеджмента, чувствительности к риск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и рейтинговой модели оце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артизации рейтингового процес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53:45Z</dcterms:created>
  <dc:creator>User</dc:creator>
  <dc:description/>
  <dc:language>en-US</dc:language>
  <cp:lastModifiedBy>User</cp:lastModifiedBy>
  <dcterms:modified xsi:type="dcterms:W3CDTF">2008-05-06T13:32:34Z</dcterms:modified>
  <cp:revision>2</cp:revision>
  <dc:subject/>
  <dc:title>Слайд 1</dc:title>
</cp:coreProperties>
</file>