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F19-1EB2-4ACE-9915-5652F445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A94-472C-486F-AB25-4BF6FEA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699-DFB2-4A17-9AC7-CEF2C384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C76-9191-4225-A8A6-E71C8C1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943-E9F2-46F7-B4FE-E9DE322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26D-CA70-4189-B1D0-315ED17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155-9850-4CEB-8F62-9669754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243-9F3E-4FF0-A42F-69B3A3D6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449-0032-4CFB-8157-EA86128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65E-4503-42C6-BF0F-007DA22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A7C-1BFD-41B2-982F-42D3563A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920-B90E-4EB5-A0E7-3EA97A3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7BD9-9615-4D36-A613-3A5C590B5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контро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из факторов и условий проведения валютных операций­ в России (на примере валютного фьючерса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:  Болотова Мария Фёдоровна Научный руководитель: к.э.н., доцент кафедры управления финансами Федорова Евгения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2340000" y="62064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й механизм осуществления операций с валютными фьюче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4328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2708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77164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64328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637236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838836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50920" y="3573360"/>
            <a:ext cx="158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050920" y="3573360"/>
            <a:ext cx="1584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ая и закрытая 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995640" y="3573360"/>
            <a:ext cx="13683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рсы валют по открытой и закрытой поз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508720" y="3573360"/>
            <a:ext cx="158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цион-ная ма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7236000" y="3500280"/>
            <a:ext cx="1728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и торговли валютными фьюче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чные контракт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срочных контр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чный контра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договор на поставку конкретного актива в установленный срок в будущем на согласованных услов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Organization Chart 6"/>
          <p:cNvGrpSpPr/>
          <p:nvPr/>
        </p:nvGrpSpPr>
        <p:grpSpPr>
          <a:xfrm>
            <a:off x="431640" y="2924280"/>
            <a:ext cx="8208360" cy="3124800"/>
            <a:chOff x="431640" y="2924280"/>
            <a:chExt cx="8208360" cy="3124800"/>
          </a:xfrm>
        </p:grpSpPr>
        <p:cxnSp>
          <p:nvCxnSpPr>
            <p:cNvPr id="153" name="_s2052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659560" y="3049560"/>
              <a:ext cx="625680" cy="287352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053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224600" y="4484520"/>
              <a:ext cx="625680" cy="360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2054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786400" y="3049920"/>
              <a:ext cx="625680" cy="287352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055"/>
            <p:cNvSpPr/>
            <p:nvPr/>
          </p:nvSpPr>
          <p:spPr>
            <a:xfrm>
              <a:off x="3130560" y="2924280"/>
              <a:ext cx="281016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рочные контрак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43164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ьюче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7"/>
            <p:cNvSpPr/>
            <p:nvPr/>
          </p:nvSpPr>
          <p:spPr>
            <a:xfrm>
              <a:off x="330444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рвар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8"/>
            <p:cNvSpPr/>
            <p:nvPr/>
          </p:nvSpPr>
          <p:spPr>
            <a:xfrm>
              <a:off x="617760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пци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и условия проведения валютных операций в России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16000" y="1557360"/>
            <a:ext cx="2592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й валютный рын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76720" y="1557360"/>
            <a:ext cx="2590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рынки иностранн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68360" y="3141720"/>
            <a:ext cx="410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ы и условия проведения валют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50072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370800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1763640" y="2707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763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637236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77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500720" y="4365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826920" y="4724280"/>
            <a:ext cx="75614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оры и условия проведения валютных операций как в Росси так и за рубежом весьма схожи и имеют непосредственную связь друг с другом. Условия, формирующиеся под воздействием различных факторов оказывают большое влияние на валютные ры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ы и перспективы развития фьючерсных операци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68360" y="1052640"/>
            <a:ext cx="3887640" cy="515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волатильности (неустойчивости) и структуре операций по различным валютным парам и категориям участни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ляция, спрос на валюты, новостная политика ст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 либерализации валютного рын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и с разработкой системы гарантийных взнос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ы по лимитам открытой валютной позиции для бан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932360" y="1052640"/>
            <a:ext cx="3887640" cy="535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реход России от биржевого валютного рынка к внебиржево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реализация наиболее оптимальных стратегий управления риском изменения обменных курс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ширение границ возможных валютных операций путём введения новых видов валютных фьючерс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троль и своевременное воздействие Правительства и Центрального Банка на валютный рынок будет содействовать развитию валютных фьючерс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68360" y="981000"/>
            <a:ext cx="828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мер по переориентации российского валютного рынка с биржевого на внебирж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новых фьючерсов позволит реализовывать наиболее оптимальные стратегии управления риском изменения обменных курсов. Появление контрактов на евро/доллар и евро/рубль позволит полностью хеджировать риски изменения курсовой стоимости рубля по отношению к основным валю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задача - создание в России Международного финансового центра и становление Рубля в качестве валюты международных расчё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ы доработки в системе гарантийных взносов, предоставление участникам возможности проводить сделки без 100% депонирования средств на своём счё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это позволит увеличить объёмы операций по валютным фьюче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иду сложной экономической обстановки царящей в мире на данном этапе времени, анализ факторов и условий проведения валютных операций представляется весьма актуальным. Существует необходимость прогнозирования проблем и перспектив развития валютных фьючерсных операций в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исследова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сти анализ факторов и условий проведения валютных операций в России (на примере валютного фьючер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 исследова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особенности российской классификации валютных операц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сущность, назначение, виды и механизм валютного фьючер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сравнительный анализ фьючерса с другими видами срочных контрак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сравнительный анализ факторов и условий проведения валютных операций в России и за рубеж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проблемы и перспективы развития фьючерсных операци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ые основы проведения   валютных операций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и с иностранной валютой совершаются соглас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кону «О валютном регулировании и валютном контроле» от 10 декабря 2003 года N 173-ФЗ, - указам Презид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З № 39 от 22. апреля 1996 (ред. от 27.12.2009) “О рынке ценных бумаг” (принят ГД ФС РФ 20.03.1996), (с изм. и доп., вступающими в силу с 01. 01. 201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тановлениям Правитель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ормативным документам Центрального Банка и Министерства финансов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 и классификация валютных оп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12"/>
          <p:cNvGrpSpPr/>
          <p:nvPr/>
        </p:nvGrpSpPr>
        <p:grpSpPr>
          <a:xfrm>
            <a:off x="3419640" y="1413000"/>
            <a:ext cx="2231640" cy="430200"/>
            <a:chOff x="3419640" y="1413000"/>
            <a:chExt cx="2231640" cy="430200"/>
          </a:xfrm>
        </p:grpSpPr>
        <p:sp>
          <p:nvSpPr>
            <p:cNvPr id="54" name="_s1028"/>
            <p:cNvSpPr/>
            <p:nvPr/>
          </p:nvSpPr>
          <p:spPr>
            <a:xfrm>
              <a:off x="3419640" y="1413000"/>
              <a:ext cx="2231640" cy="43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алютные оп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26"/>
          <p:cNvSpPr/>
          <p:nvPr/>
        </p:nvSpPr>
        <p:spPr>
          <a:xfrm flipH="1">
            <a:off x="2916000" y="1844640"/>
            <a:ext cx="1150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4932360" y="184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24000" y="1989000"/>
            <a:ext cx="30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ущие валютны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4211640" y="1989000"/>
            <a:ext cx="453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ции, связанные с движением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619280" y="2349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324000" y="2492280"/>
            <a:ext cx="31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версионны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82692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179280" y="2997360"/>
            <a:ext cx="107964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ка т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DA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>
            <a:off x="205092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161928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1403280" y="2997360"/>
            <a:ext cx="144000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ка тип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TOMORROW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8"/>
          <p:cNvSpPr/>
          <p:nvPr/>
        </p:nvSpPr>
        <p:spPr>
          <a:xfrm>
            <a:off x="3276720" y="285264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2987640" y="2997360"/>
            <a:ext cx="1297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ции типа СП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>
            <a:off x="4284720" y="328464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4572000" y="2781360"/>
            <a:ext cx="1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4572000" y="278136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4788000" y="2565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в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>
            <a:off x="4572000" y="350028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6"/>
          <p:cNvSpPr/>
          <p:nvPr/>
        </p:nvSpPr>
        <p:spPr>
          <a:xfrm>
            <a:off x="4788000" y="3213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ьюче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>
            <a:off x="4572000" y="4149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8"/>
          <p:cNvSpPr/>
          <p:nvPr/>
        </p:nvSpPr>
        <p:spPr>
          <a:xfrm>
            <a:off x="4788000" y="3860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ц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>
            <a:off x="4572000" y="4653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4788000" y="4437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 и назначение валютного фьюче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03640" y="1413000"/>
            <a:ext cx="352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лютный фьюч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050560" y="1916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924360" y="1916280"/>
            <a:ext cx="13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55640" y="2276640"/>
            <a:ext cx="201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059280" y="2276640"/>
            <a:ext cx="28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55640" y="2781360"/>
            <a:ext cx="201600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ьючерсные контракты представляют собой соглашения, которыми торгуют на бирже. Это стандартные контракты. Валютный фьючерс не является ценной бумаго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9280" y="2781360"/>
            <a:ext cx="2881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назначены для покупки или продажи стандартного количества валюты с указанием числа (даты) и цены, установленной двумя сторонами. Передача оговариваемой валюты новому владельцу происходит в установленном месте и в установлен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5940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227640" y="400536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7020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7164360" y="3357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7164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7164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716436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7451640" y="2637000"/>
            <a:ext cx="1513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ьная покупка и продажа иностранной валю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7451640" y="443700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к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7380360" y="501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 механизм валютного фьюче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58920" y="907920"/>
            <a:ext cx="2449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лютный фьюче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1618920" y="141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627280" y="1413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1557360"/>
            <a:ext cx="1655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окуп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484360" y="1557360"/>
            <a:ext cx="151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332000" y="2924280"/>
            <a:ext cx="2735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оведения валютных фьючерсных операций предполагает рассмотрение мех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067280" y="2420640"/>
            <a:ext cx="1152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067280" y="39337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219640" y="2276640"/>
            <a:ext cx="2665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й мех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219640" y="4437000"/>
            <a:ext cx="288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ый мех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й механизм проведения операций с валютными фьюче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20628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2062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3"/>
          <p:cNvSpPr/>
          <p:nvPr/>
        </p:nvSpPr>
        <p:spPr>
          <a:xfrm>
            <a:off x="20628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20628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00360" y="1600200"/>
          <a:ext cx="3672000" cy="38880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ных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Line 100"/>
          <p:cNvSpPr/>
          <p:nvPr/>
        </p:nvSpPr>
        <p:spPr>
          <a:xfrm>
            <a:off x="4140360" y="23493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2"/>
          <p:cNvSpPr/>
          <p:nvPr/>
        </p:nvSpPr>
        <p:spPr>
          <a:xfrm>
            <a:off x="2268360" y="2349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9"/>
          <p:cNvSpPr/>
          <p:nvPr/>
        </p:nvSpPr>
        <p:spPr>
          <a:xfrm>
            <a:off x="6877080" y="2276640"/>
            <a:ext cx="0" cy="26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1"/>
          <p:cNvSpPr/>
          <p:nvPr/>
        </p:nvSpPr>
        <p:spPr>
          <a:xfrm>
            <a:off x="2268360" y="2349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V="1">
            <a:off x="6588000" y="2276640"/>
            <a:ext cx="2890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3"/>
          <p:cNvSpPr/>
          <p:nvPr/>
        </p:nvSpPr>
        <p:spPr>
          <a:xfrm>
            <a:off x="2181240" y="2041560"/>
            <a:ext cx="190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5"/>
          <p:cNvSpPr/>
          <p:nvPr/>
        </p:nvSpPr>
        <p:spPr>
          <a:xfrm>
            <a:off x="2181240" y="2041560"/>
            <a:ext cx="83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7"/>
          <p:cNvSpPr/>
          <p:nvPr/>
        </p:nvSpPr>
        <p:spPr>
          <a:xfrm>
            <a:off x="2181240" y="204156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8"/>
          <p:cNvSpPr/>
          <p:nvPr/>
        </p:nvSpPr>
        <p:spPr>
          <a:xfrm>
            <a:off x="2556000" y="22050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уп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9"/>
          <p:cNvSpPr/>
          <p:nvPr/>
        </p:nvSpPr>
        <p:spPr>
          <a:xfrm>
            <a:off x="5003640" y="2133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ав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0"/>
          <p:cNvSpPr/>
          <p:nvPr/>
        </p:nvSpPr>
        <p:spPr>
          <a:xfrm flipH="1">
            <a:off x="3347640" y="1989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1"/>
          <p:cNvSpPr/>
          <p:nvPr/>
        </p:nvSpPr>
        <p:spPr>
          <a:xfrm>
            <a:off x="5148360" y="198900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3"/>
          <p:cNvSpPr/>
          <p:nvPr/>
        </p:nvSpPr>
        <p:spPr>
          <a:xfrm>
            <a:off x="2556000" y="278136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4"/>
          <p:cNvSpPr/>
          <p:nvPr/>
        </p:nvSpPr>
        <p:spPr>
          <a:xfrm>
            <a:off x="2627280" y="2781360"/>
            <a:ext cx="4032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иржевая клиринговая па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в состав входят расчётные фирмы через которые продавцы и покупатели выходят на ры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5"/>
          <p:cNvSpPr/>
          <p:nvPr/>
        </p:nvSpPr>
        <p:spPr>
          <a:xfrm>
            <a:off x="3419640" y="256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6"/>
          <p:cNvSpPr/>
          <p:nvPr/>
        </p:nvSpPr>
        <p:spPr>
          <a:xfrm flipH="1">
            <a:off x="5148000" y="2492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7"/>
          <p:cNvSpPr/>
          <p:nvPr/>
        </p:nvSpPr>
        <p:spPr>
          <a:xfrm>
            <a:off x="4140360" y="4076640"/>
            <a:ext cx="115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8"/>
          <p:cNvSpPr/>
          <p:nvPr/>
        </p:nvSpPr>
        <p:spPr>
          <a:xfrm>
            <a:off x="471636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9"/>
          <p:cNvSpPr/>
          <p:nvPr/>
        </p:nvSpPr>
        <p:spPr>
          <a:xfrm>
            <a:off x="2268360" y="49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1"/>
          <p:cNvSpPr/>
          <p:nvPr/>
        </p:nvSpPr>
        <p:spPr>
          <a:xfrm flipV="1">
            <a:off x="6516720" y="494136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2"/>
          <p:cNvSpPr/>
          <p:nvPr/>
        </p:nvSpPr>
        <p:spPr>
          <a:xfrm>
            <a:off x="2700360" y="4653000"/>
            <a:ext cx="381636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а банков (в неё  входят коммерческие банк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3"/>
          <p:cNvSpPr/>
          <p:nvPr/>
        </p:nvSpPr>
        <p:spPr>
          <a:xfrm>
            <a:off x="4716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7:40:45Z</dcterms:created>
  <dc:creator>User</dc:creator>
  <dc:description/>
  <dc:language>en-US</dc:language>
  <cp:lastModifiedBy>Максим</cp:lastModifiedBy>
  <dcterms:modified xsi:type="dcterms:W3CDTF">2011-03-29T14:34:32Z</dcterms:modified>
  <cp:revision>8</cp:revision>
  <dc:subject/>
  <dc:title>Тема контрольной работы</dc:title>
</cp:coreProperties>
</file>