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2.xml.rels" ContentType="application/vnd.openxmlformats-package.relationships+xml"/>
  <Override PartName="/ppt/notesSlides/notesSlide8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12.jpeg" ContentType="image/jpeg"/>
  <Override PartName="/ppt/media/image3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5.jpeg" ContentType="image/jpeg"/>
  <Override PartName="/ppt/media/image18.wmf" ContentType="image/x-wmf"/>
  <Override PartName="/ppt/media/image2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65.png" ContentType="image/png"/>
  <Override PartName="/ppt/media/image48.png" ContentType="image/png"/>
  <Override PartName="/ppt/media/image58.png" ContentType="image/png"/>
  <Override PartName="/ppt/media/image19.wmf" ContentType="image/x-wmf"/>
  <Override PartName="/ppt/media/image60.png" ContentType="image/png"/>
  <Override PartName="/ppt/media/image64.png" ContentType="image/png"/>
  <Override PartName="/ppt/media/image21.wmf" ContentType="image/x-wmf"/>
  <Override PartName="/ppt/media/image62.png" ContentType="image/png"/>
  <Override PartName="/ppt/media/image23.wmf" ContentType="image/x-wmf"/>
  <Override PartName="/ppt/media/image25.png" ContentType="image/png"/>
  <Override PartName="/ppt/media/image11.jpeg" ContentType="image/jpeg"/>
  <Override PartName="/ppt/media/image24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1.png" ContentType="image/png"/>
  <Override PartName="/ppt/media/image27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dt" idx="4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 type="sldNum" idx="4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58DF-2C19-4A8D-B54A-052DB2AEF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rgar una calificación que indique el desempeño financiero y posibles riesgos que enfrenta en un mediano pla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mostrar la solidez de IMFs a los bancos e inversionistas para la consecución de recursos en el mercado financiero y de capi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ablecer indicadores y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benchmark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ara un mejor conocimiento y administración más efectiva de las institu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923-BEC2-49BC-BDDD-FFABAAFE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064-6AA4-4380-9801-3FA97053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46723-44CB-41F1-9E26-535FCA4B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8DFBB-59A4-4F9A-A2CC-2B110617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C3451-5C04-4245-9C73-120DA013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1F9D8-B242-41AD-8851-4E538942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98A71-5AA3-4CD1-9D16-91332929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61CF3-A0A2-4710-9D2E-9D2A8C2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33A4F-16B7-49EA-B4CE-58A73248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9378E-B504-45E6-B342-73C6053F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56CCA-662B-4980-B8B8-65FD2414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EA8B3-4DC4-4ADE-829C-5134B34A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09F-765A-4360-BFEF-B1F5116E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F1AC4-2DFD-48BD-B507-C3F42F75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012D6-5745-4146-8A61-1689D5BA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426B5-79C0-454E-AC36-2EC9262F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A0B82-FF4C-477C-BFBA-FEDB2311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BD345-F6B8-4CE6-ADDC-6368C4CC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AC46A-6726-4B78-9F23-DEAC0928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1BAD4-3AC3-474B-8F91-8C0FB097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ABC47-ED6A-4279-8938-7D063E0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F4040-DCC4-4C92-B589-1404270F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E36B4-4BED-40BB-A043-5405CDB2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3D1-908C-435B-B46A-835CE23D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03A20-4DC8-4F47-9411-EE961399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E344-3308-4D5C-B095-5A36E7F1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7A33-D334-4618-B145-82EB9507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3EC5A-3B38-4E4C-B3F3-2CD55A1F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89C5A-A135-48DB-8DBE-D29C8C16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6CF00-B757-46AD-9329-13B148CC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E3DD7-F2ED-40E0-96AD-624FEBFA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A3C80-81CA-4AD2-A581-21A3963A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6D75-8EF4-46B3-9886-EF8C07D5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E7FEB-3FCE-4A8B-9C5B-CF93C91F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CF97D-44F6-4E20-B7C8-A2F61D27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7927F-0530-457F-ADF1-B5249FC8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927D5-E0D3-4971-A78C-C72F1383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D517D-B285-439D-A1F3-2A913886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55A9A-37EA-4570-B5A9-423E4397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3FD80-06B8-4233-946F-0D1940A5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CB4F03-449A-4D85-A659-3616B493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F193CD-2CDA-4198-90CB-3F04482D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2B185D-6125-4C4B-A6D1-09F6CCF4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D5F0-A58C-4073-BCCF-691A6632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C76DBC-46F1-494C-BD63-764A020E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1FE8FC-3B8A-46E4-BF98-ECF4B3A7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22710C-7763-44AD-AFF5-5AA7373B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0D8D0D-518C-401B-9B34-74AACEF3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DF3A08-B073-4ADA-A1A3-DCBEA1F4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A5D8D2-F9B1-47FB-B7B5-884D67E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CF1FCD-BD72-4457-8FF3-FDE060AA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A07ED6-F4AB-4C7B-A410-646B5D6E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AEE3CF-E802-4C8E-ADD5-503683E5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2BFBB3-FC23-46F2-A952-A23318FC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E86A-7C37-4940-A747-11BDC5D9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A23ABC-C43E-4D19-9132-91F36D3B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05B276-3FAB-46C2-B331-2E74350F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AE5F08-B707-42FC-80C0-FAB7645B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048537-BA70-4CE3-A748-17B21C22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687EAA-5EF6-4867-A24F-1F1D4212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07E65A-A50A-4CA5-808E-2243274C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1565B5-5C4B-4756-BFE8-E09CA918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86CC31-878D-4F45-9667-B2432128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AC84BB-60CD-428A-BBFC-F91379D9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D06BA8-C2E8-4AD9-91B8-C1C01AC9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A9C6-558A-4C35-9242-EC74985E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E07D8D-A23F-4114-BE34-E9109FE2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01C22-D5B7-45BD-A908-CC9D2D48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05562-8896-4BBC-828A-6749D165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022D08-A94F-4FC0-9F1C-BC17159B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29871-44E1-47AD-BF31-D00D8313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CD153-B261-43A2-A436-E61FE977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90C81-FBC2-4442-87F8-99C21EC5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B9F58-1409-4E22-9BF6-E41788C8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4E127-068C-402F-8C58-8464667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DF51E-EE4A-42C6-9E70-80D97666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AD74-74C2-4F86-A389-2BEBF940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AB98E-FB52-4E2A-B9C0-4075B664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7D325-3CD5-4F6C-A38A-F905518E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66722-1C7D-4949-956F-0CB912FF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418-DE01-4996-B93C-487A21CC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F009-7D9B-4A34-8BC5-A4D3BB1F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F677-1CB1-4D25-ADD4-4BA8EAB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B6BC-6D74-41AC-8573-9D23C78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B349-F5A8-436C-85AB-DC87BA03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37AE-DC8C-453B-ABC6-6A3D7FB4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1568-6A91-4EE9-9064-B88DB446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CED2-7E3D-4623-9BFE-C891B595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7013-D96C-472D-B0EA-21F2198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CB3F-BA28-4FC2-92F9-0F6FB8C5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C91D-BBC4-4142-9E05-2180CFB0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004-BC2F-40D4-B2D8-59230BDD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EE33A-81F0-4891-9061-85BDE761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3335-304D-46BF-AC54-6E241BD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088E-47DA-4E7E-950C-4C025780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763F-61DE-4701-8998-129D4F7A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770B-B522-4837-82FA-15425BDA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D883-1B3A-4AD1-AFBC-830B230E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2D59-E569-4699-B5C7-847CAB59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26B61-9E03-4D7A-98F7-95EAF4F4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86642-94AD-4FBE-B595-F1D045CF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F30D-6581-4B64-B9CF-D5EA82D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6C2-0CA6-4529-A0E7-95075E2A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DFF5-C5F2-431B-85D5-E97C830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542C-C698-4687-86EC-0F67BF5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7E431-2428-4336-909A-66775FEB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3FFB4-A05B-416F-91F3-22B66AB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42D2-685C-403F-A987-EADEDE0E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7557-BF4E-459C-ABBD-54D17AC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7504-AF15-4CAD-8691-7AA7FD7A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951F-974D-419F-9BE0-FFE1AC6D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5226-D420-49CB-BF00-FD4F93F1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C0A8D-F891-4AF0-9707-7359D528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D18-3F0C-4794-BA81-6C102125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F944-ABF6-4D67-B90C-BA88F74E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F346C-3473-4153-BEDD-078928D3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C70D-0EF7-456C-A5CF-9F69671B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66E1C-EDEC-44EF-BB76-3B3984CB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EF4D-883D-4148-914E-3F51B8BE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6BDD-BD56-4439-94B2-6ECC4D2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7CB38-7EBD-4A79-A54D-6E7E82E3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7442-39B3-42D9-8B36-F6E89C51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FB02F-6430-4A10-B051-E8D2830A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8D596-2476-4F18-8214-35D72C1A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365-D78D-4198-965A-8DF68F0C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2B08B-48C3-45A4-AE1D-77CA06AA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F3FF-A475-4BD3-B28E-C45096DD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20C8E-97F2-4930-A978-656574CA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7EB7-D28C-47A3-9749-5D96352E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49EDA-4C78-4864-9656-A0639100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F7AE0-BFAD-455D-B550-903C4C82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AD1F6-CA23-4061-BF97-960BD0E0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09ED-7AEA-49DC-841A-BD108610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DF7F2-39C4-4BA8-A4DA-9E57B02E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54C2D-768B-4D92-9C30-A65EDC1F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F95-6B9F-4564-B42D-39AC503C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C2D96-E47D-47B6-AA20-92DE35F0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AB9F-7AAD-4A9D-80D8-9550B60E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7C90C-25D0-4530-B8A2-BBC78FC1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43CA0-C6EE-490F-8967-E4939ECE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A4A4D-8BE5-4DF7-8983-83DC2B14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7D55-E386-49E5-A3A4-8C1BB084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7C5B-CD4A-4A4D-AAC9-B25AA57B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338A2-D20D-4BE0-8F17-46906B3C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109A9-B634-444C-9C1A-1E7E9406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DC4ED-8AD8-4004-8FB1-88CC12B0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18F-99B7-4E6C-AFAC-1FC59F8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18FA3-2BEC-45E0-942B-82A5E9FC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D16E2-A77E-4F4F-988D-C32FF31C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07C6-8645-4D47-9CA2-ECD9BDB0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20C2F-1A0E-4988-800C-53B2F374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81ECB-745B-4A54-A677-C88B52E7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55E53-3DEB-4A51-8208-865F8447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2F364-728F-40D3-928D-8C5AB927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5E7B-B954-4A10-B917-C94C11EE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CB819-84C7-4167-BE34-07F24951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364C4-F0B9-4D83-BD20-B17BF834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C0D-A698-4F85-AB14-36EB732F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D219C-F9AD-4B64-A129-1D2C0072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FD9E6-3AB9-4D1F-A32C-816ACE00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B8CDB-FBF0-4E94-971C-EEACC66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2A886-0F01-408B-966E-8B8ED4DA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020EA-6719-49D1-9BD8-A74AFE5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375FA-0065-4B60-BA15-F1432E88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81A11-B1BB-4637-BFBE-DBD980B7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6586C-9D0A-4D85-A944-B85FB718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D9952-85AC-43BA-BF3C-62DF6407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DEB6B-AFC1-4E9D-84FC-DB0A5024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5535-5D5B-40BA-BBCE-0E4F5152D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30C4-DF03-439B-96C3-9BA4F3E638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7499520" y="768240"/>
            <a:ext cx="1644480" cy="45108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0" y="6340320"/>
            <a:ext cx="9144000" cy="5176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0" y="63388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342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11760" cy="26179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0" y="2438280"/>
            <a:ext cx="9144000" cy="3049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0" y="6340320"/>
            <a:ext cx="9144000" cy="517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0" y="63388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9921-C1D8-471D-8AFE-EFBBC6CE5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7983-D098-4DB8-BA9B-10E3D729E5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6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D532-7CE5-4E4E-81B1-CE4B301597C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3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8F35-8978-4F2B-8284-A0775005282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C9D7-AA86-4697-8669-BAA90463D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BADC-66B5-42F7-829E-113A14F819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3DD8-E535-4E31-8BB8-4429122B944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77D1-2401-412A-B781-E56FB5C64A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E77E-D591-453F-8BEE-1E4A6C5739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C533-9B79-4948-911A-49D4ACF3ED9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3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6AC7-AD3E-4EF1-904F-C7179E633D1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2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FA9C-061A-4048-85F3-076D730047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2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2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2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2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2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2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2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2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2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2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2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2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2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2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4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2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2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2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2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2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2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2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2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2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2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ейтинговая оценка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   деятельности коммерческих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                бан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окладчи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лаенков Евгений Павлович, ф 41 груп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52ae"/>
                </a:solidFill>
                <a:latin typeface="Times New Roman"/>
              </a:rPr>
              <a:t>И ещё один вид рейтинг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38280" y="1295280"/>
            <a:ext cx="64515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 Индивидуальные рейтинги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(присваиваются международным рейтинговым агентством «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Fitch IBCA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»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Индивидуальный рейтинг является индикатором воз­можности самого финансового посредника «погло­тить» ряд возникших в процессе его деятельности финансовых и банковских рисков. Основными инди­каторами, на базе которых эксперты рейтингового агентства принимают решение о присвоении соответ­ствующего рейтинга, являются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рибыльность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олнота, достоверность и оперативность баланса финансовой организации, включая уровень капитализаци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наличие/отсутствие каких-либо льгот со стороны государственных или регулирующих органов или уч­реждений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качество менеджмента, включая степень прора­ботки стратегии, политики и тактики деятельности в статике, динамике и с элементами прогноза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оперативная внутренняя и внешняя среда осуще­ствления деятельност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оследовательность, логичность управления капи­талом финансовой организации, в том числе его ди­версификация по географическим и функциональным направлениям деятельности финансового учреждения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Из каких коэффициентов состоит математическая модел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достаточности капитала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ликвидности КБ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рентабельности Коэффициента качества активов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качества пассив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Arial"/>
              </a:rPr>
              <a:t>Процедура присвоения рейтинг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286000" y="1371600"/>
            <a:ext cx="6680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784440"/>
            <a:ext cx="6858000" cy="6665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Этапы типовой процедуры присвоения рейтинг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. Запрос на присвоение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2.  Формирование аналитической группы рейтинговым агентство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3.  Запрос у эмитента базового комплекта документов и информац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4.  Предоставление эмитентом базового комплекта документов (рейтинговой книги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5.  Проведение предварительного исследования эмитен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6.  Подготовка встречи с руководством эмитента. Дополнитель­ный перечень тем для обсуждени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7.   Встреча аналитической группы с руководством эмитен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8.   Подготовка отчета аналитической группы для рейтингового комите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9.  Рассмотрение результатов анализа на рейтинговом комитете и присвоение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0.  Уведомление эмитента о рейтинге; согласование и определе­ние статуса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1.   Публикация рейтинга или инициализация процедуры апелляц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2.  Наблюдение за рейтингом. Организация и проведение еже­годной встречи с эмитенто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0" y="738000"/>
            <a:ext cx="6858000" cy="4940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9900"/>
                </a:solidFill>
                <a:latin typeface="Tahoma"/>
              </a:rPr>
              <a:t>При получении от эмитента запроса на присвоение рейтин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йтинговое агентство формирует аналитическую группу, состоящую из аналитиков, обладающих знаниями в соответствующих областях биз­неса. В этой группе назначается ведущий аналитик, который руководит процессом и служит главным контактным лицом для эмит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очной официальной встречей группа анализирует финансовую отчетность за предшествующие периоды, прогнозы финансовых показателей и денежных потоков, документацию по сделкам, юридические заключения и прочие данные, которые имеют отношение к предме­ту. При этом рейтинговое агентство не осуществляет дополнительной аудиторской проверки предоставляемой эмитентом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Динамика суверенных рейтингов Росс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914400" y="923760"/>
            <a:ext cx="8229600" cy="593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Характеристики деятельности международных рейтинговых агентств в Росс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362320" y="3225960"/>
            <a:ext cx="6781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Классификация рейтингов агентства </a:t>
            </a:r>
            <a:r>
              <a:rPr b="0" i="1" lang="en-US" sz="3200" spc="-1" strike="noStrike">
                <a:solidFill>
                  <a:srgbClr val="990033"/>
                </a:solidFill>
                <a:latin typeface="Arial"/>
              </a:rPr>
              <a:t>Moody'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372600" cy="669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Tahoma"/>
              </a:rPr>
              <a:t>Шкала рейтингов агентства «Рус-Рейтинг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0" y="1219320"/>
          <a:ext cx="9372240" cy="6171840"/>
        </p:xfrm>
        <a:graphic>
          <a:graphicData uri="http://schemas.openxmlformats.org/drawingml/2006/table">
            <a:tbl>
              <a:tblPr/>
              <a:tblGrid>
                <a:gridCol w="1874160"/>
                <a:gridCol w="7498080"/>
              </a:tblGrid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В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равнительно высокая степень кредитоспособ­ности. Финансовое со­стояние оценивается как устойчивое и стабильное в среднесрочной перс­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редняя степень креди­тоспособности. Финансо­вое состояние оценивает­ся как удовлетворитель­ное и стабильное в крат­косрочной перс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тепень кредитоспособ­ности незначительно ниже средней. Основные пока­затели финансового со­стояния оцениваются как удовлетворительные и ста­бильные в краткосрочной перс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С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тепень кредитоспособ­ности ниже средней. Ос­новные показатели финан­сового состояния оценива­ются как удовлетворитель­ные, но их стабильность со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изкая степень креди­тоспособности. Основные показатели финансового состояния оцениваются как близкие к удовлетво­рительным, но их стабиль­ность со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едопустимо низкая сте­пень кредитоспособности. Финансовое состояние оценивается как неудов­летворительное или близ­кое к удовлетворительно­му, но его стабильность со­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изшая степень оценки кредитоспособности. Фи­нансовое состояние оце­нивается как стабильно неудовлетворительное (близкое к дефолту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ейтинг аннулирован по требованию бан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1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Кредитный спрэд для каждого уровня рейтинга </a:t>
            </a:r>
            <a:r>
              <a:rPr b="1" i="1" lang="en-US" sz="2400" spc="-1" strike="noStrike">
                <a:solidFill>
                  <a:srgbClr val="660033"/>
                </a:solidFill>
                <a:latin typeface="Times New Roman"/>
              </a:rPr>
              <a:t>RusRating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 в 2004 - 2007 гг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2"/>
          <a:stretch/>
        </p:blipFill>
        <p:spPr>
          <a:xfrm>
            <a:off x="2286000" y="1233360"/>
            <a:ext cx="6858000" cy="5624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-9907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Формирование в России рейтинговой систем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0" y="614880"/>
            <a:ext cx="9144000" cy="5796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 сегодняшний день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наиболее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звитым сектором рейтинговых продукто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является сектор банковских рейтингов. Это объясняется не только большей регламентированностью деятельности, но и относительной доступностью и прозрачностью отчетности кредитных учреждений, острым общественным интересом, порожденным возрастающим разнообразием предлагаемых банковских продуктов и услуг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временная банковская система Росси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одна из самых молодых. По сути дела, она насчитывает всего 15 лет. Поэтому практика рейтингования банков также относительно невелика. Естественно, первые рэнкинги были ориентированы на представление хотя бы какой-то инфор­мации для возникающего бизнеса и клиентов, которые привыкли до это­го иметь дело лишь с четырьмя государственными банками, когда проблемы выбора не существовало как таковой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опрос создания банковских рейтинго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иобрел актуальность к середине 1990-х гг., когда конкуренция между банками приобрела реальные очертания, а бизнесу потребовались четкие ориентиры при выборе обслуживающих банков. В 1995-1998 гг. рейтинговые услуги были представлены на рынке уже тремя-четырьмя агентствами. По­степенно на российском рынке стали появляться крупнейшие запад­ные компании, одна из них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успела открыть пред­ставительство в России, другая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mpson Bank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 Watch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пыталась активно у нас работать, но после кризиса была поглощена крупной международной компанией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tch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BCA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При этом неадекватность оценок во время кризиса в России и развивающихся странах стала одной из причин такого поглощени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Что такое кредитный рейтинг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430360" y="1523880"/>
            <a:ext cx="65358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362320" y="1193400"/>
            <a:ext cx="7010280" cy="570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едитные рейтинг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самые распространенные и широко используемые. Они присваиваются всеми ведущими международными рейтинговыми агентства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едитный рейтинг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это мнение экспертов агентств относительно общей кредитоспособности заемщика или кредитоспособности заемщика в отношении конкретных долговых обязательств, основанное на анализе достаточно стандартизованных факто­ров рис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едитные рейтинги бываю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лгосрочным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т­косрочны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ваиваются по международной или по национальной шкал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едитный рейтин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дставляет собой информацию, которую инвесторы могут использовать при совершении операций с финансо­выми инструментами и ценными бумагами. Долго- и краткосрочные кредитные рейтинги присваиваются на суверенном, субсуверенном уровнях, а также финансовым и нефинансовым экономическим субъектам в национальной и иностранной валюта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анковские рейтинговые продукты в России до кризиса 1998г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91540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рейтинговые продукты для бан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839080" cy="62485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2"/>
          <a:stretch/>
        </p:blipFill>
        <p:spPr>
          <a:xfrm>
            <a:off x="-26676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екоторые достижения.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2638440"/>
            <a:ext cx="7924680" cy="1739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том 2004г. британский журнал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Bank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опубликовал оче­редной рейтинг 1000 крупнейших банков мира. Банки в этом списке ранжированы по величине капитала. Американские и российские банки демонстрируют рост. Большинство новых участников списка - из России и США. И все это - несмотря на снижение темпов мирово­го экономического рос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Заключение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"/>
              </a:rPr>
              <a:t>Рейтинги стран, региональных и муниципальных образований, субъектов финансового сектора экономики, нефинансовых организаций и предприятий стали важным информационным средством установления и поддержания деловых отношений в рамках хозяйственной деятельности и регулирования делового общения. Многообразие субъектов  и отношений между ними потребовало создания комплекса понятных, достаточно прозрачных и общепризнанных шкал, который позволил бы оценить финансовую устойчивость институциональных единиц в статике, динамике и с элементами прогноза. Подходы к этой проблемы породили разнообразие методик рейтинговых оценок, которые представляют на рынок рейтинговые агентства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4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ополнительная информация!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63060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спределение банковских рейтинго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тория и прогноз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88920" y="1608120"/>
          <a:ext cx="896616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608120"/>
                    <a:ext cx="896616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 flipV="1">
            <a:off x="4800600" y="3200040"/>
            <a:ext cx="1676520" cy="1260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181480" y="3632040"/>
            <a:ext cx="1676520" cy="129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5511960" y="4127400"/>
            <a:ext cx="1676160" cy="129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48320" y="2654280"/>
            <a:ext cx="20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рогно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1849320"/>
            <a:ext cx="183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исло рейтинг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8436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ейтинги российских банков сдерживаются структурными недостатками банковского сектор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436680" y="1498680"/>
          <a:ext cx="842328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98680"/>
                    <a:ext cx="84232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1" name=""/>
          <p:cNvSpPr/>
          <p:nvPr/>
        </p:nvSpPr>
        <p:spPr>
          <a:xfrm flipV="1">
            <a:off x="7823160" y="2361960"/>
            <a:ext cx="622440" cy="1104840"/>
          </a:xfrm>
          <a:prstGeom prst="line">
            <a:avLst/>
          </a:prstGeom>
          <a:ln cap="rnd" w="22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924680" y="3886200"/>
            <a:ext cx="83844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674200" y="1892160"/>
            <a:ext cx="304560" cy="2324160"/>
          </a:xfrm>
          <a:prstGeom prst="ellipse">
            <a:avLst/>
          </a:prstGeom>
          <a:noFill/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369280" y="2514600"/>
            <a:ext cx="177840" cy="1282680"/>
          </a:xfrm>
          <a:prstGeom prst="ellipse">
            <a:avLst/>
          </a:prstGeom>
          <a:noFill/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озитивные факторы, влияющие на рейтинги банков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2050920"/>
            <a:ext cx="82296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Экономический рост</a:t>
            </a:r>
            <a:r>
              <a:rPr b="1" lang="fr-FR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Рост ВВП: 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3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2003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г.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гноз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6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8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на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2004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ысокий потенциал роста банковской отрасли в силу низкого уровня финансового посредничеств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Кредиты к ВВП в 2003 г.: 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21%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в Росси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 29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Польше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44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Венгри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75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о Франц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cc0000"/>
              </a:buClr>
              <a:buSzPct val="15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сокий уровень экономических и отраслевых рисков делает российский банковский сектор одним из самых высокорисковых в мир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гативные факторы, влияющие на рейтинги банк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Концентрация экономики</a:t>
            </a:r>
            <a:r>
              <a:rPr b="1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Доминирующее положение Сбербанка</a:t>
            </a:r>
            <a:r>
              <a:rPr b="1" lang="fr-FR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более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 60% 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рынка частных депозитов и более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 30% 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рынка корпоративного кредитования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Высокая концентрация кредитны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Преобладание операций со связанными сторо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Непрозрачная структура соб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Большое число мелких б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Высокая доля доходов от торгов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Неопределенная и непредсказуемая прав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684396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йтинг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ndard &amp; Poor’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оссийских финансовых институтов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318960" y="1368360"/>
          <a:ext cx="8632800" cy="4837320"/>
        </p:xfrm>
        <a:graphic>
          <a:graphicData uri="http://schemas.openxmlformats.org/drawingml/2006/table">
            <a:tbl>
              <a:tblPr/>
              <a:tblGrid>
                <a:gridCol w="2576520"/>
                <a:gridCol w="1371600"/>
                <a:gridCol w="3111480"/>
                <a:gridCol w="15732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торг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пром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нты-Мансий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Москов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ргутнефтегаз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Русский Стандар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CW 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связь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фа-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пэкс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М-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вропейский Трастовы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Петрокоммер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ьский Банк Реконструкции и Развит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Промышленны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Банк Санкт-Петербург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ессанс Капита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Союз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ДельтаКреди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эб-инвест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о-Сибир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ба Альянс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Кредит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"/>
          <p:cNvSpPr/>
          <p:nvPr/>
        </p:nvSpPr>
        <p:spPr>
          <a:xfrm>
            <a:off x="6006960" y="609480"/>
            <a:ext cx="313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На 1 сентября 2004 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Кредитный рейтинг - это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430360" y="1447920"/>
            <a:ext cx="67136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362320" y="1547280"/>
            <a:ext cx="6781680" cy="5336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рейтинг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комплексная оценка состояния анализируемого субъекта, которая дает возможность отнести его к некоторому классу или категории. Результаты исследова­ния деятельности экономических субъектов выражают­ся комбинацией символов, на базе которой осуществ­ляется определенная кластеризация, дающая возмож­ность проведения текущей и сравнительной оце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йтинги являют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остаточно значимой составляющей в области деловой информации - они необходимы как д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держания уровня делового до­верия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и в качестве индикатора перспективных на­правлений размещения финансовых ресурсов, вложения инвестиционных потенциал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йтинг по своей сут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олняет функци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образования достаточно больших объемов информации в мнения и рекомендации по принятию решения наиболее компактным образ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"/>
          <p:cNvGrpSpPr/>
          <p:nvPr/>
        </p:nvGrpSpPr>
        <p:grpSpPr>
          <a:xfrm>
            <a:off x="0" y="2286000"/>
            <a:ext cx="9144000" cy="360360"/>
            <a:chOff x="0" y="2286000"/>
            <a:chExt cx="9144000" cy="360360"/>
          </a:xfrm>
        </p:grpSpPr>
        <p:sp>
          <p:nvSpPr>
            <p:cNvPr id="1193" name=""/>
            <p:cNvSpPr/>
            <p:nvPr/>
          </p:nvSpPr>
          <p:spPr>
            <a:xfrm>
              <a:off x="0" y="2357280"/>
              <a:ext cx="9144000" cy="2890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0" y="2286000"/>
              <a:ext cx="9144000" cy="730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304920" y="2819520"/>
            <a:ext cx="8610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Использование кредитных рейтингов в деятельности коммерческого бан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Опыт АКБ «Союз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5720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Банковские рейтинги и анализ финансового состояния бан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 Black"/>
              </a:rPr>
              <a:t>Круглый стол «Банковские рейтинги и анализ финансового состояния банка»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Москв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Торгово-промышленная палата Р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23 мая 2006 год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3195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8" name="Souz_logo_gor" descr=""/>
          <p:cNvPicPr/>
          <p:nvPr/>
        </p:nvPicPr>
        <p:blipFill>
          <a:blip r:embed="rId1"/>
          <a:stretch/>
        </p:blipFill>
        <p:spPr>
          <a:xfrm>
            <a:off x="324000" y="76320"/>
            <a:ext cx="8534160" cy="220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0" y="404640"/>
            <a:ext cx="9144000" cy="360360"/>
            <a:chOff x="0" y="404640"/>
            <a:chExt cx="9144000" cy="360360"/>
          </a:xfrm>
        </p:grpSpPr>
        <p:sp>
          <p:nvSpPr>
            <p:cNvPr id="1200" name=""/>
            <p:cNvSpPr/>
            <p:nvPr/>
          </p:nvSpPr>
          <p:spPr>
            <a:xfrm>
              <a:off x="0" y="47592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40464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7524720" y="5734080"/>
            <a:ext cx="1357200" cy="61596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609480" y="10666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Кредитные рейтинги корпоративных заемщ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500720" y="22050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09480" y="5013360"/>
            <a:ext cx="821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о данным на 22.05.2006 кредитные рейтинги имели более 65 компаний, более 80 банков и финансовых организа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1447920" y="1801800"/>
          <a:ext cx="6095880" cy="299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801800"/>
                    <a:ext cx="60958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0" y="380880"/>
            <a:ext cx="9144000" cy="360360"/>
            <a:chOff x="0" y="380880"/>
            <a:chExt cx="9144000" cy="360360"/>
          </a:xfrm>
        </p:grpSpPr>
        <p:sp>
          <p:nvSpPr>
            <p:cNvPr id="1210" name=""/>
            <p:cNvSpPr/>
            <p:nvPr/>
          </p:nvSpPr>
          <p:spPr>
            <a:xfrm>
              <a:off x="0" y="4521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0" y="3808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1547640" cy="7016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1332000" y="2637000"/>
            <a:ext cx="7010280" cy="1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граниченное число заемщиков, получивших кредитные рейтинг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уальность кредитных рейтинг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жности сопоставления оценок различных рейтинговых агент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жность сопоставления оценок по различным шкалам (национальным/международны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67280" y="184464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52280" y="9810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пользование рейтингов при принятии решений об инвестиров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0920" y="51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России кредитные рейтинги пока не стали инструментом для принятия инвестиционных реш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40360" y="436572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"/>
          <p:cNvGrpSpPr/>
          <p:nvPr/>
        </p:nvGrpSpPr>
        <p:grpSpPr>
          <a:xfrm>
            <a:off x="0" y="260280"/>
            <a:ext cx="9144000" cy="360360"/>
            <a:chOff x="0" y="260280"/>
            <a:chExt cx="9144000" cy="360360"/>
          </a:xfrm>
        </p:grpSpPr>
        <p:sp>
          <p:nvSpPr>
            <p:cNvPr id="1220" name=""/>
            <p:cNvSpPr/>
            <p:nvPr/>
          </p:nvSpPr>
          <p:spPr>
            <a:xfrm>
              <a:off x="0" y="3315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0" y="2602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258920" y="2421000"/>
            <a:ext cx="7010280" cy="1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озрачность методик оценки заемщик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бликация полных рейтинговых отче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дготовка качественной отраслевой информ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едоставление информации о всех присвоенных рейтинговых оценка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067280" y="155736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9079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еобходимая рейтинговая информац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50920" y="51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Раскрытие подобной информации будет способствовать большему доверию к рейтинговым оценк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40360" y="414972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0" y="380880"/>
            <a:ext cx="9144000" cy="360360"/>
            <a:chOff x="0" y="380880"/>
            <a:chExt cx="9144000" cy="360360"/>
          </a:xfrm>
        </p:grpSpPr>
        <p:sp>
          <p:nvSpPr>
            <p:cNvPr id="1229" name=""/>
            <p:cNvSpPr/>
            <p:nvPr/>
          </p:nvSpPr>
          <p:spPr>
            <a:xfrm>
              <a:off x="0" y="4521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0" y="3808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403280" y="1197000"/>
            <a:ext cx="691380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Standard &amp; Poor`s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1 сентября 2005 года             ССС+/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24 сентября 2003 года           ССС/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52280" y="692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Кредитный рейтинг АКБ «Союз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0920" y="5661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Низкий уровень кредитного рейтинга ограничивает возможности для публичных заимствова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708360" y="191628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239840" y="3255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457200" y="2819520"/>
          <a:ext cx="7345080" cy="2608200"/>
        </p:xfrm>
        <a:graphic>
          <a:graphicData uri="http://schemas.openxmlformats.org/drawingml/2006/table">
            <a:tbl>
              <a:tblPr/>
              <a:tblGrid>
                <a:gridCol w="3672360"/>
                <a:gridCol w="3672720"/>
              </a:tblGrid>
              <a:tr h="26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зитивные фактор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рочные связи с компаниями группы «Базовый Элемент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Укрепление рыночных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Хорошая структура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егативные фактор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ысокая концентрация размещаемых и привлекаемых средс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изкий уровень капитал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ебольшая клиентская б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Умеренная прибы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0" y="476280"/>
            <a:ext cx="9144000" cy="360360"/>
            <a:chOff x="0" y="476280"/>
            <a:chExt cx="9144000" cy="360360"/>
          </a:xfrm>
        </p:grpSpPr>
        <p:sp>
          <p:nvSpPr>
            <p:cNvPr id="1239" name=""/>
            <p:cNvSpPr/>
            <p:nvPr/>
          </p:nvSpPr>
          <p:spPr>
            <a:xfrm>
              <a:off x="0" y="5475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16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4762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16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7197840" y="5705640"/>
            <a:ext cx="1755720" cy="79524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324000" y="105264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3399"/>
                </a:solidFill>
                <a:uFillTx/>
                <a:latin typeface="Arial"/>
              </a:rPr>
              <a:t>Типичная схема сделки: опыт Банка СОЮЗ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303880" y="2363760"/>
            <a:ext cx="1374840" cy="581400"/>
            <a:chOff x="5303880" y="2363760"/>
            <a:chExt cx="1374840" cy="581400"/>
          </a:xfrm>
        </p:grpSpPr>
        <p:sp>
          <p:nvSpPr>
            <p:cNvPr id="1245" name=""/>
            <p:cNvSpPr/>
            <p:nvPr/>
          </p:nvSpPr>
          <p:spPr>
            <a:xfrm>
              <a:off x="5303880" y="2440080"/>
              <a:ext cx="1374840" cy="47628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27280" y="2363760"/>
              <a:ext cx="125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Менеджеры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6880" y="3247920"/>
            <a:ext cx="2362320" cy="582840"/>
            <a:chOff x="326880" y="3247920"/>
            <a:chExt cx="2362320" cy="582840"/>
          </a:xfrm>
        </p:grpSpPr>
        <p:sp>
          <p:nvSpPr>
            <p:cNvPr id="1248" name=""/>
            <p:cNvSpPr/>
            <p:nvPr/>
          </p:nvSpPr>
          <p:spPr>
            <a:xfrm>
              <a:off x="326880" y="3316320"/>
              <a:ext cx="2362320" cy="51444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1400" y="3247920"/>
              <a:ext cx="22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-up Servicer</a:t>
              </a: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Запасной сервисный агент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207360" y="2033640"/>
            <a:ext cx="595800" cy="1104480"/>
            <a:chOff x="207360" y="2033640"/>
            <a:chExt cx="595800" cy="1104480"/>
          </a:xfrm>
        </p:grpSpPr>
        <p:sp>
          <p:nvSpPr>
            <p:cNvPr id="1251" name=""/>
            <p:cNvSpPr/>
            <p:nvPr/>
          </p:nvSpPr>
          <p:spPr>
            <a:xfrm rot="5400000">
              <a:off x="-25560" y="2271960"/>
              <a:ext cx="1067040" cy="5904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 rot="16200000">
              <a:off x="-41400" y="2308320"/>
              <a:ext cx="107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ligor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олжники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2708280" y="2095560"/>
            <a:ext cx="2743200" cy="1068840"/>
            <a:chOff x="2708280" y="2095560"/>
            <a:chExt cx="2743200" cy="1068840"/>
          </a:xfrm>
        </p:grpSpPr>
        <p:sp>
          <p:nvSpPr>
            <p:cNvPr id="1254" name=""/>
            <p:cNvSpPr/>
            <p:nvPr/>
          </p:nvSpPr>
          <p:spPr>
            <a:xfrm>
              <a:off x="3146400" y="2135160"/>
              <a:ext cx="1828800" cy="9900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708280" y="209556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V Purchaser/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suer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Покупатель/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Эмитент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6480360" y="3727440"/>
            <a:ext cx="2210760" cy="676080"/>
            <a:chOff x="6480360" y="3727440"/>
            <a:chExt cx="2210760" cy="676080"/>
          </a:xfrm>
        </p:grpSpPr>
        <p:sp>
          <p:nvSpPr>
            <p:cNvPr id="1257" name=""/>
            <p:cNvSpPr/>
            <p:nvPr/>
          </p:nvSpPr>
          <p:spPr>
            <a:xfrm>
              <a:off x="6556320" y="3782880"/>
              <a:ext cx="2057400" cy="60948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480360" y="3727440"/>
              <a:ext cx="2210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Manager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Управляющий денежными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средствами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851520" y="2373480"/>
            <a:ext cx="1851120" cy="659880"/>
            <a:chOff x="6851520" y="2373480"/>
            <a:chExt cx="1851120" cy="659880"/>
          </a:xfrm>
        </p:grpSpPr>
        <p:sp>
          <p:nvSpPr>
            <p:cNvPr id="1260" name=""/>
            <p:cNvSpPr/>
            <p:nvPr/>
          </p:nvSpPr>
          <p:spPr>
            <a:xfrm>
              <a:off x="6927840" y="2373480"/>
              <a:ext cx="1676520" cy="62856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51520" y="2391120"/>
              <a:ext cx="18511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teholders</a:t>
              </a:r>
              <a:br>
                <a:rPr sz="15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ержатели долго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ценных бумаг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059600" y="1343160"/>
            <a:ext cx="1460160" cy="779400"/>
            <a:chOff x="7059600" y="1343160"/>
            <a:chExt cx="1460160" cy="779400"/>
          </a:xfrm>
        </p:grpSpPr>
        <p:sp>
          <p:nvSpPr>
            <p:cNvPr id="1263" name=""/>
            <p:cNvSpPr/>
            <p:nvPr/>
          </p:nvSpPr>
          <p:spPr>
            <a:xfrm>
              <a:off x="7059600" y="1411200"/>
              <a:ext cx="1430280" cy="70452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80120" y="1343160"/>
              <a:ext cx="1439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stee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оверительный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собственник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6859440" y="3095640"/>
            <a:ext cx="1764000" cy="581400"/>
            <a:chOff x="6859440" y="3095640"/>
            <a:chExt cx="1764000" cy="581400"/>
          </a:xfrm>
        </p:grpSpPr>
        <p:sp>
          <p:nvSpPr>
            <p:cNvPr id="1266" name=""/>
            <p:cNvSpPr/>
            <p:nvPr/>
          </p:nvSpPr>
          <p:spPr>
            <a:xfrm>
              <a:off x="6859440" y="3164040"/>
              <a:ext cx="1754280" cy="4572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89680" y="3095640"/>
              <a:ext cx="173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ying Agent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Платежные агенты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983120" y="2706840"/>
            <a:ext cx="30492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88080" y="2706840"/>
            <a:ext cx="22068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1041480" y="2085840"/>
            <a:ext cx="1600200" cy="1047960"/>
            <a:chOff x="1041480" y="2085840"/>
            <a:chExt cx="1600200" cy="1047960"/>
          </a:xfrm>
        </p:grpSpPr>
        <p:grpSp>
          <p:nvGrpSpPr>
            <p:cNvPr id="1271" name=""/>
            <p:cNvGrpSpPr/>
            <p:nvPr/>
          </p:nvGrpSpPr>
          <p:grpSpPr>
            <a:xfrm>
              <a:off x="1041480" y="2552400"/>
              <a:ext cx="1600200" cy="581400"/>
              <a:chOff x="1041480" y="2552400"/>
              <a:chExt cx="1600200" cy="581400"/>
            </a:xfrm>
          </p:grpSpPr>
          <p:sp>
            <p:nvSpPr>
              <p:cNvPr id="1272" name=""/>
              <p:cNvSpPr/>
              <p:nvPr/>
            </p:nvSpPr>
            <p:spPr>
              <a:xfrm>
                <a:off x="1041480" y="2630160"/>
                <a:ext cx="1600200" cy="457200"/>
              </a:xfrm>
              <a:prstGeom prst="rect">
                <a:avLst/>
              </a:prstGeom>
              <a:noFill/>
              <a:ln cap="sq" w="1260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096560" y="2552400"/>
                <a:ext cx="1499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icer</a:t>
                </a:r>
                <a:br>
                  <a:rPr sz="19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Arial"/>
                  </a:rPr>
                  <a:t>Сервисный агент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1041480" y="2085840"/>
              <a:ext cx="1600200" cy="581400"/>
              <a:chOff x="1041480" y="2085840"/>
              <a:chExt cx="1600200" cy="581400"/>
            </a:xfrm>
          </p:grpSpPr>
          <p:sp>
            <p:nvSpPr>
              <p:cNvPr id="1275" name=""/>
              <p:cNvSpPr/>
              <p:nvPr/>
            </p:nvSpPr>
            <p:spPr>
              <a:xfrm>
                <a:off x="1041480" y="2172960"/>
                <a:ext cx="1600200" cy="457200"/>
              </a:xfrm>
              <a:prstGeom prst="rect">
                <a:avLst/>
              </a:prstGeom>
              <a:noFill/>
              <a:ln cap="sq" w="1260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193760" y="2085840"/>
                <a:ext cx="131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iginator</a:t>
                </a:r>
                <a:br>
                  <a:rPr sz="19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Arial"/>
                  </a:rPr>
                  <a:t>Оригинатор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7" name=""/>
          <p:cNvSpPr/>
          <p:nvPr/>
        </p:nvSpPr>
        <p:spPr>
          <a:xfrm>
            <a:off x="4366440" y="36590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6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55240" y="337356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5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764800" y="253512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761560" y="271620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774160" y="232560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019120" y="24368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8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662160" y="245592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8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19240" y="21416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7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7360" y="3621240"/>
            <a:ext cx="2606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08080" y="3938760"/>
            <a:ext cx="33526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uto Loan Agreement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втокредиты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sset Sale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продажи активо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rvicing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бслуживани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forcement Services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казании услуг по взысканию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Back-up Servicing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запасном сервисном агенте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17560" y="2414520"/>
            <a:ext cx="2286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4746240" y="1792440"/>
            <a:ext cx="2305080" cy="342720"/>
            <a:chOff x="4746240" y="1792440"/>
            <a:chExt cx="2305080" cy="342720"/>
          </a:xfrm>
        </p:grpSpPr>
        <p:sp>
          <p:nvSpPr>
            <p:cNvPr id="1289" name=""/>
            <p:cNvSpPr/>
            <p:nvPr/>
          </p:nvSpPr>
          <p:spPr>
            <a:xfrm flipH="1">
              <a:off x="4746240" y="1792440"/>
              <a:ext cx="230508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46600" y="1792440"/>
              <a:ext cx="0" cy="34272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5752800" y="1535040"/>
            <a:ext cx="57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7. + 9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623920" y="3160800"/>
            <a:ext cx="37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10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17560" y="2163600"/>
            <a:ext cx="29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649600" y="255420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382920" y="3938760"/>
            <a:ext cx="3454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sh Management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управлении денежными средствам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ust Deed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доверительной собственност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lass A, B, C Note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лговые ценные бумаги классов А, В, С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curity Deed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беспечени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ying Agency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платежном агенте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718400" y="2125800"/>
            <a:ext cx="0" cy="22860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651040" y="274464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649600" y="293544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2689200" y="3116160"/>
            <a:ext cx="838080" cy="466560"/>
            <a:chOff x="2689200" y="3116160"/>
            <a:chExt cx="838080" cy="466560"/>
          </a:xfrm>
        </p:grpSpPr>
        <p:sp>
          <p:nvSpPr>
            <p:cNvPr id="1300" name=""/>
            <p:cNvSpPr/>
            <p:nvPr/>
          </p:nvSpPr>
          <p:spPr>
            <a:xfrm>
              <a:off x="3527280" y="3116160"/>
              <a:ext cx="0" cy="45720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89200" y="3582720"/>
              <a:ext cx="83808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108320" y="3135240"/>
            <a:ext cx="2438640" cy="771480"/>
            <a:chOff x="4108320" y="3135240"/>
            <a:chExt cx="2438640" cy="771480"/>
          </a:xfrm>
        </p:grpSpPr>
        <p:sp>
          <p:nvSpPr>
            <p:cNvPr id="1303" name=""/>
            <p:cNvSpPr/>
            <p:nvPr/>
          </p:nvSpPr>
          <p:spPr>
            <a:xfrm flipV="1">
              <a:off x="4108320" y="3135240"/>
              <a:ext cx="0" cy="76176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08320" y="3906720"/>
              <a:ext cx="243864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4687560" y="3125880"/>
            <a:ext cx="2173320" cy="237960"/>
            <a:chOff x="4687560" y="3125880"/>
            <a:chExt cx="2173320" cy="237960"/>
          </a:xfrm>
        </p:grpSpPr>
        <p:sp>
          <p:nvSpPr>
            <p:cNvPr id="1306" name=""/>
            <p:cNvSpPr/>
            <p:nvPr/>
          </p:nvSpPr>
          <p:spPr>
            <a:xfrm flipH="1">
              <a:off x="4687560" y="3363840"/>
              <a:ext cx="217332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689360" y="3125880"/>
              <a:ext cx="0" cy="22824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"/>
          <p:cNvGrpSpPr/>
          <p:nvPr/>
        </p:nvGrpSpPr>
        <p:grpSpPr>
          <a:xfrm>
            <a:off x="0" y="404640"/>
            <a:ext cx="9144000" cy="360360"/>
            <a:chOff x="0" y="404640"/>
            <a:chExt cx="9144000" cy="360360"/>
          </a:xfrm>
        </p:grpSpPr>
        <p:sp>
          <p:nvSpPr>
            <p:cNvPr id="1309" name=""/>
            <p:cNvSpPr/>
            <p:nvPr/>
          </p:nvSpPr>
          <p:spPr>
            <a:xfrm>
              <a:off x="0" y="47592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0" y="40464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0" y="656100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0920" y="83664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3399"/>
                </a:solidFill>
                <a:uFillTx/>
                <a:latin typeface="Times New Roman"/>
              </a:rPr>
              <a:t>Параметры секьюритизации Банка СОЮ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228600" y="1295280"/>
          <a:ext cx="7620120" cy="5332680"/>
        </p:xfrm>
        <a:graphic>
          <a:graphicData uri="http://schemas.openxmlformats.org/drawingml/2006/table">
            <a:tbl>
              <a:tblPr/>
              <a:tblGrid>
                <a:gridCol w="2362320"/>
                <a:gridCol w="525780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 Auto Loans Finance B.V. (Нидерланды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ужи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 СОЮ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. Обслужи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 Русский Стандар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бума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-1, A-2, B, 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выпус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800 000 долларов США, из них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 нот класса А-1 и А-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нот класса 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нот класса 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автокреди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ло 37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размещ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ля 2005 г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огаш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ль 2010 г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йтинг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ody’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А-1: Ваа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А-2, С: без рейтинг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В: В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а купо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А-1 и А-2: 1ml+175 б.п., верхняя граница 8.7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B: 8.7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C: банк выкупает самостоятель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онный пери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яц, выплата 10 числа каждого месяц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торы и андерайтер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kovsky Narodny Ban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2"/>
          <a:stretch/>
        </p:blipFill>
        <p:spPr>
          <a:xfrm>
            <a:off x="299880" y="642960"/>
            <a:ext cx="8544240" cy="557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сять повышений за семь лет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Суверенный рейтинг России -результат взвешенности всех фактор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554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286000" y="0"/>
            <a:ext cx="6400800" cy="4572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 flipV="1">
            <a:off x="2286000" y="1218960"/>
            <a:ext cx="6629400" cy="6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057040" y="-914400"/>
            <a:ext cx="7543800" cy="9144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Bodoni MT"/>
              </a:rPr>
              <a:t>Что даёт наличие рейтинга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430360" y="609480"/>
            <a:ext cx="6713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2133720" y="0"/>
          <a:ext cx="7467480" cy="6978600"/>
        </p:xfrm>
        <a:graphic>
          <a:graphicData uri="http://schemas.openxmlformats.org/drawingml/2006/table">
            <a:tbl>
              <a:tblPr/>
              <a:tblGrid>
                <a:gridCol w="3524040"/>
                <a:gridCol w="394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3300"/>
                          </a:solidFill>
                          <a:latin typeface="Rockwell Extra Bold"/>
                          <a:ea typeface="Times New Roman"/>
                        </a:rPr>
                        <a:t>Финансовому посред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3300"/>
                          </a:solidFill>
                          <a:latin typeface="Rockwell Extra Bold"/>
                          <a:ea typeface="Times New Roman"/>
                        </a:rPr>
                        <a:t>инвестор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60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кий доступ на рынок капиталов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рейтинга у субъекта финансового сектор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ьно часто на практике улучшает условия доступа на финансовые рынки за счет по­вышения доверия инвесторов и кредиторов к его долговым обя­зательствам. Это может приве­сти к снижению издержек фи­нансирования. Многие институ­циональные инвесторы не при­обретают долговых обяза­тельств у субъектов, не имею­щих рейтинга. В условиях рас­тущей глобализации рынков рей­тинги стали ориентирами, помо­гающими эмитентам размещать свои ценные бумаги во всем мире, расширяя рынок привле­чения капитала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тоимостью кре­дитных ресурсов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посредник, имеющий кредитный рейтинг, получает более широ­кий выбор на рынках капитала. У него больше альтернатив в ис­точниках финансирования, чему банка, не имеющего рейтинга. Это дает возможность финансо­вым организациям выбирать наи­более эффективные формы за­имствования и оптимизировать его стоимость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инятия осознанного инвестиционно­го решения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рей­тинга у финансовой органи­зации позволяет инвестору оценить, приемлемо ли для него соотношение риск/до­ходность для данного вложе­ния, и сравнить с альтерна­тивным вариантом. Очевид­но, что при прочих равных соотношениях риска и доход­ности инвестор выберет фи­нансового посредника, име­ющего рейтинг ведущего международного рейтингово­го агентства;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открытость эми­тента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наличие кредитного рейтинга у бан­ка означает большую инфор­мационную прозрачность его деятельности. Это связано с тем, что банк при подготов­ке рейтингового заключения и в процессе процедуры под­держания рейтинга представ­ляет рейтинговому агентству больший объем информации, чем другие компании, и в большинстве случаев эта ин­формация становится откры­той для всех потенциальных инвесторо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2e2e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Что и говорить, Российский рост впечатляет!!!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Но удастся ли сохранить в среднесрочной перспективе?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0" y="1309680"/>
            <a:ext cx="944892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Arial"/>
              </a:rPr>
              <a:t>Не исключено, что опасная «голландская болезнь» ещё даст знать о себ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долгосрочной перспективе на состояние экономики повлияет неблагоприятная демографическая ситуация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-152280" y="1523880"/>
            <a:ext cx="944856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ефть и газ обеспечивают России профицит по внешнему платежному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балансу ..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-1143000" y="1490760"/>
            <a:ext cx="10591920" cy="64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80880" y="-457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позицию нетто-кредитор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... хотя существует риск увеличения внебюджетных обязательств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хиллесова пята России: институциональная слабость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его ждать после выборов 2008 г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ложение: Некоторые показатели суверенного риска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f52ae"/>
                </a:solidFill>
                <a:latin typeface="Arial"/>
              </a:rPr>
              <a:t>Как влияют кредитные рейтинги на выпуск долговых обязательств 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62320" y="1295280"/>
            <a:ext cx="6781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62320" y="1249920"/>
            <a:ext cx="6781680" cy="509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выпуске долговых обязательств кредитный и прочие рейтин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нижают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имость заимствований, так как, с точки зрения инвесторов, риск по облигациям снижается с неопределенно высокого до зафиксированного на понятном для них уровн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•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ширя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руг потенциальных инвесторов за счет консервативных участников рынка капитала, имеющих ограничения на уровень риска по финансовым вло­жения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особству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осту известности компании и её долговых обязательств за счет распространения информации по каналам рейтингового агентств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•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демонстриру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мерения эмитента строить свои отношения с инвесторами на принципах информаци­онной открытости в соответствии с международными стандарт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Какие факторы способствуют росту рейтингов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оссийских банков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вень рейтингов российских банков по-прежнему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стает от уровня суверенного рейтинга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аспределение рейтингов банков России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азахстана и Украины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редние рейтинги банков России и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ругих стран, относящихся к категории «ВВВ»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анковская система России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– основные рейтинговые факторы</a:t>
            </a:r>
            <a:br>
              <a:rPr sz="32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Arial Rounded MT Bold"/>
              </a:rPr>
              <a:t>Экономический прогресс в России,</a:t>
            </a:r>
            <a:br>
              <a:rPr sz="2400"/>
            </a:br>
            <a:r>
              <a:rPr b="1" i="1" lang="ru-RU" sz="2400" spc="-1" strike="noStrike">
                <a:solidFill>
                  <a:srgbClr val="dbbd71"/>
                </a:solidFill>
                <a:latin typeface="Arial Rounded MT Bold"/>
              </a:rPr>
              <a:t>Казахстане и Украине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Тенденция роста совокупных внутренних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кредитов, в процентах к ВВП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Рост финансового посредничества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Доходность активов банковской системы</a:t>
            </a:r>
            <a:br>
              <a:rPr sz="2800"/>
            </a:b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России в сравнении со странами «группы</a:t>
            </a:r>
            <a:br>
              <a:rPr sz="2800"/>
            </a:b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равных»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иды рейтингов, присваиваемые ведущими рейтинговыми агентств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09680" y="1721880"/>
            <a:ext cx="6934320" cy="4574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ейтинги финансовой устойчивости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сваиваются агентствами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d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и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tch IBC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). 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м. след. слай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е рейтинги отражают позицию агентства в от­ношении устойчивости и надежности финансовых посредников, исключая определенные внешние кре­дитные риски и факторы внешней поддержки. Поми­мо кредитных организаций, эти рейтинги могут при­меняться и к другим типам финансовых учреждений, а именно: международные банки развития, правитель­ственные финансовые учреждения и национальные финансовые институты развития. Данные рейтинги не рассматривают своевременность выполнения обязательств финансового учреждения, а отражают вероятность того, что банку потребуется помощь третьей сторо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doni MT"/>
              </a:rPr>
              <a:t>Классифицированные ссуды, в % от совокупной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Bodoni MT"/>
              </a:rPr>
              <a:t>ссудной задолженности в банковской системе России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Банковская система России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сновные рейтинговые факторы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Российские банки подвергаются рискам из-за</a:t>
            </a:r>
            <a:br>
              <a:rPr sz="2400"/>
            </a:b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слабости системы банковского регулирования</a:t>
            </a:r>
            <a:br>
              <a:rPr sz="2400"/>
            </a:b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и надзора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60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Rounded MT Bold"/>
              </a:rPr>
              <a:t>Доминирование банков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Rounded MT Bold"/>
              </a:rPr>
              <a:t>контролируемых государством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ление на капитал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57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3200" spc="-1" strike="noStrike">
                <a:solidFill>
                  <a:srgbClr val="660033"/>
                </a:solidFill>
                <a:latin typeface="Arial Black"/>
              </a:rPr>
              <a:t>Среднесрочные перспективы российских банков</a:t>
            </a:r>
            <a:br>
              <a:rPr sz="28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bd71"/>
                </a:solidFill>
                <a:latin typeface="Arial"/>
              </a:rPr>
              <a:t>Структурные сделки, отрейтингованные в 2006 г.</a:t>
            </a:r>
            <a:br>
              <a:rPr sz="24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Arial"/>
              </a:rPr>
              <a:t>Пример трансграничной структуры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480" y="-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2007 г. ожидается рост рынка секьюритизации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524880" cy="682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60" y="-1143000"/>
            <a:ext cx="10363320" cy="9144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Рейтинги финансовой устойчивост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0" y="-228600"/>
          <a:ext cx="10363320" cy="8088480"/>
        </p:xfrm>
        <a:graphic>
          <a:graphicData uri="http://schemas.openxmlformats.org/drawingml/2006/table">
            <a:tbl>
              <a:tblPr/>
              <a:tblGrid>
                <a:gridCol w="3800520"/>
                <a:gridCol w="1379520"/>
                <a:gridCol w="518328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ласс рейтин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Рейтин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олкование рейтинга (степень устойчив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инвестиционный уровен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стабиль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е вызывает сомнений, вне зависимости от внешних условий 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роков выполнения обязатель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стабильность не вызывает сомнений, может измениться только при резком ухудшении макроэкономической ситуаци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не вызывает сомне­ний, сроки обеспечения плате­жеспособности по обязательствам зависят от макроэкономической ситуаци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нижний инвестиционный уровен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, сроки обеспечения платежеспособнос­ти зависят от внешних услови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, но сроки обеспечения платежеспо­собности могут отличаться для краткосрочных и долгосрочных обязатель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 при благоприятных внешних условия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уровень спекулятивный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озможно ухудш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 ближайшей перспек­тиве существует вероятность по­вышения финансовой уязв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 ближайшей перспек­тиве существует вероятность по­вышения финансовой уязвимости, необходима внешняя поддерж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уровень достаточно высокой уязвимости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Финансовая стабильность пробле­матична, необходима внешняя поддерж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вызывает большие сомн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не обеспечен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высокая уязвимост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уязвим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bd71"/>
                </a:solidFill>
                <a:latin typeface="Arial"/>
              </a:rPr>
              <a:t>Основные вилы рисков при анализе структурной сделк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84" name="" descr=""/>
          <p:cNvPicPr/>
          <p:nvPr/>
        </p:nvPicPr>
        <p:blipFill>
          <a:blip r:embed="rId1"/>
          <a:stretch/>
        </p:blipFill>
        <p:spPr>
          <a:xfrm>
            <a:off x="914400" y="1989000"/>
            <a:ext cx="6553080" cy="486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doni MT"/>
              </a:rPr>
              <a:t>Кредитный риск: Уровень дефолтных активов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редитный риск: Влияние риска обесценения рубл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редитный риск: Возврат по дефолтным активам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уктурные риски: Риск смешени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урктурные риски: Валютный и процентный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рановые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авовые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/>
          </p:nvPr>
        </p:nvSpPr>
        <p:spPr>
          <a:xfrm>
            <a:off x="228240" y="1636560"/>
            <a:ext cx="8915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Более</a:t>
            </a:r>
            <a:r>
              <a:rPr b="0" lang="es-CO" sz="3300" spc="-1" strike="noStrike">
                <a:solidFill>
                  <a:srgbClr val="000000"/>
                </a:solidFill>
                <a:latin typeface="Tahoma"/>
              </a:rPr>
              <a:t> 30</a:t>
            </a: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 лет</a:t>
            </a:r>
            <a:r>
              <a:rPr b="0" lang="es-CO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опыта в области микрофинанс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3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Отдел финансового управления</a:t>
            </a:r>
            <a:r>
              <a:rPr b="1" i="1" lang="es-CO" sz="31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lnSpc>
                <a:spcPct val="9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Автономный отдел, основной целью которого является финансовая оценка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 (ACCION CAMEL),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мониторинг показателей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финансовые прогнозы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и другие аналитические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Goudy Old Style"/>
              </a:rPr>
              <a:t>ACCION </a:t>
            </a:r>
            <a:r>
              <a:rPr b="1" i="1" lang="es-CO" sz="4000" spc="-1" strike="noStrike">
                <a:solidFill>
                  <a:srgbClr val="ffffff"/>
                </a:solidFill>
                <a:latin typeface="Goudy Old Style"/>
              </a:rPr>
              <a:t>Internationa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55760" y="1270080"/>
            <a:ext cx="77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ервые буквы английских слов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66880" y="1542960"/>
            <a:ext cx="64771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достаточность капитал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(качество актив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руководств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доход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управление ликвидностью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22360" y="774720"/>
            <a:ext cx="805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0" y="1676520"/>
            <a:ext cx="2590560" cy="3770280"/>
            <a:chOff x="0" y="1676520"/>
            <a:chExt cx="2590560" cy="3770280"/>
          </a:xfrm>
        </p:grpSpPr>
        <p:pic>
          <p:nvPicPr>
            <p:cNvPr id="1406" name="" descr=""/>
            <p:cNvPicPr/>
            <p:nvPr/>
          </p:nvPicPr>
          <p:blipFill>
            <a:blip r:embed="rId1"/>
            <a:stretch/>
          </p:blipFill>
          <p:spPr>
            <a:xfrm>
              <a:off x="14400" y="1694160"/>
              <a:ext cx="25761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0" y="1676520"/>
              <a:ext cx="2581200" cy="375768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286000" y="0"/>
            <a:ext cx="6858000" cy="609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86000" y="-639720"/>
            <a:ext cx="6858000" cy="1279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2286000" y="68580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-914400"/>
            <a:ext cx="82296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f52ae"/>
                </a:solidFill>
                <a:latin typeface="Tahoma"/>
              </a:rPr>
              <a:t>Виды рейтингов. продол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2362320" y="685800"/>
            <a:ext cx="67816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86000" y="1299240"/>
            <a:ext cx="6858000" cy="5610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. Рейтинги поддержки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ваиваются веду­щими международными рейтинговыми компаниями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Fitch IBCA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» и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tandard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oor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ейтинг поддержки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сваиваемый агентством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ch IBC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представляет собой оценку финансовой возможности субъекта (государства или организации), который готов оказать финансовую поддержку конкретному субъекту финансового сектора. Для этой цели аналитики агентства рассматривают уровень и динамику долгосрочного кредитного «поддерживающего» рейтинга в иностранной, а при необходимости и в национальной валюте. В соответствии с методикой анализа при присвоении рейтинга поддержки необходимо, чтобы поддерживающая сторона была достаточно устойчива и могла оказывать поддержку фи­нансовому учреждению до тех пор, пока оно не смо­жет самостоятельно отвечать по своим обязательствам. Но при этом не учитывается качество внутреннего кре­дита (это происходит при присвоении индивидуаль­ного рейтинг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0" y="6336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: 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Что это такое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0" y="182880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трумент внутреннего контроля и финансовой оценки для микрофинансовых организац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Ф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лубленный анализ всех сфер деятельности 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ивает рекомендациями для усовершенствования систем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0" y="1752480"/>
            <a:ext cx="9796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09480" y="1752480"/>
            <a:ext cx="1800" cy="85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7160" y="13716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04920" y="2590920"/>
            <a:ext cx="187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2438280"/>
            <a:ext cx="220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традиционного инструмен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деральным Резервным Банком СШ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05120" y="1752480"/>
            <a:ext cx="6120" cy="375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44792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80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143000" y="4495680"/>
            <a:ext cx="22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нд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атинская Амери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97280" y="1752480"/>
            <a:ext cx="4680" cy="214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51460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057400" y="320040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инструменто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Ф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581280" y="1371600"/>
            <a:ext cx="1878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3 –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05320" y="449568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одит оценку только членов сет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71500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ача методолог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гентствам, осуществляющим надзор, и кредитным учреждени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848720" y="1766880"/>
            <a:ext cx="1440" cy="85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086600" y="2376360"/>
            <a:ext cx="220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ширение использова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е рамок сети и Латинской Амер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248520" y="1371600"/>
            <a:ext cx="1306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9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467480" y="1371600"/>
            <a:ext cx="1224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19720" y="1752480"/>
            <a:ext cx="1440" cy="3326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705720" y="1752480"/>
            <a:ext cx="1440" cy="4827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04920" y="380880"/>
            <a:ext cx="94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Garamond"/>
              </a:rPr>
              <a:t>История</a:t>
            </a:r>
            <a:r>
              <a:rPr b="1" lang="en-US" sz="4400" spc="-1" strike="noStrike">
                <a:solidFill>
                  <a:srgbClr val="996600"/>
                </a:solidFill>
                <a:latin typeface="Garamond"/>
              </a:rPr>
              <a:t>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5780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876920" y="320040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бликация технического руководств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 CAM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638680" y="1752480"/>
            <a:ext cx="5040" cy="214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0" y="1143000"/>
            <a:ext cx="9144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изучения рейтинга финансовых показателей и возможных рисков, с которыми сталкиваются МФО в среднесрочной перспектив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продемонстрировать финансовую надежность МФО банкам и потенциальным инвесторам языком общепринятых показателей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обеспечить высококачественной информацией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кой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повышения уровня руководства МФ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разработать индикаторы и эталонные показатели для повышения уровня руководства МФ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4920" y="1522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Для чего был создан</a:t>
            </a: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 ACCION CAME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44520" y="1676520"/>
            <a:ext cx="88916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ключев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ючая определение того,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ак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х измеря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стандар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ступность необходимой информ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икатное отношение МФО к рейтинговой оценке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01480" y="146160"/>
            <a:ext cx="7223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облемы в процессе создания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0" y="1596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: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Вер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0" y="1295280"/>
          <a:ext cx="9144000" cy="5904000"/>
        </p:xfrm>
        <a:graphic>
          <a:graphicData uri="http://schemas.openxmlformats.org/drawingml/2006/table">
            <a:tbl>
              <a:tblPr/>
              <a:tblGrid>
                <a:gridCol w="2057400"/>
                <a:gridCol w="2500200"/>
                <a:gridCol w="2605320"/>
                <a:gridCol w="1981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АДИЦИОННЫ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ЙТИНГОВЫ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EL (“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CAMEL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ОВЕРШЕНСТ-ВОВА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направленност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лубленный анализ всех сфер работы МФ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ансы -слабые и сильные сторо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нее выявленные ри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цел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монстрация финансового состо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прогре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отношени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че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енны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0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чественны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акой же как предыдущи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нагрузка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 рабочих дней консультантов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 - кажд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 - кажд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ccecff"/>
                </a:solidFill>
                <a:latin typeface="Garamond"/>
              </a:rPr>
              <a:t>ACCION CAMEL: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Garamond"/>
              </a:rPr>
              <a:t>Целевой рыно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89000" y="1530360"/>
            <a:ext cx="8955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73320" indent="-37332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я сторона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мерческие ба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ные инвесторы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едитные организации второго уровня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гентства надзора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нтральный Банк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уперинтендантств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3320" indent="-37332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ФО, поддающиеся оценке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П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ПО в процессе перехода в регулируемые орган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уемые МФ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нки и финансовые компании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457200" y="1600200"/>
            <a:ext cx="838188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ьно разработан для микрофинан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казывает, что МФО могут соответствовать тем же стандартам, что и традиционные финансовые орга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является ауди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является индикатором оценки воздействия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фиденциальность результа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11200" y="90360"/>
            <a:ext cx="805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Характеристики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19040" y="1596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19040" y="15256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152280" y="1219320"/>
            <a:ext cx="899172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ючевых индикато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ки от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0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шая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= 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оотнош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енных индикаторов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4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13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ачественных индикаторов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  5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ючевых индикаторов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оддержка количественных и качественных индикато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Анализ тенденций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ериод два или три года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oudy Old Style"/>
              </a:rPr>
              <a:t>Характерис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10960" y="1219320"/>
            <a:ext cx="817596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Количественные индикаторы</a:t>
            </a:r>
            <a:r>
              <a:rPr b="0" i="1" lang="es-E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чество портфеля и финансовый анали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правки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измерения жизнеспособности МФО как коммерческой орган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стандартизации анализа различных МФ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тимальные параметры утверждаются на основе углубленного анализа МФО по всему мир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214200" y="1447920"/>
            <a:ext cx="892980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чественные индикаторы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ндикаторы, которые невозможно выразить в цифрах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осредственное воздействие на финансовое положение и общее состояние МФ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Анализ основан на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вью с персоналом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ленами правления,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иент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зор политики и процеду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0" y="7632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cec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4300"/>
            </a:br>
            <a:r>
              <a:rPr b="0" lang="ru-RU" sz="4300" spc="-1" strike="noStrike">
                <a:solidFill>
                  <a:srgbClr val="ccecff"/>
                </a:solidFill>
                <a:latin typeface="Goudy Old Style"/>
              </a:rPr>
              <a:t> </a:t>
            </a:r>
            <a:r>
              <a:rPr b="0" lang="es-ES" sz="4300" spc="-1" strike="noStrike">
                <a:solidFill>
                  <a:srgbClr val="ccecff"/>
                </a:solidFill>
                <a:latin typeface="Goudy Old Style"/>
              </a:rPr>
              <a:t>ACCION CAMEL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f52ae"/>
                </a:solidFill>
                <a:latin typeface="Times New Roman"/>
              </a:rPr>
              <a:t>След. вид рейтингов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362320" y="2099520"/>
            <a:ext cx="6781680" cy="3690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bb5f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. Рейтинги корпоративного у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присваиваются международными рейтинговыми агентствами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d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и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ndar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o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90-х гг. прошлого столетия возрос интерес к корпоративному управлению у акционеров, менеджеров, директоров и иных заинтересованных финансовых посредников и нефинансовых экономических субъектов. Появилась потребность в независимых, сопоставимых в международном масштабе оценках для срав­нения практики корпоративного управления в различ­ных странах и институциональных единицах. Концепция рейтингов корпоративного управления нацелена на удовлетворение этой потребн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0" y="9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Garamond"/>
              </a:rPr>
              <a:t>Когда проводить рейтинговую</a:t>
            </a:r>
            <a:r>
              <a:rPr b="0" lang="en-US" sz="5400" spc="-1" strike="noStrike">
                <a:solidFill>
                  <a:srgbClr val="dbbd71"/>
                </a:solidFill>
                <a:latin typeface="Garamond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Garamond"/>
              </a:rPr>
              <a:t>оценку </a:t>
            </a:r>
            <a:r>
              <a:rPr b="0" lang="en-US" sz="5400" spc="-1" strike="noStrike">
                <a:solidFill>
                  <a:srgbClr val="dbbd71"/>
                </a:solidFill>
                <a:latin typeface="Garamond"/>
              </a:rPr>
              <a:t>ACCION CAM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1295280"/>
            <a:ext cx="91440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иболее типичные примеры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енциальные инвестиции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ед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заказу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заказу доноров или третьей сторо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формация из НПО в регулируемую организац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ическая помощ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5" name=""/>
          <p:cNvGraphicFramePr/>
          <p:nvPr/>
        </p:nvGraphicFramePr>
        <p:xfrm>
          <a:off x="0" y="1295280"/>
          <a:ext cx="9144000" cy="7232760"/>
        </p:xfrm>
        <a:graphic>
          <a:graphicData uri="http://schemas.openxmlformats.org/drawingml/2006/table">
            <a:tbl>
              <a:tblPr/>
              <a:tblGrid>
                <a:gridCol w="4179960"/>
                <a:gridCol w="49640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точность капитал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16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 достаточности капитала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точность резервов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ность увеличения уставного капитала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чество активо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21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ск портфеля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 убытков по займам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стема классификации портфеля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быльность долгосрочных активов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6" name=""/>
          <p:cNvSpPr/>
          <p:nvPr/>
        </p:nvSpPr>
        <p:spPr>
          <a:xfrm>
            <a:off x="0" y="7632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4300"/>
            </a:br>
            <a:r>
              <a:rPr b="0" lang="ru-RU" sz="43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0" lang="es-ES" sz="43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7" name=""/>
          <p:cNvGraphicFramePr/>
          <p:nvPr/>
        </p:nvGraphicFramePr>
        <p:xfrm>
          <a:off x="0" y="1143000"/>
          <a:ext cx="9448920" cy="5811840"/>
        </p:xfrm>
        <a:graphic>
          <a:graphicData uri="http://schemas.openxmlformats.org/drawingml/2006/table">
            <a:tbl>
              <a:tblPr/>
              <a:tblGrid>
                <a:gridCol w="5241960"/>
                <a:gridCol w="42069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23%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вление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дры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цессы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удит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ые системы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атегическое планирование и бюджет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ходы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24%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капитала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онная эффективность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активов     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итика процентных ставок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8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9" name=""/>
          <p:cNvGraphicFramePr/>
          <p:nvPr/>
        </p:nvGraphicFramePr>
        <p:xfrm>
          <a:off x="0" y="1295280"/>
          <a:ext cx="9144000" cy="6323040"/>
        </p:xfrm>
        <a:graphic>
          <a:graphicData uri="http://schemas.openxmlformats.org/drawingml/2006/table">
            <a:tbl>
              <a:tblPr/>
              <a:tblGrid>
                <a:gridCol w="4578480"/>
                <a:gridCol w="456552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квидност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уктура обязательств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гноз денежных потоков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ликвидных активов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46%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%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0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0" y="1479600"/>
            <a:ext cx="914400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85560" indent="-3855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доступа МФО к местным и международным рынкам капит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85240" indent="-331920">
              <a:lnSpc>
                <a:spcPct val="95000"/>
              </a:lnSpc>
              <a:spcAft>
                <a:spcPts val="1500"/>
              </a:spcAft>
              <a:buClr>
                <a:srgbClr val="cc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нижение рисков благодаря объективной оценк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дартизация переменных и индикаторов, используемых для оценки 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за данных для анализа эволюции микрофинансовой индустр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04920" y="9036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остижения инструмента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77920" y="2219400"/>
            <a:ext cx="78343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ahoma"/>
              </a:rPr>
              <a:t>Окончательное заключение..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 rot="5029800">
            <a:off x="3879720" y="-5492160"/>
            <a:ext cx="1511280" cy="990612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>
            <a:off x="380880" y="1045440"/>
            <a:ext cx="8763120" cy="5214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0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бода выбора в рыночной экономике должна подкрепляться уверенностью в на­дежности партнера. Для принятия решения недостаточно внутренних оценок и зачастую необходима оценка независимых экспертов. Такую роль в современном обществе игра­ет, в частности, система рейтингов. Показа­тели рейтинга в компактной и ёмкой форме характеризуют состояние и перспективные тенденции изменения финансовой стабиль­ности банка, играя роль индикаторов для принятия решений, установления и поддер­жания деловых отношений. Текущий уровень рейтинга и динамика его изменения служат сигналами для сохранения, расширения или свертывания взаимосвяз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2:58:16Z</dcterms:created>
  <dc:creator>Lynne Curran</dc:creator>
  <dc:description/>
  <dc:language>en-US</dc:language>
  <cp:lastModifiedBy>Недолукий</cp:lastModifiedBy>
  <dcterms:modified xsi:type="dcterms:W3CDTF">2008-05-11T18:32:48Z</dcterms:modified>
  <cp:revision>59</cp:revision>
  <dc:subject/>
  <dc:title>PowerPoint Presentation</dc:title>
</cp:coreProperties>
</file>