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CE8B-A95E-4F03-970B-37ECB9AF5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447D-0696-43E7-95AF-AE31F28F7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59A2-7DEC-4400-A286-EF1DEAECC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40B9-4BE0-42B0-B067-9B5BB7A03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2BAB96-FB8E-4168-B238-D1581C96D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C4CF66-C45A-436E-9A0F-3FEFCDEB7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F0A645-CB19-41EA-9B24-CCF49AA45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3DBCC4-A964-482D-9A92-A05A2F8B0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275DC2-D045-4D35-8D0F-442383BA6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0D4046-D1F2-4349-AA56-E19E06B28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A374C3-E05F-41A7-89F1-163E7E3CE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565D-ED24-401F-83DB-1CD4BADF6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6D4358-DB8D-4B39-9E65-73AB007DD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7840AE-9EF0-4636-BE32-CDFB45C08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7D720C-5517-40FF-8D59-9F01C5E9D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75338A-548C-48C4-A115-DA7C23FF7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B82894-BA30-490F-B86B-8EDC0BC44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C509-CF71-4486-B495-59E807E8D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6F71-0839-4B38-9CDB-61802472C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3425-FB7E-42C9-87D9-683D78699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637C-9757-4607-A2D0-3986A2F24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CA60-2018-4CF5-B562-5A5B8E7EF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554A-BCC2-4CE8-BD04-36B65A3DC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4CD4-07EE-4C96-BA03-89D6D2146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94207-EF45-4638-BAE5-28F2BBC087F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4D9F7-1127-463A-AECD-825D71EC50D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11280" y="14842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Tahoma"/>
              </a:rPr>
              <a:t>Управление персоналом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187280" y="404280"/>
            <a:ext cx="64008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Дипломная работ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"/>
          <p:cNvSpPr/>
          <p:nvPr/>
        </p:nvSpPr>
        <p:spPr>
          <a:xfrm>
            <a:off x="539640" y="321300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Как составная часть менеджмента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предприят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xit" presetID="5" presetSubtype="10">
                                  <p:stCondLst>
                                    <p:cond delay="400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Tahoma"/>
              </a:rPr>
              <a:t>Методы анализ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счет и анализ основных показателей, характеризующих состояние и степень использования трудовых ресурсов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счет влияния отдельных факторов на изменение результативного показателя способом детерминированного факторного анализ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строение графиков, характеризующих стиль руководства, лидера организации, культуру управления, критерии успеха, характеристики организации с помощью инструмента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CA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500"/>
                            </p:stCondLst>
                            <p:childTnLst>
                              <p:par>
                                <p:cTn id="27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1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4500"/>
                            </p:stCondLst>
                            <p:childTnLst>
                              <p:par>
                                <p:cTn id="31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1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Направление совершенствования кадрового менеджмента на предприят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349360"/>
            <a:ext cx="8075520" cy="5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овершенствование системы стимулирования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2936880"/>
            <a:ext cx="820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овершенствование системы управления персоналом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8360" y="3992400"/>
            <a:ext cx="74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овышение квалификации кадр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3500"/>
                            </p:stCondLst>
                            <p:childTnLst>
                              <p:par>
                                <p:cTn id="50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ahoma"/>
              </a:rPr>
              <a:t>Система стимулирова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55640" y="1268280"/>
            <a:ext cx="763272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епосредственная связь с достигнутыми успехам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ознаграждение за перевыполнение план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тсутствие «потолка» преми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оответствие з/платы реальному вкладу в успех проект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граничение базовых окладов для руководителе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Жесткая схема начисления премий. Три категории оценки результатов (хорошо, удовлетворительно, плохо), рейтинг работ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емию вручает непосредственный начальник. Обязательно проведение бесед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Ликвидация премиальных выплат не завизящих от результатов работ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5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500"/>
                            </p:stCondLst>
                            <p:childTnLst>
                              <p:par>
                                <p:cTn id="65" nodeType="afterEffect" fill="hold" presetClass="entr" presetID="5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4500"/>
                            </p:stCondLst>
                            <p:childTnLst>
                              <p:par>
                                <p:cTn id="69" nodeType="afterEffect" fill="hold" presetClass="entr" presetID="5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6500"/>
                            </p:stCondLst>
                            <p:childTnLst>
                              <p:par>
                                <p:cTn id="73" nodeType="afterEffect" fill="hold" presetClass="entr" presetID="5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8500"/>
                            </p:stCondLst>
                            <p:childTnLst>
                              <p:par>
                                <p:cTn id="77" nodeType="afterEffect" fill="hold" presetClass="entr" presetID="5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500"/>
                            </p:stCondLst>
                            <p:childTnLst>
                              <p:par>
                                <p:cTn id="81" nodeType="afterEffect" fill="hold" presetClass="entr" presetID="5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2500"/>
                            </p:stCondLst>
                            <p:childTnLst>
                              <p:par>
                                <p:cTn id="85" nodeType="afterEffect" fill="hold" presetClass="entr" presetID="5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4500"/>
                            </p:stCondLst>
                            <p:childTnLst>
                              <p:par>
                                <p:cTn id="89" nodeType="afterEffect" fill="hold" presetClass="entr" presetID="5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ahoma"/>
              </a:rPr>
              <a:t>Неэкономические методы стимулирова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бмен опытом (переброска из одной группы в другую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роведение профессиональных конкурс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Моральное стимулирование (похвала, грамота, доска почета и т.д.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500"/>
                            </p:stCondLst>
                            <p:childTnLst>
                              <p:par>
                                <p:cTn id="10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ahoma"/>
              </a:rPr>
              <a:t>Изменение в культуре организац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0" y="13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755640" y="1014480"/>
          <a:ext cx="7561440" cy="55274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5640" y="1014480"/>
                    <a:ext cx="7561440" cy="552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3500"/>
                            </p:stCondLst>
                            <p:childTnLst>
                              <p:par>
                                <p:cTn id="126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0"/>
                            </p:stCondLst>
                            <p:childTnLst>
                              <p:par>
                                <p:cTn id="130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2T05:15:38Z</dcterms:created>
  <dc:creator/>
  <dc:description/>
  <dc:language>en-US</dc:language>
  <cp:lastModifiedBy>Andrey L.</cp:lastModifiedBy>
  <dcterms:modified xsi:type="dcterms:W3CDTF">2004-09-28T07:44:24Z</dcterms:modified>
  <cp:revision>7</cp:revision>
  <dc:subject/>
  <dc:title>Управление персоналом</dc:title>
</cp:coreProperties>
</file>