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6E21-5DE7-4221-BB6F-37030370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E68E-196F-4C20-B1D7-58B5AD59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053-4C6A-4A7D-813B-835B18C0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FA2E-3FE7-4D0B-B8D1-98AA594A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D786-C1CD-4626-9263-B4A4E687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B83B-B189-4C4D-BAE1-5C421C86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8BA8-DC0A-4652-820C-DE8CA5DD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09E9-E7B6-4095-8C20-8EAF8F69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71A2-FFF5-430D-AC0A-5D53649F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4500-9803-45BD-9A6E-1BAF8438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A65F-EAC0-45D9-9FFA-9A73C82D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99A5-B0DC-4C9D-AB8A-D4E0DB12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5FA0-2012-4E93-B53E-61049BCF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8048-9161-4105-95DE-3F94A898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9D8E-D79E-42E3-8258-7BF85F8C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54E7-283D-461E-9562-A224EB5E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3822-67DA-4A1F-BCEF-D17E7AE4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FA1-A4F7-4459-A96C-A37725C6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52A-3595-4740-9459-D18D0567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5866-8E98-4F6F-995F-BB7DB1F0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DC8-D6A2-4872-AECA-8972A00E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FCF-1C26-420F-8F68-BC67EB69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EEA-CCA6-4885-B921-2CCE4C6E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0F5-E893-4428-8B26-4920B31C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89E4-7BAE-4B26-91AC-77AA7D8B91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AF96-D4FC-4315-A73F-086842795B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ОУ ВПО «ВОЛЖСКИЙ ГОСУДАРСТВЕННЫЙ ИНЖЕНЕРНО-ПЕДАГОГИЧЕСКИЙ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НИВЕРСИТЕТ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47640" y="256500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 И П Л О М Н Ы Й    П Р О Е К 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тему: Стратегическое планирование в управлении коммунальным комплекс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932360" y="4292640"/>
            <a:ext cx="396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УДЕНТ                      Д.С.Гусе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УКОВОДИТЕЛЬ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А.Н.Голубц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348000" y="6308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ижний Новгород 20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Источниками финансир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едиты, выделяемые муниципальным образованиям на подготовку к зим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ства, составляющие 0,1% от восстановительной стоимости жилого фонда, и выделяемые отдельной строкой в бюджетах муниципальных образований для финансирования программы оснащения жилого фонда приборами учета тепловой энерг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редства, формирующиеся в жилищно-коммунальных организациях при оплате населением коммунальных услуг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Разработанные мероприятия позволяю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ократить затраты на содержание и эксплуатацию жиль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беспечить экономические интересы населения при переходе отрасли ЖКХ на безубыточный режим функционирова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беспечить надежное тепло и водоснабжение без расширения существующих энергоисточник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пособствовать созданию экономического механизма стимулирующего процесс энергосбереж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лучшить финансово-хозяйственную деятельность предприятия, повысить прибыльность, увеличить рентабельность, снизить расход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800100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ка стратегического плана организации жилищно-коммунальной сферы на примере ООО «Жилсервис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ъект исследования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щество с ограниченной ответственностью «Жилсервис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мет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стратегическое планирование организаций жилищно-коммунальной сферы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68360" y="347760"/>
            <a:ext cx="518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Цель дипломного проек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549360"/>
            <a:ext cx="8001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Задачи дипломного проек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смотреть теоретические и методические основы стратегического планирования деятельности предприят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анализировать деятельность организации жилищно-коммунальной сферы на примере ООО «Жилсервис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разить оценку воздействия факторов окружающей среды на деятельность предприят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ставить разработку стратегического плана предприятия с учетом влияния факторов внешней сред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сновать выбор стратегического плана предприятия с экономической точки зр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оретическая значим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оекта заключается в изучении основных аспектов стратегического планирования организаций жилищно-коммунальной сфе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актическая значим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сследования состоит в том, что материалы исследования могут быть использованы в работе руководителя, менеджера предприят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сновные понятия и определения дипломного проек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тратегия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грированная модель действий, предназначенных для достижения целей предприятия. Содержанием стратегии служит набор правил принятия решений, используемый для определения основных направлений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атегическое 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это одна из функций управления, которая представляет собой процесс выбора целей организации и путей их достиж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Этапы разработки стратегического планир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ределение миссии и целей организац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ализ среды, включающий в себя сбор информации, анализ сильных и слабых сторон фирмы, а также ее потенциальных возможностей на основании имеющейся внешней и внутренней информац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ыбор стратег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еализация стратеги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ценка и контроль выполн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0100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сновные виды деятельности ООО «Жилсервис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равление многоквартирным дом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обретение коммунальных ресурс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луатация инженерных систем здан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держание жилищного фонда и нежилых помещ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азание услуг населению по сбору средств за коммунальные услуг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казание услуг предприятиям по платежам и расчетам за коммунальные и другие услуг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ые виды хозяйственной и коммерческой деятельност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редложения по повышению эффективности управления организации ООО «Жилсервис»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ершенствование структуры управл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информационной систем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 постоянного повышения квалификации работник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системы подбора, обучения, оценки и перемещения руководящих кадр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та по созданию культуры организац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работка стратегии развития организации на основе анализа ее сильных и слабых сторон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Мероприятия по внедрению энергосберегающих технолог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ение на системах теплоснабжения технологий стабилизационной обработки подпиточной вод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деление контурной и сетевой вод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ение пароструйных насос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тановка предизолированных труб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нение индивидуальных тепловых пунк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ащение муниципального жилого фонда и организаций бюджетной сферы приборами учета и регулирования энергоресурсов и вод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06:34:18Z</dcterms:created>
  <dc:creator>DSGusev</dc:creator>
  <dc:description/>
  <dc:language>en-US</dc:language>
  <cp:lastModifiedBy>Ната</cp:lastModifiedBy>
  <dcterms:modified xsi:type="dcterms:W3CDTF">2010-06-26T09:22:46Z</dcterms:modified>
  <cp:revision>11</cp:revision>
  <dc:subject/>
  <dc:title>Слайд 1</dc:title>
</cp:coreProperties>
</file>