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1A2-DEAC-45A9-8E44-5563A085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CA1-ABB7-4C98-B0CB-B0A2206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E75-149E-42A5-81C8-5D1F1E12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32A-37A8-48BA-ABB1-08887678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8CEE-8D08-473B-A45A-A6436227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2497-1572-448F-A6EA-EE4B9A1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ADEF-D3DA-4FEA-AF8B-F4359E3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33DC-DC88-4CD2-918D-CB532F30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C904-C5DF-46C2-B633-1C3FC5C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472F-BD7F-4A32-BF71-2CF6FEC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EB17-0DD3-4FA6-9CA7-FD691F5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234-FDBC-44C8-AD07-67E5CDA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8CA-7A7F-4C9C-88E5-1E91A46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CDCA-5C39-4D24-930E-E9FD678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7334-5FA2-4AE8-A622-3848623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258-498A-42F2-9646-509A60FC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7AA-EA7F-402B-8103-77C7857A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0BFE-0E1C-43FB-8345-823EA6FE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D675-8B8D-445B-9BB0-C6728FDA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E3EF-E903-4B76-8ED4-553DAC6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6982-E8A2-4181-BF30-26C54475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EC0C-DFFC-452E-8D82-BF3C3D5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686-445F-4130-9A08-1B5B04F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B704-9132-48CF-9B83-25C68FA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A3B8-6313-4359-8E54-BC2BE9C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C44A-8FE8-4265-B54A-77967683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BAA1-9146-4392-BA96-ECA9420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DA1F-9BF4-437E-B290-5D1B1194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8355-F43D-4ADB-9EB5-53E6FFF8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A2E9-75B1-4207-8348-DFA39F3F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D559-8AB3-4C33-B446-CF34E0C3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8DA6-13CD-444F-AF16-96CAC4EB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4DDD-01EA-459F-AC6F-E7E15DE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9D4-34CD-45F3-825A-CB80850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98B3-B64D-49C4-831D-D35E9E0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4EAE-44A6-47FF-B266-06E587C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AC39-EFF3-4B01-950C-F6A7A61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779E-2FAD-40AB-A49E-A262902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3220-2BAF-4B63-93AE-DA80A98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8E63-3656-4D85-BB2E-B2A6343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BA90-1E92-48FB-90F6-DC720A7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C100-5629-4704-889E-12A076FD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3819-607E-4060-B6A4-251F6AE5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6FA9-E7A0-496E-8BDE-EC91F27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6D3-222E-4426-8801-8D56BB5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3982-4550-42DB-B7F2-0C61F4E5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490A-3F86-43D1-9E00-287E343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B227-A258-4F86-B58F-FEA51B9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C8F3-CECA-4867-AD00-B715723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E089-EC1C-47F4-95BC-94DA0E1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352D-7979-40FD-8760-6BF1D56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896D-8442-4040-8A9C-D3BC3B4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054F-27DC-4BEE-9003-2CEA057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1C5D-F569-4804-88E3-C091C576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C55B-DD81-4E2C-9E82-8CD2ADD6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044-2CF5-4DD3-A718-17ECD07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7D01-896F-402D-A6F1-E72A422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527-CB87-45B5-B98B-85DAEC0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B37-2D18-4F8D-8476-2438D38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0C6-674A-4AA5-8488-D5182E3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D00C-39ED-4193-A0B5-143686F153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F83-6CBF-4558-9B0F-CB1EBCEF02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BFC6-0895-449C-980A-8C4213E5EB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54D-B9FE-4B43-824F-9D549845E9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8F8-4AB8-4D59-8AE3-7CEA6CC83B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ная работа</a:t>
            </a:r>
            <a:br>
              <a:rPr sz="6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ему</a:t>
            </a:r>
            <a:br>
              <a:rPr sz="6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3285720"/>
            <a:ext cx="740700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РСОНАЛА В ОРГАНИЗАЦИИ (НА ПРИМЕРЕ ОАО «ЛЕБЕДИНСКИЙ ГОК») </a:t>
            </a: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77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организации системы управления персоналом и системы аттестации персонала на ОАО «Лебединский ГОК»</a:t>
            </a: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Организационная структура службы управления персоналом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1420920" y="2279520"/>
            <a:ext cx="7510320" cy="4370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САНЁК\Pictures\images (4).jpg"/>
          <p:cNvPicPr/>
          <p:nvPr/>
        </p:nvPicPr>
        <p:blipFill>
          <a:blip r:embed="rId2"/>
          <a:stretch/>
        </p:blipFill>
        <p:spPr>
          <a:xfrm>
            <a:off x="4786200" y="321480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Users\САНЁК\Pictures\images (4).jpg"/>
          <p:cNvPicPr/>
          <p:nvPr/>
        </p:nvPicPr>
        <p:blipFill>
          <a:blip r:embed="rId3"/>
          <a:stretch/>
        </p:blipFill>
        <p:spPr>
          <a:xfrm>
            <a:off x="4786200" y="421488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Users\САНЁК\Pictures\images (4).jpg"/>
          <p:cNvPicPr/>
          <p:nvPr/>
        </p:nvPicPr>
        <p:blipFill>
          <a:blip r:embed="rId4"/>
          <a:stretch/>
        </p:blipFill>
        <p:spPr>
          <a:xfrm>
            <a:off x="4786200" y="5429160"/>
            <a:ext cx="72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аттестации персонала на ОАО «Лебединский ГОК»</a:t>
            </a:r>
            <a:br>
              <a:rPr sz="39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правление по кадрам комбината готовит Приказ о проведении аттестации в ОАО «Лебединский ГОК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дени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рка достоверности результатов 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ед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роприятия по завершению аттестации работ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3. Разработка рекомендаций по совершенствованию системы аттестации персонала ОАО»Лебединский ГОК»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«Assessment Сenter»</a:t>
            </a:r>
            <a:r>
              <a:rPr b="0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  <a:ea typeface="Times New Roman"/>
              </a:rPr>
              <a:t>Ассессмент цент – это метод оценки персона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анный на использовании взаимодополняющих метод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иентированный на оценку реальных качеств сотруд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психологических и профессиональных особеннос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ответствия требованиям должностных пози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отенциальных возможностей специалист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дискуссии и командны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в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ловые игры (моделирование ситуаци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левые игры и практические упраж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ы и опросн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новой системы оценки в ОАО "Лебединский ГОК" </a:t>
            </a:r>
            <a:br>
              <a:rPr sz="43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Times New Roman"/>
              </a:rPr>
              <a:t>Этапы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: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34960" y="3285720"/>
            <a:ext cx="7499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ка пробле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ление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ончательный выб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изация, контрол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ды от внедр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434960" y="164268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ачественная оценка сотрудников по компетенция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бор и обучение резерва руководящего состава на предприят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ысокая достоверность результатов оце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нструмент для подготовки программ по обучению и развитию персонал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ешения, связанные с персоналом, становятся «прозрачными» и основанными на учете различных точек зрения, мнений многих сотрудник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ссессмент-центры можно хорошо комбинировать с другими новыми инструментами и создавать всеобъемлющую основу для принятия решений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ышеизложенное доказывает теоретическую и практическую значимость  проделанной работы и позволяет утверждать, что наилучший экономический эффект деятельности  организации в большей степени определяется системой управления персоналом организ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8480" y="26427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7200"/>
            </a:b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1. Теоретические аспекты аттестации персонала в организ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2786040"/>
            <a:ext cx="749952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ттестация персонала – важная составная часть управления персоналом, наиболее эффективная форма оценки кадров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ЦЕЛИ АТТЕСТАЦИИ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сотрудников для дальнейшего продвижени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профессиональной пригод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предприят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ранслирование единых корпоративных целей, стандартов и ценносте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соответствия результативности и компетенции персонала целям и требованиям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выполнения профессиональных функци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АТТЕСТ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вар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п формализации методик, стандартов, прав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«Положения об аттестации персонал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ная аттестац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готов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дение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ведение итогов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ценки качества работы аттестуемы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960" y="2143080"/>
            <a:ext cx="7499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становление стандартов и норматив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на основании письменных характеристик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очные шкал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рабочего повед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2. Анализ системы аттестации персонала на комбинате ОАО «Лебединский ГОК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8" name="Содержимое 16" descr="n1photo.pl.gif"/>
          <p:cNvPicPr/>
          <p:nvPr/>
        </p:nvPicPr>
        <p:blipFill>
          <a:blip r:embed="rId1"/>
          <a:stretch/>
        </p:blipFill>
        <p:spPr>
          <a:xfrm>
            <a:off x="2786040" y="2357280"/>
            <a:ext cx="464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характеристика ОАО «Лебединский ГОК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АО «Лебединский горно-обогатительный комбинат» (ЛГОК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входит в состав холдинга «МЕТАЛЛОИНВЕСТ» и является крупнейшим в России предприятием по добыче и обогащению железной руды и производству высококачественного сырья для черной металлург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2" name="Содержимое 14" descr="images (1).jpg"/>
          <p:cNvPicPr/>
          <p:nvPr/>
        </p:nvPicPr>
        <p:blipFill>
          <a:blip r:embed="rId1"/>
          <a:stretch/>
        </p:blipFill>
        <p:spPr>
          <a:xfrm>
            <a:off x="2000160" y="1214280"/>
            <a:ext cx="1071720" cy="10004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5"/>
          <p:cNvSpPr/>
          <p:nvPr/>
        </p:nvSpPr>
        <p:spPr>
          <a:xfrm>
            <a:off x="4505760" y="157176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р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C:\Users\САНЁК\Pictures\15361.jpeg"/>
          <p:cNvPicPr/>
          <p:nvPr/>
        </p:nvPicPr>
        <p:blipFill>
          <a:blip r:embed="rId2"/>
          <a:stretch/>
        </p:blipFill>
        <p:spPr>
          <a:xfrm>
            <a:off x="2000160" y="2357280"/>
            <a:ext cx="1047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8"/>
          <p:cNvSpPr/>
          <p:nvPr/>
        </p:nvSpPr>
        <p:spPr>
          <a:xfrm>
            <a:off x="457200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концентрата железорудного с массовой долей железа менее 69,5% и более 69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:\Users\САНЁК\Pictures\images (2).jpg"/>
          <p:cNvPicPr/>
          <p:nvPr/>
        </p:nvPicPr>
        <p:blipFill>
          <a:blip r:embed="rId3"/>
          <a:stretch/>
        </p:blipFill>
        <p:spPr>
          <a:xfrm>
            <a:off x="2000160" y="3714840"/>
            <a:ext cx="1047960" cy="928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0"/>
          <p:cNvSpPr/>
          <p:nvPr/>
        </p:nvSpPr>
        <p:spPr>
          <a:xfrm>
            <a:off x="4397400" y="40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окаты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1"/>
          <p:cNvSpPr/>
          <p:nvPr/>
        </p:nvSpPr>
        <p:spPr>
          <a:xfrm>
            <a:off x="45720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горячебрикетированного железа (ГБЖ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C:\Users\САНЁК\Pictures\images (3).jpg"/>
          <p:cNvPicPr/>
          <p:nvPr/>
        </p:nvPicPr>
        <p:blipFill>
          <a:blip r:embed="rId4"/>
          <a:stretch/>
        </p:blipFill>
        <p:spPr>
          <a:xfrm>
            <a:off x="2000160" y="4857840"/>
            <a:ext cx="10717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САНЁК\Pictures\images (4).jpg"/>
          <p:cNvPicPr/>
          <p:nvPr/>
        </p:nvPicPr>
        <p:blipFill>
          <a:blip r:embed="rId5"/>
          <a:stretch/>
        </p:blipFill>
        <p:spPr>
          <a:xfrm>
            <a:off x="3214800" y="142884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САНЁК\Pictures\images (4).jpg"/>
          <p:cNvPicPr/>
          <p:nvPr/>
        </p:nvPicPr>
        <p:blipFill>
          <a:blip r:embed="rId6"/>
          <a:stretch/>
        </p:blipFill>
        <p:spPr>
          <a:xfrm>
            <a:off x="3214800" y="250020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САНЁК\Pictures\images (4).jpg"/>
          <p:cNvPicPr/>
          <p:nvPr/>
        </p:nvPicPr>
        <p:blipFill>
          <a:blip r:embed="rId7"/>
          <a:stretch/>
        </p:blipFill>
        <p:spPr>
          <a:xfrm>
            <a:off x="3214800" y="378612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C:\Users\САНЁК\Pictures\images (4).jpg"/>
          <p:cNvPicPr/>
          <p:nvPr/>
        </p:nvPicPr>
        <p:blipFill>
          <a:blip r:embed="rId8"/>
          <a:stretch/>
        </p:blipFill>
        <p:spPr>
          <a:xfrm>
            <a:off x="3214800" y="4929120"/>
            <a:ext cx="1361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67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основание комбината, начало горно-капитальных рабо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1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– введен в эксплуатацию Лебединский кварцитный карьер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2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введена в эксплуатацию 1-я очередь горно-обогатительного комбината, получена первая тонна железорудного концентрат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95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начато строительство первой очереди цеха горячебрикетированного железа (ЦГБЖ-1), получена первая продукц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3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добыта миллиардная тонна железистых кварцитов, внедрена единая автоматизированная информационная система управления производство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6 год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полномочия единоличного исполнительного органа ОАО «Лебединский ГОК» переданы управляющей компании ООО «УК МЕТАЛЛОИНВЕСТ»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5:23:16Z</dcterms:created>
  <dc:creator>САНЁК</dc:creator>
  <dc:description/>
  <dc:language>en-US</dc:language>
  <cp:lastModifiedBy>Ната</cp:lastModifiedBy>
  <dcterms:modified xsi:type="dcterms:W3CDTF">2010-06-27T07:58:36Z</dcterms:modified>
  <cp:revision>58</cp:revision>
  <dc:subject/>
  <dc:title>АТТЕСТАЦИЯ ПЕРСОНАЛА В ОРГАНИЗАЦИИ (НА ПРИМЕРЕ ОАО «ЛЕБЕДИНСКИЙ ГОК»)</dc:title>
</cp:coreProperties>
</file>