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AE7-5C75-4032-B06F-56D370198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9B5-B5CE-4DC1-8208-670DCDE6F4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7CF-2C90-4DD9-9982-76EE2F4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C7E-A8A2-465E-B76A-CAEF5C0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2A7-8564-488F-B71D-0437E245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80D-6D27-4918-8EF4-89F5335F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FA1-A085-4F3D-981A-D5DCEC3B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DB9C-67CD-45CA-9DF7-72AF82F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006-429B-4F2D-9B77-7E9E3C5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93A6-0CF0-4525-BB12-E94DB34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B01-B377-44B3-A8B8-03F44B6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2C0-92A5-4A9A-9C0E-F2BB6135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D214-F5A8-4BAA-B70F-1475956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732-3519-42A4-A34F-DE5E4C6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BC3D-97D7-4E3F-91D3-A0CF6397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24C7-AF4C-42F5-86B4-0669DE82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B56A-2503-42BD-BFF1-F0DF0EBA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6F1-5DA8-465B-BE3F-3FCBE19C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7170-41D9-40EE-B3B9-58461D78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19AC1-E047-4FC7-BECB-E6286337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992C9-4CD3-4A7A-987F-4B24AB47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0ED3C-BEFE-41BA-9A10-108D40A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5E740-C6B4-4370-A7FF-2014FD4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BE9E3-9582-4921-BFFA-7FB3FF25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E06-BACA-4782-BB76-4140FCA7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CBB49-17DC-4870-94EC-D59929C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784EF-4DCA-417A-B25A-4D0FB34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77EBD-BA5B-42EB-A919-254A4E6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846E1-3CD7-4C57-A489-0516745A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3DE28-AA4B-459F-97A5-E048E637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8F966-EAA8-4AB8-9884-01281C1B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6F1CF-13BF-4A57-B8D0-26E208B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7771-DA85-4BDA-9A9C-9FFBFBC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A576-08A2-4224-B8C5-03481081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734A-8E38-4FDA-84A2-C3BFAFBF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C6-A028-45AA-8B64-AB040B7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4666-6908-4CAF-BED3-8C6FE410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A695-4F0C-4077-AD5A-BC6DA95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05F8-C0E9-4B55-B056-61159E17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2548-23FA-430D-B969-3299596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C60F-FAFA-4DAB-8754-1F5C24F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9D52-9E9F-4755-AF76-EF0AC151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A559-7143-4CE1-AC7D-60DCCE47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3775-0AD8-4ACA-B313-27514CD9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74CA-B5D8-40D2-B353-036862F5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1405-C82F-4B0B-B3A7-5465D202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AA0-B39E-44E2-BD0B-792FA59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9CE3-957B-4434-8C39-8B7305B7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52ED-1233-400D-AD12-F885A833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51DE-9249-4D42-ADB7-9E6EEA4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CAE5-47CA-4701-B372-27E45A7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19C4-7B2F-4DBD-8095-774B970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61C5-A1C2-4626-AD89-107964E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12583-0568-4F4A-A7F0-C19B37A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8B435-1F6B-4CC1-AAFD-19E0AEE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3D74-AE25-44F6-B874-08BB088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F579-261D-4246-9233-C8951F1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FC6-6A8C-45DC-94D6-2273497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15B0-92B1-4D09-9069-863F87E2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FBB3A-DF80-4300-A981-A0E37B6D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5A7C-1763-4B74-9A7E-EFDC9469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14374-6FF7-428F-A54B-6969800A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B6B2D-C51A-4F54-8484-7E6D9AF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13A1-6DDA-4C93-A818-04896CB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742A-3E72-4CBF-8939-C9FF6ED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6F9A-C73E-4935-8EEE-8725826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42F15-3F3B-4220-8FF6-CB4AEDA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138F3-C9BD-4C19-B2F2-5BFE392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454-7EC6-4840-9B5F-4B1ABC19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5C36-847D-475E-8BC5-48BDCE9C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B502-F666-4C17-B730-950CAC7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51628-EA76-4544-96ED-3D1D0034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1E482-411F-4E13-8431-5D8AB3F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1836-47E7-4D1F-A230-08728AF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5FA4-5F74-4EAC-9973-EE6A1EA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8E49E-42AD-4F52-9360-A3FE75CE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1C58-F44E-428D-B9A4-0C9EF156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41D7-AEBA-4DAD-93EA-FFF495C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F7550-2F5B-4A84-8C7D-D5AF574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E40-B851-47DF-B209-8D738EF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3F0C-DBD9-4C00-AE7D-1996885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B88A-D6C0-4DAF-8EBF-EA4B5A0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C21D-23A4-4D6D-B24A-DF274FA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67D0-64D3-4EA5-8758-76AC7DC4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AA96-308E-4E2C-B76B-BC6DFADB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E771-2374-4E35-89F9-7DDA5949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2FE0-698D-48B4-BE51-7928C71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ABB0-56B2-4544-BE07-3C0FB750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9F72-9489-4875-909E-CDE0A8D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FB3A0-36DF-42F7-B0C8-9B24A1D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739-1B42-4210-9451-D92006B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9F4EE-C8DB-4DDC-B76B-975E8293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D598-2446-4159-B077-DF98B7D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4A38B-22CF-4EAC-B619-3462ED9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653E6-A6E3-4954-B605-39B1381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BFAF-CF2A-4110-8283-A2986A5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50C7F-ECFA-4F33-AAA7-F9787CD3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8B55-007E-4BDC-94F1-B41DD257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ABF2-1AB3-4E36-A748-5B4BE1A76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DE0B-3E90-4C09-955D-8C94AA162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D27-E13D-4F41-A186-FEB614BBFE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819F-F3EA-405B-8142-AA2D22F038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7C4-5053-4F9C-966A-67EC1E8C97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30E-F45E-499E-993E-94798A8E3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9648-FC67-4168-8320-EB59396943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F83-45D2-48D6-BD6D-D778666D57F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Поражен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желудочно-кишечного тракта, вызванные паразитами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3" name="Picture 9" descr="j0240719"/>
          <p:cNvPicPr/>
          <p:nvPr/>
        </p:nvPicPr>
        <p:blipFill>
          <a:blip r:embed="rId1"/>
          <a:stretch/>
        </p:blipFill>
        <p:spPr>
          <a:xfrm>
            <a:off x="611280" y="4292640"/>
            <a:ext cx="1438200" cy="225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109309801542242de1ae828"/>
          <p:cNvPicPr/>
          <p:nvPr/>
        </p:nvPicPr>
        <p:blipFill>
          <a:blip r:embed="rId2"/>
          <a:stretch/>
        </p:blipFill>
        <p:spPr>
          <a:xfrm>
            <a:off x="6877080" y="476280"/>
            <a:ext cx="1897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resC4E8D078-0A01-022A-00E8-24FD3C667F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нитарно – просветительская рабо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рьба с моллюсками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теринарные мероприятия, связанные с оздоровлением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Тениаринх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s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eniarhynchus saginatu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6" descr="цепень"/>
          <p:cNvPicPr/>
          <p:nvPr/>
        </p:nvPicPr>
        <p:blipFill>
          <a:blip r:embed="rId1"/>
          <a:stretch/>
        </p:blipFill>
        <p:spPr>
          <a:xfrm>
            <a:off x="179280" y="2205000"/>
            <a:ext cx="3888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5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ного диагноза необходимо обнаружение в фекалиях зрелых члеников  и  подсчёт количества боковых ветвей м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нельзя отличить от яиц свиного цеп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окупать мяса, не прошедшего экспертиз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в пищу плохо проваренного или прожаренного мя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8" name="Picture 12" descr="ULITKa_o"/>
          <p:cNvPicPr/>
          <p:nvPr/>
        </p:nvPicPr>
        <p:blipFill>
          <a:blip r:embed="rId1"/>
          <a:stretch/>
        </p:blipFill>
        <p:spPr>
          <a:xfrm>
            <a:off x="4643280" y="4221000"/>
            <a:ext cx="26258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0" name="Picture 4" descr="j0149627"/>
          <p:cNvPicPr/>
          <p:nvPr/>
        </p:nvPicPr>
        <p:blipFill>
          <a:blip r:embed="rId1"/>
          <a:stretch/>
        </p:blipFill>
        <p:spPr>
          <a:xfrm>
            <a:off x="4319640" y="3429000"/>
            <a:ext cx="4824360" cy="3429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предупреждающие заражение крупного рогатого ско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явление и лечение больных, особенно работающих в животновод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тройка уборных, не позволяющих скоту иметь доступ к фекалия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храна территории от загрязнения фекалиями челове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направленные на предупреждение заражения человека, - организация ветеринарной экспертизы, осмотр туш рогатого скота на мясокомбинатах, бойнях, рынках с последующей выбраков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Monotype Corsiva"/>
              </a:rPr>
              <a:t>Трихоцефалез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47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chocephalus trichiu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33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Жизненный цикл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власоглава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1780920" cy="2290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28600" cy="1495440"/>
          </a:xfrm>
          <a:prstGeom prst="rect">
            <a:avLst/>
          </a:prstGeom>
          <a:ln w="0">
            <a:noFill/>
          </a:ln>
        </p:spPr>
      </p:pic>
      <p:sp>
        <p:nvSpPr>
          <p:cNvPr id="578" name="Line 10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5580000" y="3789360"/>
            <a:ext cx="79236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780920" cy="2290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5"/>
          <p:cNvSpPr/>
          <p:nvPr/>
        </p:nvSpPr>
        <p:spPr>
          <a:xfrm>
            <a:off x="179280" y="48564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больного 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5654520" y="48675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здоров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в фекалиях. При микроскопии кала обнаруживают яйца возбудителя размерами 50х20 мкм, по форме напоминающие лимон. Половозрелые власоглавы имеют длину 3-5 см и иногда видны при ректороманоскоп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doc1"/>
          <p:cNvPicPr/>
          <p:nvPr/>
        </p:nvPicPr>
        <p:blipFill>
          <a:blip r:embed="rId1"/>
          <a:stretch/>
        </p:blipFill>
        <p:spPr>
          <a:xfrm>
            <a:off x="1403280" y="3645000"/>
            <a:ext cx="2051280" cy="28382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блюдение правил личной гигие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тьё рук, овощей фр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отребление кипячёной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нитарно – просветительна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ая дегельминтизация населения с последующим уничтожением паразит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звреживание фекалий, используемых как удобрение путём компостир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среды от загрязнения (устройство канализации, водопровод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Аскарид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caris lumbricoide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6" descr="15084"/>
          <p:cNvPicPr/>
          <p:nvPr/>
        </p:nvPicPr>
        <p:blipFill>
          <a:blip r:embed="rId1"/>
          <a:stretch/>
        </p:blipFill>
        <p:spPr>
          <a:xfrm>
            <a:off x="684360" y="1628640"/>
            <a:ext cx="3051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0"/>
            <a:ext cx="7272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езентацию 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удент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106 групп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бного  факульте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Белякова Рег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Прямая кишка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319280" y="404640"/>
            <a:ext cx="48243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a5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Рентгенограмма круглого червя аскари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2"/>
          <p:cNvPicPr/>
          <p:nvPr/>
        </p:nvPicPr>
        <p:blipFill>
          <a:blip r:embed="rId1"/>
          <a:stretch/>
        </p:blipFill>
        <p:spPr>
          <a:xfrm>
            <a:off x="90000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Головной мозг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аскарид в испражн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гочная стадия аскаридоза: гиперэозинофилия и микроскопия мокроты (обнаруживают личинки аскари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ологические методы (реакции преципитации, РИГА, РС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j0305257"/>
          <p:cNvPicPr/>
          <p:nvPr/>
        </p:nvPicPr>
        <p:blipFill>
          <a:blip r:embed="rId4"/>
          <a:stretch/>
        </p:blipFill>
        <p:spPr>
          <a:xfrm>
            <a:off x="7121520" y="620640"/>
            <a:ext cx="161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Фасциолёз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emato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тря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gin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sciola hepa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612720" y="1986120"/>
            <a:ext cx="3367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45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5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диагностическое значение имеют иммунологические реакции: внутрикожная аллергическая проба, реакции преципи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лабой инвазии при исследовании кала применяют метод осаждения Горячева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потреблении в пищу пораженной фасциолами печени скота в кале могут быть обнаружены транзитные яйца. В этих случаях необходим повторный анализ через две недели после исключения из рацион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для питья сырую воду, особенно из стоячих водоём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щательно мыть зелень и овощ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pe00014_"/>
          <p:cNvPicPr/>
          <p:nvPr/>
        </p:nvPicPr>
        <p:blipFill>
          <a:blip r:embed="rId1"/>
          <a:stretch/>
        </p:blipFill>
        <p:spPr>
          <a:xfrm>
            <a:off x="2627280" y="422100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1:41:05Z</dcterms:created>
  <dc:creator>1</dc:creator>
  <dc:description/>
  <dc:language>en-US</dc:language>
  <cp:lastModifiedBy>Ната</cp:lastModifiedBy>
  <dcterms:modified xsi:type="dcterms:W3CDTF">2010-08-07T16:05:07Z</dcterms:modified>
  <cp:revision>14</cp:revision>
  <dc:subject/>
  <dc:title>Поражения  желудочно-кишечного тракта, вызванные паразитами </dc:title>
</cp:coreProperties>
</file>