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BCB85-E40B-45B1-958E-39B55CEA7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628A1-30E9-4672-97AC-23694D921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987AE-9510-4F27-9867-B8D7196D7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D4D1A-C4CB-4150-B7B1-7C92E43F1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FC3C0-79B3-417E-A29C-D1886EF36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B8DEE-1B84-45CE-81CD-80CEF4615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31C53-4E8C-416E-8A6F-D27C36EB6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8CB15-D99C-4AE7-A6E9-778EF940D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EDD4C-3021-4273-9736-1C11632C2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ADDC3-5A4F-43FC-AF18-A2EF0D893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8DE05-E3AE-42DD-8014-DA0718891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82897-EA9A-4F7D-B831-735A43914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34010-B1D4-460F-B48E-2AE164EA6CEA}" type="slidenum">
              <a:rPr b="0" lang="uk-U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71680" y="6426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600" spc="-1" strike="noStrike">
                <a:solidFill>
                  <a:srgbClr val="000000"/>
                </a:solidFill>
                <a:latin typeface="Calibri"/>
              </a:rPr>
              <a:t>Тема курсової :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57200" y="2285640"/>
            <a:ext cx="640080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6000" spc="-1" strike="noStrike">
                <a:solidFill>
                  <a:srgbClr val="898989"/>
                </a:solidFill>
                <a:latin typeface="Calibri"/>
              </a:rPr>
              <a:t>Експертна  система </a:t>
            </a:r>
            <a:br>
              <a:rPr sz="6000"/>
            </a:br>
            <a:r>
              <a:rPr b="1" i="1" lang="uk-UA" sz="6000" spc="-1" strike="noStrike">
                <a:solidFill>
                  <a:srgbClr val="898989"/>
                </a:solidFill>
                <a:latin typeface="Calibri"/>
              </a:rPr>
              <a:t>діагностування хвороби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alibri"/>
              </a:rPr>
              <a:t>Оболонка для створення ЕС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SWIN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Місце для вмісту 3" descr=""/>
          <p:cNvPicPr/>
          <p:nvPr/>
        </p:nvPicPr>
        <p:blipFill>
          <a:blip r:embed="rId1"/>
          <a:stretch/>
        </p:blipFill>
        <p:spPr>
          <a:xfrm>
            <a:off x="714240" y="1428840"/>
            <a:ext cx="800100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alibri"/>
              </a:rPr>
              <a:t>Схема проведення діагностуванн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3" descr="C:\Users\Skalotskiy\Desktop\Безымянный.jpg"/>
          <p:cNvPicPr/>
          <p:nvPr/>
        </p:nvPicPr>
        <p:blipFill>
          <a:blip r:embed="rId1"/>
          <a:stretch/>
        </p:blipFill>
        <p:spPr>
          <a:xfrm>
            <a:off x="1128600" y="2347920"/>
            <a:ext cx="688680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42600" y="285480"/>
            <a:ext cx="800100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alibri"/>
              </a:rPr>
              <a:t>Як розраховуються варіанти прави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42960" y="1142640"/>
            <a:ext cx="785808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595959"/>
                </a:solidFill>
                <a:latin typeface="Calibri"/>
              </a:rPr>
              <a:t>Маєм 10 правильних відповіде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595959"/>
                </a:solidFill>
                <a:latin typeface="Calibri"/>
              </a:rPr>
              <a:t>1 2 3 4 5 6 7 8 9 10 -100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595959"/>
                </a:solidFill>
                <a:latin typeface="Calibri"/>
              </a:rPr>
              <a:t>Пропускаєм по 1 відповіді(одна відповідь не правильна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595959"/>
                </a:solidFill>
                <a:latin typeface="Calibri"/>
              </a:rPr>
              <a:t>У нас получаеться 10 комбінацій із 9 відповідей(пр. 1 2 _ 4 5 6 7 8 9 10) – 90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595959"/>
                </a:solidFill>
                <a:latin typeface="Calibri"/>
              </a:rPr>
              <a:t>Із цих нових комбінацій пропускає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n</a:t>
            </a:r>
            <a:r>
              <a:rPr b="0" lang="uk-UA" sz="3200" spc="-1" strike="noStrike">
                <a:solidFill>
                  <a:srgbClr val="595959"/>
                </a:solidFill>
                <a:latin typeface="Calibri"/>
              </a:rPr>
              <a:t>+1</a:t>
            </a: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 </a:t>
            </a:r>
            <a:r>
              <a:rPr b="0" lang="uk-UA" sz="3200" spc="-1" strike="noStrike">
                <a:solidFill>
                  <a:srgbClr val="595959"/>
                </a:solidFill>
                <a:latin typeface="Calibri"/>
              </a:rPr>
              <a:t>номер. Унас получиться 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785880" y="428760"/>
            <a:ext cx="7786800" cy="59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595959"/>
                </a:solidFill>
                <a:latin typeface="Calibri"/>
              </a:rPr>
              <a:t>Візьмем комбінаціо яку показували в прикладі(1 2 _ 4 5 6 7 8 9 10)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595959"/>
                </a:solidFill>
                <a:latin typeface="Calibri"/>
              </a:rPr>
              <a:t>_ 2 _ 4 5 6 7 8 9 10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595959"/>
                </a:solidFill>
                <a:latin typeface="Calibri"/>
              </a:rPr>
              <a:t>1 _ _ 4 5 6 7 8 9 10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595959"/>
                </a:solidFill>
                <a:latin typeface="Calibri"/>
              </a:rPr>
              <a:t>1 2 _ _ 5 6 7 8 9 10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595959"/>
                </a:solidFill>
                <a:latin typeface="Calibri"/>
              </a:rPr>
              <a:t>1 2 _ 4 _ 6 7 8 9 10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595959"/>
                </a:solidFill>
                <a:latin typeface="Calibri"/>
              </a:rPr>
              <a:t>1 2 _ 4 5 _ 7 8 9 10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595959"/>
                </a:solidFill>
                <a:latin typeface="Calibri"/>
              </a:rPr>
              <a:t>1 2 _ 4 5 6 _ 8 9 10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595959"/>
                </a:solidFill>
                <a:latin typeface="Calibri"/>
              </a:rPr>
              <a:t>1 2 _ 4 5 6 7 _ 9 10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595959"/>
                </a:solidFill>
                <a:latin typeface="Calibri"/>
              </a:rPr>
              <a:t>1 2 _ 4 5 6 7 8 _ 10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595959"/>
                </a:solidFill>
                <a:latin typeface="Calibri"/>
              </a:rPr>
              <a:t>1 2 _ 4 5 6 7 8 9 _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595959"/>
                </a:solidFill>
                <a:latin typeface="Calibri"/>
              </a:rPr>
              <a:t>Тобто відповідьт пацієнта буде розцінюватись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595959"/>
                </a:solidFill>
                <a:latin typeface="Calibri"/>
              </a:rPr>
              <a:t>із ймовірністю 80 %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928440" y="571320"/>
            <a:ext cx="7643880" cy="55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595959"/>
                </a:solidFill>
                <a:latin typeface="Calibri"/>
              </a:rPr>
              <a:t>Усі варіанти будуть рахуватись до того моменту поки не залишиться 4 відповіді із 10. Кількість варіантів </a:t>
            </a:r>
            <a:r>
              <a:rPr b="1" lang="uk-UA" sz="3200" spc="-1" strike="noStrike">
                <a:solidFill>
                  <a:srgbClr val="595959"/>
                </a:solidFill>
                <a:latin typeface="Calibri"/>
              </a:rPr>
              <a:t>2178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57120" y="-36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Вікно діагнозуванн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C:\Users\Skalotskiy\Desktop\Безымянный.jpg"/>
          <p:cNvPicPr/>
          <p:nvPr/>
        </p:nvPicPr>
        <p:blipFill>
          <a:blip r:embed="rId1"/>
          <a:stretch/>
        </p:blipFill>
        <p:spPr>
          <a:xfrm>
            <a:off x="1143000" y="776160"/>
            <a:ext cx="6643800" cy="586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Діагноз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3" descr="C:\Users\Skalotskiy\Desktop\Безымянный.jpg"/>
          <p:cNvPicPr/>
          <p:nvPr/>
        </p:nvPicPr>
        <p:blipFill>
          <a:blip r:embed="rId1"/>
          <a:stretch/>
        </p:blipFill>
        <p:spPr>
          <a:xfrm>
            <a:off x="500040" y="1928880"/>
            <a:ext cx="8298000" cy="4379760"/>
          </a:xfrm>
          <a:prstGeom prst="rect">
            <a:avLst/>
          </a:prstGeom>
          <a:ln w="0">
            <a:noFill/>
          </a:ln>
        </p:spPr>
      </p:pic>
      <p:cxnSp>
        <p:nvCxnSpPr>
          <p:cNvPr id="55" name="Сполучна лінія уступом 7"/>
          <p:cNvCxnSpPr/>
          <p:nvPr/>
        </p:nvCxnSpPr>
        <p:spPr>
          <a:xfrm flipV="1" rot="16200000">
            <a:off x="4642920" y="3856680"/>
            <a:ext cx="929160" cy="929520"/>
          </a:xfrm>
          <a:prstGeom prst="bentConnector3">
            <a:avLst>
              <a:gd name="adj1" fmla="val -1627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56" name="Округлений прямокутник 18"/>
          <p:cNvGrpSpPr/>
          <p:nvPr/>
        </p:nvGrpSpPr>
        <p:grpSpPr>
          <a:xfrm>
            <a:off x="5553000" y="4054320"/>
            <a:ext cx="2536920" cy="1590840"/>
            <a:chOff x="5553000" y="4054320"/>
            <a:chExt cx="2536920" cy="1590840"/>
          </a:xfrm>
        </p:grpSpPr>
        <p:pic>
          <p:nvPicPr>
            <p:cNvPr id="57" name="Округлений прямокутник 18" descr=""/>
            <p:cNvPicPr/>
            <p:nvPr/>
          </p:nvPicPr>
          <p:blipFill>
            <a:blip r:embed="rId2"/>
            <a:stretch/>
          </p:blipFill>
          <p:spPr>
            <a:xfrm>
              <a:off x="5553000" y="4054320"/>
              <a:ext cx="2536920" cy="159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5648400" y="4148280"/>
              <a:ext cx="2347920" cy="140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N-</a:t>
              </a:r>
              <a:r>
                <a:rPr b="0" lang="uk-UA" sz="1800" spc="-1" strike="noStrike">
                  <a:solidFill>
                    <a:srgbClr val="000000"/>
                  </a:solidFill>
                  <a:latin typeface="Calibri"/>
                </a:rPr>
                <a:t>кількість правильних відповіде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Calibri"/>
                </a:rPr>
                <a:t>Результат=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N*100/11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4T11:25:45Z</dcterms:created>
  <dc:creator>Skalotskiy</dc:creator>
  <dc:description/>
  <dc:language>en-US</dc:language>
  <cp:lastModifiedBy>Skalotskiy</cp:lastModifiedBy>
  <dcterms:modified xsi:type="dcterms:W3CDTF">2010-05-24T12:23:14Z</dcterms:modified>
  <cp:revision>8</cp:revision>
  <dc:subject/>
  <dc:title>Тема курсової</dc:title>
</cp:coreProperties>
</file>