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notesSlide9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_rels/presentation.xml.rels" ContentType="application/vnd.openxmlformats-package.relationships+xml"/>
  <Override PartName="/ppt/media/image257.wmf" ContentType="image/x-wmf"/>
  <Override PartName="/ppt/media/image394.wmf" ContentType="image/x-wmf"/>
  <Override PartName="/ppt/media/image432.wmf" ContentType="image/x-wmf"/>
  <Override PartName="/ppt/media/image256.wmf" ContentType="image/x-wmf"/>
  <Override PartName="/ppt/media/image393.wmf" ContentType="image/x-wmf"/>
  <Override PartName="/ppt/media/image431.wmf" ContentType="image/x-wmf"/>
  <Override PartName="/ppt/media/image255.wmf" ContentType="image/x-wmf"/>
  <Override PartName="/ppt/media/image392.wmf" ContentType="image/x-wmf"/>
  <Override PartName="/ppt/media/image430.wmf" ContentType="image/x-wmf"/>
  <Override PartName="/ppt/media/image254.wmf" ContentType="image/x-wmf"/>
  <Override PartName="/ppt/media/image391.wmf" ContentType="image/x-wmf"/>
  <Override PartName="/ppt/media/image253.wmf" ContentType="image/x-wmf"/>
  <Override PartName="/ppt/media/image390.wmf" ContentType="image/x-wmf"/>
  <Override PartName="/ppt/media/image419.wmf" ContentType="image/x-wmf"/>
  <Override PartName="/ppt/media/image252.wmf" ContentType="image/x-wmf"/>
  <Override PartName="/ppt/media/image418.wmf" ContentType="image/x-wmf"/>
  <Override PartName="/ppt/media/image251.wmf" ContentType="image/x-wmf"/>
  <Override PartName="/ppt/media/image417.wmf" ContentType="image/x-wmf"/>
  <Override PartName="/ppt/media/image250.wmf" ContentType="image/x-wmf"/>
  <Override PartName="/ppt/media/image416.wmf" ContentType="image/x-wmf"/>
  <Override PartName="/ppt/media/image249.wmf" ContentType="image/x-wmf"/>
  <Override PartName="/ppt/media/image121.wmf" ContentType="image/x-wmf"/>
  <Override PartName="/ppt/media/image386.wmf" ContentType="image/x-wmf"/>
  <Override PartName="/ppt/media/image424.wmf" ContentType="image/x-wmf"/>
  <Override PartName="/ppt/media/image248.wmf" ContentType="image/x-wmf"/>
  <Override PartName="/ppt/media/image120.wmf" ContentType="image/x-wmf"/>
  <Override PartName="/ppt/media/image385.wmf" ContentType="image/x-wmf"/>
  <Override PartName="/ppt/media/image423.wmf" ContentType="image/x-wmf"/>
  <Override PartName="/ppt/media/image247.wmf" ContentType="image/x-wmf"/>
  <Override PartName="/ppt/media/image384.wmf" ContentType="image/x-wmf"/>
  <Override PartName="/ppt/media/image422.wmf" ContentType="image/x-wmf"/>
  <Override PartName="/ppt/media/image246.wmf" ContentType="image/x-wmf"/>
  <Override PartName="/ppt/media/image383.wmf" ContentType="image/x-wmf"/>
  <Override PartName="/ppt/media/image421.wmf" ContentType="image/x-wmf"/>
  <Override PartName="/ppt/media/image245.wmf" ContentType="image/x-wmf"/>
  <Override PartName="/ppt/media/image382.wmf" ContentType="image/x-wmf"/>
  <Override PartName="/ppt/media/image420.wmf" ContentType="image/x-wmf"/>
  <Override PartName="/ppt/media/image244.wmf" ContentType="image/x-wmf"/>
  <Override PartName="/ppt/media/image381.wmf" ContentType="image/x-wmf"/>
  <Override PartName="/ppt/media/image243.wmf" ContentType="image/x-wmf"/>
  <Override PartName="/ppt/media/image380.wmf" ContentType="image/x-wmf"/>
  <Override PartName="/ppt/media/image409.wmf" ContentType="image/x-wmf"/>
  <Override PartName="/ppt/media/image242.wmf" ContentType="image/x-wmf"/>
  <Override PartName="/ppt/media/image408.wmf" ContentType="image/x-wmf"/>
  <Override PartName="/ppt/media/image241.wmf" ContentType="image/x-wmf"/>
  <Override PartName="/ppt/media/image407.wmf" ContentType="image/x-wmf"/>
  <Override PartName="/ppt/media/image240.wmf" ContentType="image/x-wmf"/>
  <Override PartName="/ppt/media/image406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166.wmf" ContentType="image/x-wmf"/>
  <Override PartName="/ppt/media/image164.wmf" ContentType="image/x-wmf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61.wmf" ContentType="image/x-wmf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3.wmf" ContentType="image/x-wmf"/>
  <Override PartName="/ppt/media/image319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309.wmf" ContentType="image/x-wmf"/>
  <Override PartName="/ppt/media/image142.wmf" ContentType="image/x-wmf"/>
  <Override PartName="/ppt/media/image308.wmf" ContentType="image/x-wmf"/>
  <Override PartName="/ppt/media/image141.wmf" ContentType="image/x-wmf"/>
  <Override PartName="/ppt/media/image269.wmf" ContentType="image/x-wmf"/>
  <Override PartName="/ppt/media/image307.wmf" ContentType="image/x-wmf"/>
  <Override PartName="/ppt/media/image140.wmf" ContentType="image/x-wmf"/>
  <Override PartName="/ppt/media/image268.wmf" ContentType="image/x-wmf"/>
  <Override PartName="/ppt/media/image306.wmf" ContentType="image/x-wmf"/>
  <Override PartName="/ppt/media/image139.wmf" ContentType="image/x-wmf"/>
  <Override PartName="/ppt/media/image138.wmf" ContentType="image/x-wmf"/>
  <Override PartName="/ppt/media/image137.wmf" ContentType="image/x-wmf"/>
  <Override PartName="/ppt/media/image136.wmf" ContentType="image/x-wmf"/>
  <Override PartName="/ppt/media/image135.wmf" ContentType="image/x-wmf"/>
  <Override PartName="/ppt/media/image134.wmf" ContentType="image/x-wmf"/>
  <Override PartName="/ppt/media/image399.wmf" ContentType="image/x-wmf"/>
  <Override PartName="/ppt/media/image437.wmf" ContentType="image/x-wmf"/>
  <Override PartName="/ppt/media/image133.wmf" ContentType="image/x-wmf"/>
  <Override PartName="/ppt/media/image398.wmf" ContentType="image/x-wmf"/>
  <Override PartName="/ppt/media/image436.wmf" ContentType="image/x-wmf"/>
  <Override PartName="/ppt/media/image132.wmf" ContentType="image/x-wmf"/>
  <Override PartName="/ppt/media/image397.wmf" ContentType="image/x-wmf"/>
  <Override PartName="/ppt/media/image435.wmf" ContentType="image/x-wmf"/>
  <Override PartName="/ppt/media/image131.wmf" ContentType="image/x-wmf"/>
  <Override PartName="/ppt/media/image259.wmf" ContentType="image/x-wmf"/>
  <Override PartName="/ppt/media/image396.wmf" ContentType="image/x-wmf"/>
  <Override PartName="/ppt/media/image434.wmf" ContentType="image/x-wmf"/>
  <Override PartName="/ppt/media/image130.wmf" ContentType="image/x-wmf"/>
  <Override PartName="/ppt/media/image258.wmf" ContentType="image/x-wmf"/>
  <Override PartName="/ppt/media/image395.wmf" ContentType="image/x-wmf"/>
  <Override PartName="/ppt/media/image433.wmf" ContentType="image/x-wmf"/>
  <Override PartName="/ppt/media/image197.wmf" ContentType="image/x-wmf"/>
  <Override PartName="/ppt/media/image129.wmf" ContentType="image/x-wmf"/>
  <Override PartName="/ppt/media/image196.wmf" ContentType="image/x-wmf"/>
  <Override PartName="/ppt/media/image128.wmf" ContentType="image/x-wmf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372.wmf" ContentType="image/x-wmf"/>
  <Override PartName="/ppt/media/image45.wmf" ContentType="image/x-wmf"/>
  <Override PartName="/ppt/media/image371.wmf" ContentType="image/x-wmf"/>
  <Override PartName="/ppt/media/image44.wmf" ContentType="image/x-wmf"/>
  <Override PartName="/ppt/media/image370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97.wmf" ContentType="image/x-wmf"/>
  <Override PartName="/ppt/media/image29.wmf" ContentType="image/x-wmf"/>
  <Override PartName="/ppt/media/image355.wmf" ContentType="image/x-wmf"/>
  <Override PartName="/ppt/media/image98.wmf" ContentType="image/x-wmf"/>
  <Override PartName="/ppt/media/image99.wmf" ContentType="image/x-wmf"/>
  <Override PartName="/ppt/media/image366.wmf" ContentType="image/x-wmf"/>
  <Override PartName="/ppt/media/image173.wmf" ContentType="image/x-wmf"/>
  <Override PartName="/ppt/media/image339.wmf" ContentType="image/x-wmf"/>
  <Override PartName="/ppt/media/image174.wmf" ContentType="image/x-wmf"/>
  <Override PartName="/ppt/media/image367.wmf" ContentType="image/x-wmf"/>
  <Override PartName="/ppt/media/image2.wmf" ContentType="image/x-wmf"/>
  <Override PartName="/ppt/media/image154.wmf" ContentType="image/x-wmf"/>
  <Override PartName="/ppt/media/image3.wmf" ContentType="image/x-wmf"/>
  <Override PartName="/ppt/media/image155.wmf" ContentType="image/x-wmf"/>
  <Override PartName="/ppt/media/image376.wmf" ContentType="image/x-wmf"/>
  <Override PartName="/ppt/media/image183.wmf" ContentType="image/x-wmf"/>
  <Override PartName="/ppt/media/image349.wmf" ContentType="image/x-wmf"/>
  <Override PartName="/ppt/media/image4.wmf" ContentType="image/x-wmf"/>
  <Override PartName="/ppt/media/image184.wmf" ContentType="image/x-wmf"/>
  <Override PartName="/ppt/media/image377.wmf" ContentType="image/x-wmf"/>
  <Override PartName="/ppt/media/image165.wmf" ContentType="image/x-wmf"/>
  <Override PartName="/ppt/media/image156.wmf" ContentType="image/x-wmf"/>
  <Override PartName="/ppt/media/image1.jpeg" ContentType="image/jpeg"/>
  <Override PartName="/ppt/media/image193.wmf" ContentType="image/x-wmf"/>
  <Override PartName="/ppt/media/image359.wmf" ContentType="image/x-wmf"/>
  <Override PartName="/ppt/media/image194.wmf" ContentType="image/x-wmf"/>
  <Override PartName="/ppt/media/image260.wmf" ContentType="image/x-wmf"/>
  <Override PartName="/ppt/media/image261.wmf" ContentType="image/x-wmf"/>
  <Override PartName="/ppt/media/image300.wmf" ContentType="image/x-wmf"/>
  <Override PartName="/ppt/media/image262.wmf" ContentType="image/x-wmf"/>
  <Override PartName="/ppt/media/image301.wmf" ContentType="image/x-wmf"/>
  <Override PartName="/ppt/media/image263.wmf" ContentType="image/x-wmf"/>
  <Override PartName="/ppt/media/image102.wmf" ContentType="image/x-wmf"/>
  <Override PartName="/ppt/media/image336.wmf" ContentType="image/x-wmf"/>
  <Override PartName="/ppt/media/image298.wmf" ContentType="image/x-wmf"/>
  <Override PartName="/ppt/media/image170.wmf" ContentType="image/x-wmf"/>
  <Override PartName="/ppt/media/image378.wmf" ContentType="image/x-wmf"/>
  <Override PartName="/ppt/media/image185.wmf" ContentType="image/x-wmf"/>
  <Override PartName="/ppt/media/image369.wmf" ContentType="image/x-wmf"/>
  <Override PartName="/ppt/media/image176.wmf" ContentType="image/x-wmf"/>
  <Override PartName="/ppt/media/image338.wmf" ContentType="image/x-wmf"/>
  <Override PartName="/ppt/media/image172.wmf" ContentType="image/x-wmf"/>
  <Override PartName="/ppt/media/image358.wmf" ContentType="image/x-wmf"/>
  <Override PartName="/ppt/media/image192.wmf" ContentType="image/x-wmf"/>
  <Override PartName="/ppt/media/image335.wmf" ContentType="image/x-wmf"/>
  <Override PartName="/ppt/media/image297.wmf" ContentType="image/x-wmf"/>
  <Override PartName="/ppt/media/image403.wmf" ContentType="image/x-wmf"/>
  <Override PartName="/ppt/media/image365.wmf" ContentType="image/x-wmf"/>
  <Override PartName="/ppt/media/image39.wmf" ContentType="image/x-wmf"/>
  <Override PartName="/ppt/media/image290.wmf" ContentType="image/x-wmf"/>
  <Override PartName="/ppt/media/image415.wmf" ContentType="image/x-wmf"/>
  <Override PartName="/ppt/media/image368.wmf" ContentType="image/x-wmf"/>
  <Override PartName="/ppt/media/image175.wmf" ContentType="image/x-wmf"/>
  <Override PartName="/ppt/media/image126.wmf" ContentType="image/x-wmf"/>
  <Override PartName="/ppt/media/image429.wmf" ContentType="image/x-wmf"/>
  <Override PartName="/ppt/media/image337.wmf" ContentType="image/x-wmf"/>
  <Override PartName="/ppt/media/image299.wmf" ContentType="image/x-wmf"/>
  <Override PartName="/ppt/media/image171.wmf" ContentType="image/x-wmf"/>
  <Override PartName="/ppt/media/image103.wmf" ContentType="image/x-wmf"/>
  <Override PartName="/ppt/media/image38.wmf" ContentType="image/x-wmf"/>
  <Override PartName="/ppt/media/image364.wmf" ContentType="image/x-wmf"/>
  <Override PartName="/ppt/media/image267.wmf" ContentType="image/x-wmf"/>
  <Override PartName="/ppt/media/image305.wmf" ContentType="image/x-wmf"/>
  <Override PartName="/ppt/media/image346.wmf" ContentType="image/x-wmf"/>
  <Override PartName="/ppt/media/image180.wmf" ContentType="image/x-wmf"/>
  <Override PartName="/ppt/media/image112.wmf" ContentType="image/x-wmf"/>
  <Override PartName="/ppt/media/image402.wmf" ContentType="image/x-wmf"/>
  <Override PartName="/ppt/media/image125.wmf" ContentType="image/x-wmf"/>
  <Override PartName="/ppt/media/image428.wmf" ContentType="image/x-wmf"/>
  <Override PartName="/ppt/media/image413.wmf" ContentType="image/x-wmf"/>
  <Override PartName="/ppt/media/image266.wmf" ContentType="image/x-wmf"/>
  <Override PartName="/ppt/media/image304.wmf" ContentType="image/x-wmf"/>
  <Override PartName="/ppt/media/image401.wmf" ContentType="image/x-wmf"/>
  <Override PartName="/ppt/media/image412.wmf" ContentType="image/x-wmf"/>
  <Override PartName="/ppt/media/image265.wmf" ContentType="image/x-wmf"/>
  <Override PartName="/ppt/media/image303.wmf" ContentType="image/x-wmf"/>
  <Override PartName="/ppt/media/image400.wmf" ContentType="image/x-wmf"/>
  <Override PartName="/ppt/media/image411.wmf" ContentType="image/x-wmf"/>
  <Override PartName="/ppt/media/image264.wmf" ContentType="image/x-wmf"/>
  <Override PartName="/ppt/media/image302.wmf" ContentType="image/x-wmf"/>
  <Override PartName="/ppt/media/image410.wmf" ContentType="image/x-wmf"/>
  <Override PartName="/ppt/media/image59.wmf" ContentType="image/x-wmf"/>
  <Override PartName="/ppt/media/image271.wmf" ContentType="image/x-wmf"/>
  <Override PartName="/ppt/media/image405.wmf" ContentType="image/x-wmf"/>
  <Override PartName="/ppt/media/image280.wmf" ContentType="image/x-wmf"/>
  <Override PartName="/ppt/media/image379.wmf" ContentType="image/x-wmf"/>
  <Override PartName="/ppt/media/image186.wmf" ContentType="image/x-wmf"/>
  <Override PartName="/ppt/media/image270.wmf" ContentType="image/x-wmf"/>
  <Override PartName="/ppt/media/image404.wmf" ContentType="image/x-wmf"/>
  <Override PartName="/ppt/media/image357.wmf" ContentType="image/x-wmf"/>
  <Override PartName="/ppt/media/image191.wmf" ContentType="image/x-wmf"/>
  <Override PartName="/ppt/media/image426.wmf" ContentType="image/x-wmf"/>
  <Override PartName="/ppt/media/image388.wmf" ContentType="image/x-wmf"/>
  <Override PartName="/ppt/media/image123.wmf" ContentType="image/x-wmf"/>
  <Override PartName="/ppt/media/image334.wmf" ContentType="image/x-wmf"/>
  <Override PartName="/ppt/media/image296.wmf" ContentType="image/x-wmf"/>
  <Override PartName="/ppt/media/image348.wmf" ContentType="image/x-wmf"/>
  <Override PartName="/ppt/media/image182.wmf" ContentType="image/x-wmf"/>
  <Override PartName="/ppt/media/image49.wmf" ContentType="image/x-wmf"/>
  <Override PartName="/ppt/media/image375.wmf" ContentType="image/x-wmf"/>
  <Override PartName="/ppt/media/image325.wmf" ContentType="image/x-wmf"/>
  <Override PartName="/ppt/media/image287.wmf" ContentType="image/x-wmf"/>
  <Override PartName="/ppt/media/image356.wmf" ContentType="image/x-wmf"/>
  <Override PartName="/ppt/media/image190.wmf" ContentType="image/x-wmf"/>
  <Override PartName="/ppt/media/image277.wmf" ContentType="image/x-wmf"/>
  <Override PartName="/ppt/media/image315.wmf" ContentType="image/x-wmf"/>
  <Override PartName="/ppt/media/image387.wmf" ContentType="image/x-wmf"/>
  <Override PartName="/ppt/media/image425.wmf" ContentType="image/x-wmf"/>
  <Override PartName="/ppt/media/image122.wmf" ContentType="image/x-wmf"/>
  <Override PartName="/ppt/media/image333.wmf" ContentType="image/x-wmf"/>
  <Override PartName="/ppt/media/image295.wmf" ContentType="image/x-wmf"/>
  <Override PartName="/ppt/media/image347.wmf" ContentType="image/x-wmf"/>
  <Override PartName="/ppt/media/image181.wmf" ContentType="image/x-wmf"/>
  <Override PartName="/ppt/media/image113.wmf" ContentType="image/x-wmf"/>
  <Override PartName="/ppt/media/image324.wmf" ContentType="image/x-wmf"/>
  <Override PartName="/ppt/media/image286.wmf" ContentType="image/x-wmf"/>
  <Override PartName="/ppt/media/image332.wmf" ContentType="image/x-wmf"/>
  <Override PartName="/ppt/media/image294.wmf" ContentType="image/x-wmf"/>
  <Override PartName="/ppt/media/image414.wmf" ContentType="image/x-wmf"/>
  <Override PartName="/ppt/media/image331.wmf" ContentType="image/x-wmf"/>
  <Override PartName="/ppt/media/image293.wmf" ContentType="image/x-wmf"/>
  <Override PartName="/ppt/media/image330.wmf" ContentType="image/x-wmf"/>
  <Override PartName="/ppt/media/image292.wmf" ContentType="image/x-wmf"/>
  <Override PartName="/ppt/media/image427.wmf" ContentType="image/x-wmf"/>
  <Override PartName="/ppt/media/image124.wmf" ContentType="image/x-wmf"/>
  <Override PartName="/ppt/media/image389.wmf" ContentType="image/x-wmf"/>
  <Override PartName="/ppt/media/image291.wmf" ContentType="image/x-wmf"/>
  <Override PartName="/ppt/media/image323.wmf" ContentType="image/x-wmf"/>
  <Override PartName="/ppt/media/image285.wmf" ContentType="image/x-wmf"/>
  <Override PartName="/ppt/media/image276.wmf" ContentType="image/x-wmf"/>
  <Override PartName="/ppt/media/image314.wmf" ContentType="image/x-wmf"/>
  <Override PartName="/ppt/media/image322.wmf" ContentType="image/x-wmf"/>
  <Override PartName="/ppt/media/image284.wmf" ContentType="image/x-wmf"/>
  <Override PartName="/ppt/media/image275.wmf" ContentType="image/x-wmf"/>
  <Override PartName="/ppt/media/image313.wmf" ContentType="image/x-wmf"/>
  <Override PartName="/ppt/media/image321.wmf" ContentType="image/x-wmf"/>
  <Override PartName="/ppt/media/image283.wmf" ContentType="image/x-wmf"/>
  <Override PartName="/ppt/media/image274.wmf" ContentType="image/x-wmf"/>
  <Override PartName="/ppt/media/image312.wmf" ContentType="image/x-wmf"/>
  <Override PartName="/ppt/media/image320.wmf" ContentType="image/x-wmf"/>
  <Override PartName="/ppt/media/image282.wmf" ContentType="image/x-wmf"/>
  <Override PartName="/ppt/media/image273.wmf" ContentType="image/x-wmf"/>
  <Override PartName="/ppt/media/image311.wmf" ContentType="image/x-wmf"/>
  <Override PartName="/ppt/media/image281.wmf" ContentType="image/x-wmf"/>
  <Override PartName="/ppt/media/image272.wmf" ContentType="image/x-wmf"/>
  <Override PartName="/ppt/media/image310.wmf" ContentType="image/x-wmf"/>
  <Override PartName="/ppt/media/image96.wmf" ContentType="image/x-wmf"/>
  <Override PartName="/ppt/media/image28.wmf" ContentType="image/x-wmf"/>
  <Override PartName="/ppt/media/image354.wmf" ContentType="image/x-wmf"/>
  <Override PartName="/ppt/media/image353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34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70.wmf" ContentType="image/x-wmf"/>
  <Override PartName="/ppt/media/image69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62.wmf" ContentType="image/x-wmf"/>
  <Override PartName="/ppt/media/image61.wmf" ContentType="image/x-wmf"/>
  <Override PartName="/ppt/media/image60.wmf" ContentType="image/x-wmf"/>
  <Override PartName="/ppt/media/image350.wmf" ContentType="image/x-wmf"/>
  <Override PartName="/ppt/media/image24.wmf" ContentType="image/x-wmf"/>
  <Override PartName="/ppt/media/image116.wmf" ContentType="image/x-wmf"/>
  <Override PartName="/ppt/media/image92.wmf" ContentType="image/x-wmf"/>
  <Override PartName="/ppt/media/image23.wmf" ContentType="image/x-wmf"/>
  <Override PartName="/ppt/media/image115.wmf" ContentType="image/x-wmf"/>
  <Override PartName="/ppt/media/image91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89.wmf" ContentType="image/x-wmf"/>
  <Override PartName="/ppt/media/image50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342.wmf" ContentType="image/x-wmf"/>
  <Override PartName="/ppt/media/image16.wmf" ContentType="image/x-wmf"/>
  <Override PartName="/ppt/media/image108.wmf" ContentType="image/x-wmf"/>
  <Override PartName="/ppt/media/image84.wmf" ContentType="image/x-wmf"/>
  <Override PartName="/ppt/media/image360.wmf" ContentType="image/x-wmf"/>
  <Override PartName="/ppt/media/image34.wmf" ContentType="image/x-wmf"/>
  <Override PartName="/ppt/media/image351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340.wmf" ContentType="image/x-wmf"/>
  <Override PartName="/ppt/media/image14.wmf" ContentType="image/x-wmf"/>
  <Override PartName="/ppt/media/image106.wmf" ContentType="image/x-wmf"/>
  <Override PartName="/ppt/media/image82.wmf" ContentType="image/x-wmf"/>
  <Override PartName="/ppt/media/image32.wmf" ContentType="image/x-wmf"/>
  <Override PartName="/ppt/media/image352.wmf" ContentType="image/x-wmf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107.wmf" ContentType="image/x-wmf"/>
  <Override PartName="/ppt/media/image83.wmf" ContentType="image/x-wmf"/>
  <Override PartName="/ppt/media/image33.wmf" ContentType="image/x-wmf"/>
  <Override PartName="/ppt/media/image34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61.wmf" ContentType="image/x-wmf"/>
  <Override PartName="/ppt/media/image35.wmf" ContentType="image/x-wmf"/>
  <Override PartName="/ppt/media/image10.wmf" ContentType="image/x-wmf"/>
  <Override PartName="/ppt/media/image373.wmf" ContentType="image/x-wmf"/>
  <Override PartName="/ppt/media/image47.wmf" ContentType="image/x-wmf"/>
  <Override PartName="/ppt/media/image344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2.wmf" ContentType="image/x-wmf"/>
  <Override PartName="/ppt/media/image36.wmf" ContentType="image/x-wmf"/>
  <Override PartName="/ppt/media/image11.wmf" ContentType="image/x-wmf"/>
  <Override PartName="/ppt/media/image374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63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8.wmf" ContentType="image/x-wmf"/>
  <Override PartName="/ppt/media/image30.wmf" ContentType="image/x-wmf"/>
  <Override PartName="/ppt/media/image9.wmf" ContentType="image/x-wmf"/>
  <Override PartName="/ppt/media/image31.wmf" ContentType="image/x-wmf"/>
  <Override PartName="/ppt/media/image127.wmf" ContentType="image/x-wmf"/>
  <Override PartName="/ppt/media/image195.wmf" ContentType="image/x-wmf"/>
  <Override PartName="/ppt/media/image4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9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6.bin" ContentType="application/vnd.openxmlformats-officedocument.oleObject"/>
  <Override PartName="/ppt/embeddings/oleObject5.bin" ContentType="application/vnd.openxmlformats-officedocument.oleObject"/>
  <Override PartName="/ppt/embeddings/oleObject1.xlsx" ContentType="application/vnd.openxmlformats-officedocument.spreadsheetml.sheet"/>
  <Override PartName="/ppt/embeddings/oleObject19.bin" ContentType="application/vnd.openxmlformats-officedocument.oleObject"/>
  <Override PartName="/ppt/embeddings/oleObject21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1.bin" ContentType="application/vnd.openxmlformats-officedocument.oleObject"/>
  <Override PartName="/ppt/embeddings/oleObject3.xlsx" ContentType="application/vnd.openxmlformats-officedocument.spreadsheetml.sheet"/>
  <Override PartName="/ppt/embeddings/oleObject15.bin" ContentType="application/vnd.openxmlformats-officedocument.oleObject"/>
  <Override PartName="/ppt/embeddings/oleObject25.bin" ContentType="application/vnd.openxmlformats-officedocument.oleObject"/>
  <Override PartName="/ppt/embeddings/oleObject12.bin" ContentType="application/vnd.openxmlformats-officedocument.oleObject"/>
  <Override PartName="/ppt/embeddings/oleObject24.bin" ContentType="application/vnd.openxmlformats-officedocument.oleObject"/>
  <Override PartName="/ppt/embeddings/oleObject11.bin" ContentType="application/vnd.openxmlformats-officedocument.oleObject"/>
  <Override PartName="/ppt/embeddings/oleObject23.bin" ContentType="application/vnd.openxmlformats-officedocument.oleObject"/>
  <Override PartName="/ppt/embeddings/oleObject22.bin" ContentType="application/vnd.openxmlformats-officedocument.oleObject"/>
  <Override PartName="/ppt/embeddings/oleObject14.bin" ContentType="application/vnd.openxmlformats-officedocument.oleObject"/>
  <Override PartName="/ppt/embeddings/oleObject13.bin" ContentType="application/vnd.openxmlformats-officedocument.oleObject"/>
  <Override PartName="/ppt/embeddings/oleObject2.xlsx" ContentType="application/vnd.openxmlformats-officedocument.spreadsheetml.sheet"/>
  <Override PartName="/ppt/embeddings/oleObject20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CFA5-EB0B-4B55-A59A-0F8E95B81D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нвшенны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A584-A979-49B8-B9B5-F02EACED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EA53-3A8E-4E95-AC00-1A3E48CD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A5FE-EA1D-44AE-9B84-539C9D9A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9971-1654-42C3-B929-DB7E4295F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E6A7B-E0C4-48B5-9A9B-B38BA3D0E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498DA-C5D9-4800-B18B-C0F7E57F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1F7BC-4814-4FF0-92E8-265D377B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A784D-BD92-4832-A8F7-C18CB579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78D94-1588-4FBD-BE4D-9812CFDE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2A141-CAE5-4412-AEDC-88A4C29A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8320B-9CDE-43CD-BC0B-AFF013B8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60AF-FC9D-44BD-BC20-7415CE4E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954996-E7F3-4516-8C1E-DE0072C3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31F2D-3099-4187-B086-4871ECBE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A70AB-D0B5-489D-B459-91D092D8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66D0B-ABEA-4C33-AE37-37F17F8B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511BE-A350-4891-9C78-0796FF40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796-AA75-4515-B69B-B0721046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6AAF-B6F9-4A0F-8C4A-A8E0366A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F6F6-A397-4C47-A016-7485C677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0E9-E2C0-499A-8DA2-CC9CA2D9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8546-112A-4699-8407-37650BB5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9466-72BA-41FC-816D-313B5A22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1A6A-B280-45A5-B27D-ADDF711C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8B39-3F6E-4763-98E5-2B10AB6A39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5485-CB79-4D56-9256-B49EA040B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4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5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6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6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5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6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65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6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7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7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6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7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8.wm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82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9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86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0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1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4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1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2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2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8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2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29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30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427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427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431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43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427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43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434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435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436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427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433.wmf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.wmf"/><Relationship Id="rId2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5.wmf"/><Relationship Id="rId3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4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7.wmf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4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1.wmf"/><Relationship Id="rId3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6.wmf"/><Relationship Id="rId3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7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76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77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78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79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80.wmf"/><Relationship Id="rId3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9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9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9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93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1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8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1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1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2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12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3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4.wmf"/><Relationship Id="rId29" Type="http://schemas.openxmlformats.org/officeDocument/2006/relationships/slideLayout" Target="../slideLayouts/slideLayout1.xml"/><Relationship Id="rId30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0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49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6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7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73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8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9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194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0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2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0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1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13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216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1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7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23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6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3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0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5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5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5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5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5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60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6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7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7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7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7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7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77.wmf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0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98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9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1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1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14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15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15.wmf"/><Relationship Id="rId31" Type="http://schemas.openxmlformats.org/officeDocument/2006/relationships/slideLayout" Target="../slideLayouts/slideLayout1.xml"/><Relationship Id="rId3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2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2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4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2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26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27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28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29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29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АНИМАЦИОННЫЙ БЛОКБАСТЕР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ПО ДИСЦИПЛИНЕ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«ВЫЧИСЛИТЕЛЬНАЯ МАТЕМАТИКА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9280" y="249192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Black"/>
              </a:rPr>
              <a:t>Автор сценария, режиссер, продюсер и т.д., и т.п.: к.т.н., доцент Горбунов Д.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Сопродюссер: не менее важный доц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Комиссарова Е.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4500720" y="4297320"/>
            <a:ext cx="4643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Цитата: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«Если Вы пришли в магазин и просите взвесить полкило колбасы, то это не значит, что Вам взвесят ровно 500 грамм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Так возникли методы приближенных вычислений, а также погрешности измер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62006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©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зань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155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115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" dur="115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" dur="1155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155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1155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1155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1155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155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1155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1155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1155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5296 L 0 0.09389 E">
                                      <p:cBhvr>
                                        <p:cTn id="5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289080" y="765000"/>
            <a:ext cx="8674920" cy="5903640"/>
            <a:chOff x="289080" y="765000"/>
            <a:chExt cx="8674920" cy="5903640"/>
          </a:xfrm>
        </p:grpSpPr>
        <p:cxnSp>
          <p:nvCxnSpPr>
            <p:cNvPr id="268" name="_s22598"/>
            <p:cNvCxnSpPr>
              <a:stCxn id="269" idx="1"/>
              <a:endCxn id="270" idx="2"/>
            </p:cNvCxnSpPr>
            <p:nvPr/>
          </p:nvCxnSpPr>
          <p:spPr>
            <a:xfrm rot="10800000">
              <a:off x="5589720" y="2497320"/>
              <a:ext cx="482400" cy="3826080"/>
            </a:xfrm>
            <a:prstGeom prst="bentConnector2">
              <a:avLst/>
            </a:prstGeom>
            <a:ln w="38160">
              <a:solidFill>
                <a:srgbClr val="ffff00"/>
              </a:solidFill>
              <a:miter/>
            </a:ln>
          </p:spPr>
        </p:cxnSp>
        <p:cxnSp>
          <p:nvCxnSpPr>
            <p:cNvPr id="271" name="_s22596"/>
            <p:cNvCxnSpPr>
              <a:stCxn id="272" idx="1"/>
              <a:endCxn id="270" idx="2"/>
            </p:cNvCxnSpPr>
            <p:nvPr/>
          </p:nvCxnSpPr>
          <p:spPr>
            <a:xfrm rot="10800000">
              <a:off x="5589720" y="2497320"/>
              <a:ext cx="482400" cy="2782800"/>
            </a:xfrm>
            <a:prstGeom prst="bentConnector2">
              <a:avLst/>
            </a:prstGeom>
            <a:ln w="38160">
              <a:solidFill>
                <a:srgbClr val="ffff00"/>
              </a:solidFill>
              <a:miter/>
            </a:ln>
          </p:spPr>
        </p:cxnSp>
        <p:cxnSp>
          <p:nvCxnSpPr>
            <p:cNvPr id="273" name="_s22594"/>
            <p:cNvCxnSpPr>
              <a:stCxn id="274" idx="1"/>
              <a:endCxn id="270" idx="2"/>
            </p:cNvCxnSpPr>
            <p:nvPr/>
          </p:nvCxnSpPr>
          <p:spPr>
            <a:xfrm rot="10800000">
              <a:off x="5589720" y="2497320"/>
              <a:ext cx="482400" cy="1740240"/>
            </a:xfrm>
            <a:prstGeom prst="bentConnector2">
              <a:avLst/>
            </a:prstGeom>
            <a:ln w="28440">
              <a:solidFill>
                <a:srgbClr val="ffff00"/>
              </a:solidFill>
              <a:miter/>
            </a:ln>
          </p:spPr>
        </p:cxnSp>
        <p:cxnSp>
          <p:nvCxnSpPr>
            <p:cNvPr id="275" name="_s22592"/>
            <p:cNvCxnSpPr>
              <a:stCxn id="276" idx="1"/>
              <a:endCxn id="270" idx="2"/>
            </p:cNvCxnSpPr>
            <p:nvPr/>
          </p:nvCxnSpPr>
          <p:spPr>
            <a:xfrm rot="10800000">
              <a:off x="5589720" y="2497320"/>
              <a:ext cx="482400" cy="698040"/>
            </a:xfrm>
            <a:prstGeom prst="bentConnector2">
              <a:avLst/>
            </a:prstGeom>
            <a:ln w="38160">
              <a:solidFill>
                <a:srgbClr val="ffff00"/>
              </a:solidFill>
              <a:miter/>
            </a:ln>
          </p:spPr>
        </p:cxnSp>
        <p:cxnSp>
          <p:nvCxnSpPr>
            <p:cNvPr id="277" name="_s22586"/>
            <p:cNvCxnSpPr>
              <a:stCxn id="278" idx="1"/>
              <a:endCxn id="279" idx="2"/>
            </p:cNvCxnSpPr>
            <p:nvPr/>
          </p:nvCxnSpPr>
          <p:spPr>
            <a:xfrm rot="10800000">
              <a:off x="1734120" y="2497320"/>
              <a:ext cx="482400" cy="1740240"/>
            </a:xfrm>
            <a:prstGeom prst="bentConnector2">
              <a:avLst/>
            </a:prstGeom>
            <a:ln w="38160">
              <a:solidFill>
                <a:srgbClr val="ffff00"/>
              </a:solidFill>
              <a:miter/>
            </a:ln>
          </p:spPr>
        </p:cxnSp>
        <p:cxnSp>
          <p:nvCxnSpPr>
            <p:cNvPr id="280" name="_s22584"/>
            <p:cNvCxnSpPr>
              <a:stCxn id="281" idx="1"/>
              <a:endCxn id="279" idx="2"/>
            </p:cNvCxnSpPr>
            <p:nvPr/>
          </p:nvCxnSpPr>
          <p:spPr>
            <a:xfrm rot="10800000">
              <a:off x="1734120" y="2497320"/>
              <a:ext cx="482400" cy="698040"/>
            </a:xfrm>
            <a:prstGeom prst="bentConnector2">
              <a:avLst/>
            </a:prstGeom>
            <a:ln w="38160">
              <a:solidFill>
                <a:srgbClr val="ffff00"/>
              </a:solidFill>
              <a:miter/>
            </a:ln>
          </p:spPr>
        </p:cxnSp>
        <p:cxnSp>
          <p:nvCxnSpPr>
            <p:cNvPr id="282" name="_s22541"/>
            <p:cNvCxnSpPr>
              <a:stCxn id="270" idx="0"/>
              <a:endCxn id="283" idx="2"/>
            </p:cNvCxnSpPr>
            <p:nvPr/>
          </p:nvCxnSpPr>
          <p:spPr>
            <a:xfrm flipV="1" rot="16200000">
              <a:off x="4449600" y="666720"/>
              <a:ext cx="353160" cy="1928520"/>
            </a:xfrm>
            <a:prstGeom prst="bentConnector3">
              <a:avLst>
                <a:gd name="adj1" fmla="val 20102"/>
              </a:avLst>
            </a:prstGeom>
            <a:ln w="38160">
              <a:solidFill>
                <a:srgbClr val="ffff00"/>
              </a:solidFill>
              <a:miter/>
            </a:ln>
          </p:spPr>
        </p:cxnSp>
        <p:cxnSp>
          <p:nvCxnSpPr>
            <p:cNvPr id="284" name="_s22539"/>
            <p:cNvCxnSpPr>
              <a:stCxn id="279" idx="0"/>
              <a:endCxn id="283" idx="2"/>
            </p:cNvCxnSpPr>
            <p:nvPr/>
          </p:nvCxnSpPr>
          <p:spPr>
            <a:xfrm flipH="1" flipV="1" rot="5400000">
              <a:off x="2522160" y="666720"/>
              <a:ext cx="353160" cy="1928520"/>
            </a:xfrm>
            <a:prstGeom prst="bentConnector3">
              <a:avLst>
                <a:gd name="adj1" fmla="val 20102"/>
              </a:avLst>
            </a:prstGeom>
            <a:ln w="38160">
              <a:solidFill>
                <a:srgbClr val="ffff00"/>
              </a:solidFill>
              <a:miter/>
            </a:ln>
          </p:spPr>
        </p:cxnSp>
        <p:sp>
          <p:nvSpPr>
            <p:cNvPr id="283" name="_s22535"/>
            <p:cNvSpPr/>
            <p:nvPr/>
          </p:nvSpPr>
          <p:spPr>
            <a:xfrm>
              <a:off x="2216880" y="765000"/>
              <a:ext cx="2891520" cy="69012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53000"/>
              </a:srgbClr>
            </a:solidFill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 Black"/>
                </a:rPr>
                <a:t>НЕЛИНЕЙНЫЕ УРАВН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_s22536"/>
            <p:cNvSpPr/>
            <p:nvPr/>
          </p:nvSpPr>
          <p:spPr>
            <a:xfrm>
              <a:off x="289080" y="1807920"/>
              <a:ext cx="2891520" cy="69012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50000"/>
              </a:srgbClr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 u="sng">
                  <a:solidFill>
                    <a:srgbClr val="ffffff"/>
                  </a:solidFill>
                  <a:uFillTx/>
                  <a:latin typeface="Tahoma"/>
                </a:rPr>
                <a:t>Этап 1.</a:t>
              </a: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 Отделение корней нелинейных уравн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22538"/>
            <p:cNvSpPr/>
            <p:nvPr/>
          </p:nvSpPr>
          <p:spPr>
            <a:xfrm>
              <a:off x="4144680" y="1807920"/>
              <a:ext cx="2891520" cy="69012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50000"/>
              </a:srgbClr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 u="sng">
                  <a:solidFill>
                    <a:srgbClr val="ffffff"/>
                  </a:solidFill>
                  <a:uFillTx/>
                  <a:latin typeface="Tahoma"/>
                </a:rPr>
                <a:t>Этап 2.</a:t>
              </a:r>
              <a:r>
                <a:rPr b="0" lang="en-US" sz="1700" spc="-1" strike="noStrike">
                  <a:solidFill>
                    <a:srgbClr val="ffffff"/>
                  </a:solidFill>
                  <a:latin typeface="Tahoma"/>
                </a:rPr>
                <a:t> Уточнение корней нелинейных уравнений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_s22583"/>
            <p:cNvSpPr/>
            <p:nvPr/>
          </p:nvSpPr>
          <p:spPr>
            <a:xfrm>
              <a:off x="2216880" y="2850480"/>
              <a:ext cx="2891520" cy="69012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3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Графический метод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_s22585"/>
            <p:cNvSpPr/>
            <p:nvPr/>
          </p:nvSpPr>
          <p:spPr>
            <a:xfrm>
              <a:off x="2216880" y="3892680"/>
              <a:ext cx="2891520" cy="69012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3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Аналитический метод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_s22591"/>
            <p:cNvSpPr/>
            <p:nvPr/>
          </p:nvSpPr>
          <p:spPr>
            <a:xfrm>
              <a:off x="6072480" y="2850480"/>
              <a:ext cx="2891520" cy="69012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3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Метод делени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отрезка пополам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_s22593"/>
            <p:cNvSpPr/>
            <p:nvPr/>
          </p:nvSpPr>
          <p:spPr>
            <a:xfrm>
              <a:off x="6072480" y="3892680"/>
              <a:ext cx="2891520" cy="69012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3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Метод простых итераций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_s22595"/>
            <p:cNvSpPr/>
            <p:nvPr/>
          </p:nvSpPr>
          <p:spPr>
            <a:xfrm>
              <a:off x="6072480" y="4935240"/>
              <a:ext cx="2887920" cy="69012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3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Метод Ньютон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(метод касательных)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_s22597"/>
            <p:cNvSpPr/>
            <p:nvPr/>
          </p:nvSpPr>
          <p:spPr>
            <a:xfrm>
              <a:off x="6072480" y="5978520"/>
              <a:ext cx="2891520" cy="690120"/>
            </a:xfrm>
            <a:prstGeom prst="roundRect">
              <a:avLst>
                <a:gd name="adj" fmla="val 16667"/>
              </a:avLst>
            </a:prstGeom>
            <a:solidFill>
              <a:srgbClr val="00ff00">
                <a:alpha val="30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Модифицированный метод Ньютона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Black"/>
              </a:rPr>
              <a:t>ОСНОВНЫЕ ЭТАПЫ РЕШЕНИЯ НЕЛИНЕЙНЫХ УРАВН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 rot="10800000">
            <a:off x="178920" y="5444640"/>
            <a:ext cx="5256360" cy="1079640"/>
          </a:xfrm>
          <a:prstGeom prst="wedgeRectCallout">
            <a:avLst>
              <a:gd name="adj1" fmla="val 43958"/>
              <a:gd name="adj2" fmla="val 325291"/>
            </a:avLst>
          </a:prstGeom>
          <a:solidFill>
            <a:srgbClr val="ff0000">
              <a:alpha val="85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На данном этапе необходимо исследовать нелинейное уравнение (1) и выяснить, имеются корни или нет, и, если имеются, то определить их количество (</a:t>
            </a:r>
            <a:r>
              <a:rPr b="0" i="1" lang="en-US" sz="1200" spc="-1" strike="noStrike" u="sng">
                <a:solidFill>
                  <a:srgbClr val="000099"/>
                </a:solidFill>
                <a:uFillTx/>
                <a:latin typeface="Arial Black"/>
              </a:rPr>
              <a:t>графический метод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). Затем необходимо выявить интервалы, в каждом из которых должен находиться единственный корень (</a:t>
            </a:r>
            <a:r>
              <a:rPr b="0" i="1" lang="en-US" sz="1200" spc="-1" strike="noStrike" u="sng">
                <a:solidFill>
                  <a:srgbClr val="000099"/>
                </a:solidFill>
                <a:uFillTx/>
                <a:latin typeface="Arial Black"/>
              </a:rPr>
              <a:t>аналитический метод</a:t>
            </a: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92720" y="765000"/>
            <a:ext cx="3600360" cy="792360"/>
          </a:xfrm>
          <a:prstGeom prst="wedgeRectCallout">
            <a:avLst>
              <a:gd name="adj1" fmla="val -73282"/>
              <a:gd name="adj2" fmla="val 80861"/>
            </a:avLst>
          </a:prstGeom>
          <a:solidFill>
            <a:srgbClr val="ff0000">
              <a:alpha val="85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99"/>
                </a:solidFill>
                <a:latin typeface="Arial Black"/>
              </a:rPr>
              <a:t>На данном этапе для поиска приближенного значения единственного корня на отрезке необходимо применить любой из нижеперечисленных мет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2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1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 type="subTitle"/>
          </p:nvPr>
        </p:nvSpPr>
        <p:spPr>
          <a:xfrm>
            <a:off x="179280" y="3645000"/>
            <a:ext cx="8785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ЧИСЛЕННЫЕ МЕТОДЫ РЕШЕНИЯ КРАЕВЫХ ЗАДАЧ ДЛЯ ДИФФЕРЕНЦИАЛЬНЫХ УРАВНЕНИЙ С ЧАСТНЫМИ ПРОИЗВОДНЫМИ (классификация дифференциальных уравнений с частными производным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9" dur="indefinite" restart="never" nodeType="tmRoot">
          <p:childTnLst>
            <p:seq>
              <p:cTn id="1380" dur="indefinite" nodeType="mainSeq">
                <p:childTnLst>
                  <p:par>
                    <p:cTn id="1381" fill="hold">
                      <p:stCondLst>
                        <p:cond delay="0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384" dur="2000" fill="hold"/>
                                        <p:tgtEl>
                                          <p:spTgt spid="30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1000" fill="hold"/>
                                        <p:tgtEl>
                                          <p:spTgt spid="3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1000" fill="hold"/>
                                        <p:tgtEl>
                                          <p:spTgt spid="30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5" name=""/>
          <p:cNvSpPr/>
          <p:nvPr/>
        </p:nvSpPr>
        <p:spPr>
          <a:xfrm>
            <a:off x="0" y="260280"/>
            <a:ext cx="914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ЛАССИФИКАЦИЯ ДИФФЕРЕНЦИАЛЬНЫХ УРАВНЕНИЙ С ЧАСТНЫМИ ПРОИЗВОД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6" name=""/>
          <p:cNvSpPr/>
          <p:nvPr/>
        </p:nvSpPr>
        <p:spPr>
          <a:xfrm>
            <a:off x="0" y="979560"/>
            <a:ext cx="8964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ссмотрим приближенные методы решения задач в общем случае для дифференциальных уравнений в частных производных второго порядка с двумя независимыми переменны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7" name=""/>
          <p:cNvSpPr/>
          <p:nvPr/>
        </p:nvSpPr>
        <p:spPr>
          <a:xfrm>
            <a:off x="0" y="39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8" name=""/>
          <p:cNvSpPr/>
          <p:nvPr/>
        </p:nvSpPr>
        <p:spPr>
          <a:xfrm>
            <a:off x="0" y="39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9" name=""/>
          <p:cNvSpPr/>
          <p:nvPr/>
        </p:nvSpPr>
        <p:spPr>
          <a:xfrm>
            <a:off x="0" y="39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0" name=""/>
          <p:cNvSpPr/>
          <p:nvPr/>
        </p:nvSpPr>
        <p:spPr>
          <a:xfrm>
            <a:off x="0" y="394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1" name=""/>
          <p:cNvSpPr/>
          <p:nvPr/>
        </p:nvSpPr>
        <p:spPr>
          <a:xfrm>
            <a:off x="0" y="39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2" name=""/>
          <p:cNvSpPr/>
          <p:nvPr/>
        </p:nvSpPr>
        <p:spPr>
          <a:xfrm>
            <a:off x="0" y="39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3" name=""/>
          <p:cNvSpPr/>
          <p:nvPr/>
        </p:nvSpPr>
        <p:spPr>
          <a:xfrm>
            <a:off x="0" y="394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4" name=""/>
          <p:cNvSpPr/>
          <p:nvPr/>
        </p:nvSpPr>
        <p:spPr>
          <a:xfrm>
            <a:off x="0" y="38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5" name=""/>
          <p:cNvSpPr/>
          <p:nvPr/>
        </p:nvSpPr>
        <p:spPr>
          <a:xfrm>
            <a:off x="0" y="38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6" name=""/>
          <p:cNvSpPr/>
          <p:nvPr/>
        </p:nvSpPr>
        <p:spPr>
          <a:xfrm>
            <a:off x="0" y="39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7" name=""/>
          <p:cNvSpPr/>
          <p:nvPr/>
        </p:nvSpPr>
        <p:spPr>
          <a:xfrm>
            <a:off x="0" y="39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8" name=""/>
          <p:cNvSpPr/>
          <p:nvPr/>
        </p:nvSpPr>
        <p:spPr>
          <a:xfrm>
            <a:off x="0" y="39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9" name=""/>
          <p:cNvSpPr/>
          <p:nvPr/>
        </p:nvSpPr>
        <p:spPr>
          <a:xfrm>
            <a:off x="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0" name=""/>
          <p:cNvSpPr/>
          <p:nvPr/>
        </p:nvSpPr>
        <p:spPr>
          <a:xfrm>
            <a:off x="0" y="39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1" name=""/>
          <p:cNvSpPr/>
          <p:nvPr/>
        </p:nvSpPr>
        <p:spPr>
          <a:xfrm>
            <a:off x="0" y="39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3" name=""/>
          <p:cNvGraphicFramePr/>
          <p:nvPr/>
        </p:nvGraphicFramePr>
        <p:xfrm>
          <a:off x="2987640" y="1917720"/>
          <a:ext cx="231444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917720"/>
                    <a:ext cx="2314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5" name=""/>
          <p:cNvSpPr/>
          <p:nvPr/>
        </p:nvSpPr>
        <p:spPr>
          <a:xfrm>
            <a:off x="0" y="427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6" name=""/>
          <p:cNvGraphicFramePr/>
          <p:nvPr/>
        </p:nvGraphicFramePr>
        <p:xfrm>
          <a:off x="611280" y="2637000"/>
          <a:ext cx="304560" cy="1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2637000"/>
                    <a:ext cx="30456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8" name=""/>
          <p:cNvSpPr/>
          <p:nvPr/>
        </p:nvSpPr>
        <p:spPr>
          <a:xfrm>
            <a:off x="0" y="396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79" name=""/>
          <p:cNvGraphicFramePr/>
          <p:nvPr/>
        </p:nvGraphicFramePr>
        <p:xfrm>
          <a:off x="4211640" y="2625840"/>
          <a:ext cx="523800" cy="228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11640" y="2625840"/>
                    <a:ext cx="5238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1" name=""/>
          <p:cNvSpPr/>
          <p:nvPr/>
        </p:nvSpPr>
        <p:spPr>
          <a:xfrm>
            <a:off x="0" y="394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2" name=""/>
          <p:cNvGraphicFramePr/>
          <p:nvPr/>
        </p:nvGraphicFramePr>
        <p:xfrm>
          <a:off x="108000" y="3160800"/>
          <a:ext cx="129528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3160800"/>
                    <a:ext cx="12952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4" name=""/>
          <p:cNvSpPr/>
          <p:nvPr/>
        </p:nvSpPr>
        <p:spPr>
          <a:xfrm>
            <a:off x="0" y="428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0" y="428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6" name=""/>
              <p:cNvSpPr txBox="1"/>
              <p:nvPr/>
            </p:nvSpPr>
            <p:spPr>
              <a:xfrm>
                <a:off x="7740720" y="3211560"/>
                <a:ext cx="29520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7" name=""/>
          <p:cNvSpPr/>
          <p:nvPr/>
        </p:nvSpPr>
        <p:spPr>
          <a:xfrm>
            <a:off x="0" y="394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88" name=""/>
          <p:cNvGraphicFramePr/>
          <p:nvPr/>
        </p:nvGraphicFramePr>
        <p:xfrm>
          <a:off x="5364000" y="3716280"/>
          <a:ext cx="80964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0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64000" y="3716280"/>
                    <a:ext cx="8096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0" name=""/>
          <p:cNvSpPr/>
          <p:nvPr/>
        </p:nvSpPr>
        <p:spPr>
          <a:xfrm>
            <a:off x="0" y="39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91" name=""/>
          <p:cNvGraphicFramePr/>
          <p:nvPr/>
        </p:nvGraphicFramePr>
        <p:xfrm>
          <a:off x="1644480" y="4989600"/>
          <a:ext cx="190800" cy="23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9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44480" y="4989600"/>
                    <a:ext cx="1908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3" name=""/>
          <p:cNvSpPr/>
          <p:nvPr/>
        </p:nvSpPr>
        <p:spPr>
          <a:xfrm>
            <a:off x="5580000" y="1917720"/>
            <a:ext cx="72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6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4" name=""/>
          <p:cNvSpPr/>
          <p:nvPr/>
        </p:nvSpPr>
        <p:spPr>
          <a:xfrm>
            <a:off x="0" y="2565360"/>
            <a:ext cx="72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5" name=""/>
          <p:cNvSpPr/>
          <p:nvPr/>
        </p:nvSpPr>
        <p:spPr>
          <a:xfrm>
            <a:off x="971640" y="2552760"/>
            <a:ext cx="3240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независимые переменны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6" name=""/>
          <p:cNvSpPr/>
          <p:nvPr/>
        </p:nvSpPr>
        <p:spPr>
          <a:xfrm>
            <a:off x="4788000" y="2552760"/>
            <a:ext cx="24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искомая функц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7" name=""/>
          <p:cNvSpPr/>
          <p:nvPr/>
        </p:nvSpPr>
        <p:spPr>
          <a:xfrm>
            <a:off x="1476360" y="3139920"/>
            <a:ext cx="633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первые и вторые частные производные по аргумент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8" name=""/>
          <p:cNvSpPr/>
          <p:nvPr/>
        </p:nvSpPr>
        <p:spPr>
          <a:xfrm>
            <a:off x="0" y="3716280"/>
            <a:ext cx="536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ешением уравнения (62) называется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9" name=""/>
          <p:cNvSpPr/>
          <p:nvPr/>
        </p:nvSpPr>
        <p:spPr>
          <a:xfrm>
            <a:off x="6227640" y="3716280"/>
            <a:ext cx="24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обращающая э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0" name=""/>
          <p:cNvSpPr/>
          <p:nvPr/>
        </p:nvSpPr>
        <p:spPr>
          <a:xfrm>
            <a:off x="0" y="4365720"/>
            <a:ext cx="914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это уравнение в тождество. График решения представляет собой поверхность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1" name=""/>
          <p:cNvSpPr/>
          <p:nvPr/>
        </p:nvSpPr>
        <p:spPr>
          <a:xfrm>
            <a:off x="0" y="4940280"/>
            <a:ext cx="16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остран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2" name=""/>
          <p:cNvSpPr/>
          <p:nvPr/>
        </p:nvSpPr>
        <p:spPr>
          <a:xfrm>
            <a:off x="1979640" y="494028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6" name=""/>
          <p:cNvSpPr/>
          <p:nvPr/>
        </p:nvSpPr>
        <p:spPr>
          <a:xfrm>
            <a:off x="0" y="260280"/>
            <a:ext cx="914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ЛАССИФИКАЦИЯ ДИФФЕРЕНЦИАЛЬНЫХ УРАВНЕНИЙ С ЧАСТНЫМИ ПРОИЗВОД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7" name=""/>
          <p:cNvSpPr/>
          <p:nvPr/>
        </p:nvSpPr>
        <p:spPr>
          <a:xfrm>
            <a:off x="0" y="97956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Уравнение (62) называется вполне линейным, если оно является уравнением первой степени относительно искомой функции и всех ее производных и не содержит их произвед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8" name=""/>
          <p:cNvSpPr/>
          <p:nvPr/>
        </p:nvSpPr>
        <p:spPr>
          <a:xfrm>
            <a:off x="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9" name=""/>
          <p:cNvSpPr/>
          <p:nvPr/>
        </p:nvSpPr>
        <p:spPr>
          <a:xfrm>
            <a:off x="0" y="374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0" name=""/>
          <p:cNvSpPr/>
          <p:nvPr/>
        </p:nvSpPr>
        <p:spPr>
          <a:xfrm>
            <a:off x="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1" name=""/>
          <p:cNvSpPr/>
          <p:nvPr/>
        </p:nvSpPr>
        <p:spPr>
          <a:xfrm>
            <a:off x="0" y="372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"/>
          <p:cNvSpPr/>
          <p:nvPr/>
        </p:nvSpPr>
        <p:spPr>
          <a:xfrm>
            <a:off x="0" y="374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3" name=""/>
          <p:cNvSpPr/>
          <p:nvPr/>
        </p:nvSpPr>
        <p:spPr>
          <a:xfrm>
            <a:off x="0" y="374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0" y="372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5" name=""/>
          <p:cNvSpPr/>
          <p:nvPr/>
        </p:nvSpPr>
        <p:spPr>
          <a:xfrm>
            <a:off x="0" y="36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"/>
          <p:cNvSpPr/>
          <p:nvPr/>
        </p:nvSpPr>
        <p:spPr>
          <a:xfrm>
            <a:off x="0" y="360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"/>
          <p:cNvSpPr/>
          <p:nvPr/>
        </p:nvSpPr>
        <p:spPr>
          <a:xfrm>
            <a:off x="0" y="371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8" name=""/>
          <p:cNvSpPr/>
          <p:nvPr/>
        </p:nvSpPr>
        <p:spPr>
          <a:xfrm>
            <a:off x="0" y="374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9" name=""/>
          <p:cNvSpPr/>
          <p:nvPr/>
        </p:nvSpPr>
        <p:spPr>
          <a:xfrm>
            <a:off x="0" y="374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0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"/>
          <p:cNvSpPr/>
          <p:nvPr/>
        </p:nvSpPr>
        <p:spPr>
          <a:xfrm>
            <a:off x="0" y="374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"/>
          <p:cNvSpPr/>
          <p:nvPr/>
        </p:nvSpPr>
        <p:spPr>
          <a:xfrm>
            <a:off x="0" y="374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"/>
          <p:cNvSpPr/>
          <p:nvPr/>
        </p:nvSpPr>
        <p:spPr>
          <a:xfrm>
            <a:off x="0" y="372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24" name=""/>
          <p:cNvGraphicFramePr/>
          <p:nvPr/>
        </p:nvGraphicFramePr>
        <p:xfrm>
          <a:off x="2265480" y="1857240"/>
          <a:ext cx="3962160" cy="2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5480" y="1857240"/>
                    <a:ext cx="396216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6" name=""/>
          <p:cNvSpPr/>
          <p:nvPr/>
        </p:nvSpPr>
        <p:spPr>
          <a:xfrm>
            <a:off x="6515280" y="1844640"/>
            <a:ext cx="72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6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"/>
          <p:cNvSpPr/>
          <p:nvPr/>
        </p:nvSpPr>
        <p:spPr>
          <a:xfrm>
            <a:off x="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28" name=""/>
          <p:cNvGraphicFramePr/>
          <p:nvPr/>
        </p:nvGraphicFramePr>
        <p:xfrm>
          <a:off x="2484360" y="2921040"/>
          <a:ext cx="1143000" cy="21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2921040"/>
                    <a:ext cx="114300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0" name=""/>
          <p:cNvGraphicFramePr/>
          <p:nvPr/>
        </p:nvGraphicFramePr>
        <p:xfrm>
          <a:off x="5364000" y="2949480"/>
          <a:ext cx="304920" cy="1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2949480"/>
                    <a:ext cx="30492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2" name=""/>
          <p:cNvSpPr/>
          <p:nvPr/>
        </p:nvSpPr>
        <p:spPr>
          <a:xfrm>
            <a:off x="0" y="358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33" name=""/>
          <p:cNvGraphicFramePr/>
          <p:nvPr/>
        </p:nvGraphicFramePr>
        <p:xfrm>
          <a:off x="3524400" y="4651200"/>
          <a:ext cx="1552320" cy="543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24400" y="4651200"/>
                    <a:ext cx="1552320" cy="5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5" name=""/>
          <p:cNvSpPr/>
          <p:nvPr/>
        </p:nvSpPr>
        <p:spPr>
          <a:xfrm>
            <a:off x="0" y="2205000"/>
            <a:ext cx="2268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 коэффици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36" name=""/>
          <p:cNvGraphicFramePr/>
          <p:nvPr/>
        </p:nvGraphicFramePr>
        <p:xfrm>
          <a:off x="2268360" y="2273400"/>
          <a:ext cx="1143000" cy="218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68360" y="2273400"/>
                    <a:ext cx="114300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8" name=""/>
          <p:cNvSpPr/>
          <p:nvPr/>
        </p:nvSpPr>
        <p:spPr>
          <a:xfrm>
            <a:off x="3492360" y="2205000"/>
            <a:ext cx="295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могут зависеть только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39" name=""/>
          <p:cNvGraphicFramePr/>
          <p:nvPr/>
        </p:nvGraphicFramePr>
        <p:xfrm>
          <a:off x="6443640" y="2276640"/>
          <a:ext cx="304920" cy="19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43640" y="2276640"/>
                    <a:ext cx="30492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1" name=""/>
          <p:cNvSpPr/>
          <p:nvPr/>
        </p:nvSpPr>
        <p:spPr>
          <a:xfrm>
            <a:off x="6877080" y="2205000"/>
            <a:ext cx="3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>
            <a:off x="0" y="2852640"/>
            <a:ext cx="24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Если  коэффици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>
            <a:off x="3635280" y="2852640"/>
            <a:ext cx="172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е зависят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>
            <a:off x="5796000" y="2852640"/>
            <a:ext cx="172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.е. являю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>
            <a:off x="0" y="342900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стоянными, то уравнение (63) называется линейным дифференциальным уравнением второго порядка с постоянными коэффициен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>
            <a:off x="0" y="4363920"/>
            <a:ext cx="90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у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>
            <a:off x="0" y="5372280"/>
            <a:ext cx="399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искриминант урав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0" y="260280"/>
            <a:ext cx="914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ЛАССИФИКАЦИЯ ДИФФЕРЕНЦИАЛЬНЫХ УРАВНЕНИЙ С ЧАСТНЫМИ ПРОИЗВОД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0" y="979560"/>
            <a:ext cx="2916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 зависимости от зн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9" name=""/>
          <p:cNvGraphicFramePr/>
          <p:nvPr/>
        </p:nvGraphicFramePr>
        <p:xfrm>
          <a:off x="2771640" y="1052640"/>
          <a:ext cx="123840" cy="1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052640"/>
                    <a:ext cx="123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1" name=""/>
          <p:cNvSpPr/>
          <p:nvPr/>
        </p:nvSpPr>
        <p:spPr>
          <a:xfrm>
            <a:off x="3132000" y="981000"/>
            <a:ext cx="540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линейное дифференциальное уравнение (6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0" y="1341360"/>
            <a:ext cx="540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тносится к одному из следующих тип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4" name=""/>
          <p:cNvGraphicFramePr/>
          <p:nvPr/>
        </p:nvGraphicFramePr>
        <p:xfrm>
          <a:off x="797040" y="1751040"/>
          <a:ext cx="390240" cy="1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7040" y="1751040"/>
                    <a:ext cx="3902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77" name=""/>
          <p:cNvGraphicFramePr/>
          <p:nvPr/>
        </p:nvGraphicFramePr>
        <p:xfrm>
          <a:off x="797040" y="2158920"/>
          <a:ext cx="390240" cy="1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7040" y="2158920"/>
                    <a:ext cx="3902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9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80" name=""/>
          <p:cNvGraphicFramePr/>
          <p:nvPr/>
        </p:nvGraphicFramePr>
        <p:xfrm>
          <a:off x="797040" y="2517840"/>
          <a:ext cx="390240" cy="19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7040" y="2517840"/>
                    <a:ext cx="3902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2" name=""/>
          <p:cNvGraphicFramePr/>
          <p:nvPr/>
        </p:nvGraphicFramePr>
        <p:xfrm>
          <a:off x="826920" y="2878200"/>
          <a:ext cx="123840" cy="19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26920" y="2878200"/>
                    <a:ext cx="123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4" name=""/>
          <p:cNvSpPr/>
          <p:nvPr/>
        </p:nvSpPr>
        <p:spPr>
          <a:xfrm>
            <a:off x="1332000" y="1700280"/>
            <a:ext cx="251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эллиптический ти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1332000" y="2060640"/>
            <a:ext cx="2952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параболический ти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1332000" y="2419200"/>
            <a:ext cx="295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гиперболический тип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1332000" y="2781360"/>
            <a:ext cx="781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е сохраняет постоянного знака в данной области – смешанный тип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0" y="3284640"/>
            <a:ext cx="8964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ип линейного дифференциального уравнения (63) сохраняется при любом невырожденном преобразов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0" name=""/>
          <p:cNvGraphicFramePr/>
          <p:nvPr/>
        </p:nvGraphicFramePr>
        <p:xfrm>
          <a:off x="2898720" y="3860640"/>
          <a:ext cx="80964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98720" y="3860640"/>
                    <a:ext cx="8096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3" name=""/>
          <p:cNvGraphicFramePr/>
          <p:nvPr/>
        </p:nvGraphicFramePr>
        <p:xfrm>
          <a:off x="4516560" y="3882960"/>
          <a:ext cx="847440" cy="2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16560" y="3882960"/>
                    <a:ext cx="8474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5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6" name=""/>
          <p:cNvGraphicFramePr/>
          <p:nvPr/>
        </p:nvGraphicFramePr>
        <p:xfrm>
          <a:off x="3548160" y="4869000"/>
          <a:ext cx="2247840" cy="3142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9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548160" y="4869000"/>
                    <a:ext cx="22478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8" name=""/>
          <p:cNvSpPr/>
          <p:nvPr/>
        </p:nvSpPr>
        <p:spPr>
          <a:xfrm>
            <a:off x="0" y="422100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 линейным дифференциальным уравнением (63) связано обыкновенное дифференциальное урав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0" y="5300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оторое называется характеристическим уравнением для дифференциального уравнения (6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0" y="260280"/>
            <a:ext cx="914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КЛАССИФИКАЦИЯ ДИФФЕРЕНЦИАЛЬНЫХ УРАВНЕНИЙ С ЧАСТНЫМИ ПРОИЗВОДНЫ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0" y="97956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ешения характеристического уравнения (63) называются характеристиками уравнения (63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34920" y="1557360"/>
            <a:ext cx="619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. Канонический вид уравнения гиперболического тип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2" name=""/>
          <p:cNvGraphicFramePr/>
          <p:nvPr/>
        </p:nvGraphicFramePr>
        <p:xfrm>
          <a:off x="2428920" y="1928880"/>
          <a:ext cx="3438360" cy="27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28920" y="1928880"/>
                    <a:ext cx="3438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4" name=""/>
          <p:cNvSpPr/>
          <p:nvPr/>
        </p:nvSpPr>
        <p:spPr>
          <a:xfrm>
            <a:off x="0" y="2276640"/>
            <a:ext cx="6300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. Канонический вид уравнения параболического тип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6" name=""/>
          <p:cNvGraphicFramePr/>
          <p:nvPr/>
        </p:nvGraphicFramePr>
        <p:xfrm>
          <a:off x="2409840" y="2720880"/>
          <a:ext cx="3457440" cy="2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09840" y="2720880"/>
                    <a:ext cx="345744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8" name=""/>
          <p:cNvSpPr/>
          <p:nvPr/>
        </p:nvSpPr>
        <p:spPr>
          <a:xfrm>
            <a:off x="0" y="3068640"/>
            <a:ext cx="5977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. Канонический вид уравнения эллиптического тип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0" name=""/>
          <p:cNvGraphicFramePr/>
          <p:nvPr/>
        </p:nvGraphicFramePr>
        <p:xfrm>
          <a:off x="3462480" y="3505320"/>
          <a:ext cx="1685880" cy="57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62480" y="3505320"/>
                    <a:ext cx="168588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2" name=""/>
          <p:cNvSpPr/>
          <p:nvPr/>
        </p:nvSpPr>
        <p:spPr>
          <a:xfrm>
            <a:off x="0" y="4292640"/>
            <a:ext cx="597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. Канонический вид уравнения эллиптического тип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4" name=""/>
          <p:cNvGraphicFramePr/>
          <p:nvPr/>
        </p:nvGraphicFramePr>
        <p:xfrm>
          <a:off x="2308320" y="4665600"/>
          <a:ext cx="3848040" cy="27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08320" y="4665600"/>
                    <a:ext cx="38480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37" name=""/>
          <p:cNvGraphicFramePr/>
          <p:nvPr/>
        </p:nvGraphicFramePr>
        <p:xfrm>
          <a:off x="1476360" y="5157720"/>
          <a:ext cx="105732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76360" y="5157720"/>
                    <a:ext cx="10573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9" name=""/>
          <p:cNvSpPr/>
          <p:nvPr/>
        </p:nvSpPr>
        <p:spPr>
          <a:xfrm>
            <a:off x="0" y="5084640"/>
            <a:ext cx="147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ыраж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2627280" y="5156280"/>
            <a:ext cx="3889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зывается оператором Лапла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КОНТРОЛЬНЫЕ ВОПРОС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179280" y="692280"/>
            <a:ext cx="87854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Какое дифференциальное уравнение с частными производными называется вполне линейным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Запишите вид вполне линейного дифференциального уравн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Как определяется тип дифференциального уравнения с частными производным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Сохраняется ли тип дифференциального уравнения при любом невырожденном преобразовании координат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Запишите характеристическое уравнение для вполне линейного дифференциального уравнения в частных производны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Запишите канонический вид дифференциального уравнения гиперболического тип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Запишите канонический вид дифференциального уравнения параболического тип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Запишите канонический вид дифференциального уравнения эллиптического тип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Запишите уравнение Лапласа и уравнение Пуасс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Запишите первую основную конечно-разностную форму оператора Лапла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1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ЧИСЛЕННЫЕ МЕТОДЫ РЕШЕНИЯ КРАЕВЫХ ЗАДАЧ ДЛЯ ДИФФЕРЕНЦИАЛЬНЫХ УРАВНЕНИЙ С ЧАСТНЫМИ ПРОИЗВОДНЫМИ (решение задачи Дирихле методом сеток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0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395" dur="2000" fill="hold"/>
                                        <p:tgtEl>
                                          <p:spTgt spid="3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1000" fill="hold"/>
                                        <p:tgtEl>
                                          <p:spTgt spid="3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1000" fill="hold"/>
                                        <p:tgtEl>
                                          <p:spTgt spid="3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0" y="26028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ЕШЕНИЕ ЗАДАЧИ ДИРИХЛЕ МЕТОДОМ СЕ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0" y="90792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дея метода сеток (метода конечных разностей) для приближенного решения краевых задач для двумерных дифференциальных уравнений заключается в следующе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34920" y="1989000"/>
            <a:ext cx="25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) в пло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0" name=""/>
          <p:cNvGraphicFramePr/>
          <p:nvPr/>
        </p:nvGraphicFramePr>
        <p:xfrm>
          <a:off x="2581200" y="2060640"/>
          <a:ext cx="19044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1200" y="2060640"/>
                    <a:ext cx="1904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63" name=""/>
          <p:cNvGraphicFramePr/>
          <p:nvPr/>
        </p:nvGraphicFramePr>
        <p:xfrm>
          <a:off x="2050920" y="2759040"/>
          <a:ext cx="238320" cy="2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2759040"/>
                    <a:ext cx="23832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5" name=""/>
          <p:cNvSpPr/>
          <p:nvPr/>
        </p:nvSpPr>
        <p:spPr>
          <a:xfrm>
            <a:off x="2771640" y="1989000"/>
            <a:ext cx="637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в которой разыскивается решение, строи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0" y="2708280"/>
            <a:ext cx="21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еточная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2340000" y="2708280"/>
            <a:ext cx="637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состоящая из одинаковых ячеек, и приближающ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0" y="3355920"/>
            <a:ext cx="205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анную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0" name=""/>
          <p:cNvGraphicFramePr/>
          <p:nvPr/>
        </p:nvGraphicFramePr>
        <p:xfrm>
          <a:off x="1908000" y="3429000"/>
          <a:ext cx="190800" cy="1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3429000"/>
                    <a:ext cx="1908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2" name=""/>
          <p:cNvSpPr/>
          <p:nvPr/>
        </p:nvSpPr>
        <p:spPr>
          <a:xfrm>
            <a:off x="2195640" y="335592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0" y="414828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) заданное дифференциальное уравнение заменяется в узлах построенной сетки соответствующим конечно-разностным уравнение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) на основании граничных условий устанавливаются значения иском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0" y="5587920"/>
            <a:ext cx="414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ешения в граничных узлах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6" name=""/>
          <p:cNvGraphicFramePr/>
          <p:nvPr/>
        </p:nvGraphicFramePr>
        <p:xfrm>
          <a:off x="4118040" y="5637240"/>
          <a:ext cx="237960" cy="23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8040" y="5637240"/>
                    <a:ext cx="23796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8" name=""/>
          <p:cNvSpPr/>
          <p:nvPr/>
        </p:nvSpPr>
        <p:spPr>
          <a:xfrm>
            <a:off x="4427640" y="558792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0" y="26028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ЕШЕНИЕ ЗАДАЧИ ДИРИХЛЕ МЕТОДОМ СЕ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ыбор сеточной области производится в зависимости от конкретной задачи, 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0" y="1341360"/>
            <a:ext cx="27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о всех случаях конт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86" name=""/>
          <p:cNvGraphicFramePr/>
          <p:nvPr/>
        </p:nvGraphicFramePr>
        <p:xfrm>
          <a:off x="2627280" y="1390680"/>
          <a:ext cx="228600" cy="23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390680"/>
                    <a:ext cx="228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8" name=""/>
          <p:cNvSpPr/>
          <p:nvPr/>
        </p:nvSpPr>
        <p:spPr>
          <a:xfrm>
            <a:off x="2916360" y="1341360"/>
            <a:ext cx="22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еточн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0" name=""/>
          <p:cNvGraphicFramePr/>
          <p:nvPr/>
        </p:nvGraphicFramePr>
        <p:xfrm>
          <a:off x="5054760" y="1390680"/>
          <a:ext cx="237960" cy="23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54760" y="1390680"/>
                    <a:ext cx="23796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2" name=""/>
          <p:cNvSpPr/>
          <p:nvPr/>
        </p:nvSpPr>
        <p:spPr>
          <a:xfrm>
            <a:off x="5435640" y="1341360"/>
            <a:ext cx="3708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ледует выбирать так, что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0" y="1700280"/>
            <a:ext cx="521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н как можно лучше аппроксимировал конт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5" name=""/>
          <p:cNvGraphicFramePr/>
          <p:nvPr/>
        </p:nvGraphicFramePr>
        <p:xfrm>
          <a:off x="5067360" y="1773360"/>
          <a:ext cx="152280" cy="18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7360" y="1773360"/>
                    <a:ext cx="15228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7" name=""/>
          <p:cNvSpPr/>
          <p:nvPr/>
        </p:nvSpPr>
        <p:spPr>
          <a:xfrm>
            <a:off x="5292720" y="1700280"/>
            <a:ext cx="22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аданн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99" name=""/>
          <p:cNvGraphicFramePr/>
          <p:nvPr/>
        </p:nvGraphicFramePr>
        <p:xfrm>
          <a:off x="7477200" y="1735200"/>
          <a:ext cx="190440" cy="1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77200" y="1735200"/>
                    <a:ext cx="1904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1" name=""/>
          <p:cNvSpPr/>
          <p:nvPr/>
        </p:nvSpPr>
        <p:spPr>
          <a:xfrm>
            <a:off x="7667640" y="1700280"/>
            <a:ext cx="289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0" y="198900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ссмотрим применение метода сеток для построения решения задачи Дирих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4" name=""/>
          <p:cNvGraphicFramePr/>
          <p:nvPr/>
        </p:nvGraphicFramePr>
        <p:xfrm>
          <a:off x="3244680" y="2448000"/>
          <a:ext cx="2048040" cy="533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44680" y="2448000"/>
                    <a:ext cx="20480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6" name=""/>
          <p:cNvSpPr/>
          <p:nvPr/>
        </p:nvSpPr>
        <p:spPr>
          <a:xfrm>
            <a:off x="5435640" y="2549520"/>
            <a:ext cx="72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6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08" name=""/>
          <p:cNvGraphicFramePr/>
          <p:nvPr/>
        </p:nvGraphicFramePr>
        <p:xfrm>
          <a:off x="3348000" y="3052800"/>
          <a:ext cx="1343160" cy="304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0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8000" y="3052800"/>
                    <a:ext cx="13431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0" name=""/>
          <p:cNvSpPr/>
          <p:nvPr/>
        </p:nvSpPr>
        <p:spPr>
          <a:xfrm>
            <a:off x="179280" y="3645000"/>
            <a:ext cx="15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ыбрав ша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12" name=""/>
          <p:cNvGraphicFramePr/>
          <p:nvPr/>
        </p:nvGraphicFramePr>
        <p:xfrm>
          <a:off x="1692360" y="3716280"/>
          <a:ext cx="142920" cy="19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92360" y="3716280"/>
                    <a:ext cx="14292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4" name=""/>
          <p:cNvSpPr/>
          <p:nvPr/>
        </p:nvSpPr>
        <p:spPr>
          <a:xfrm>
            <a:off x="1908000" y="3645000"/>
            <a:ext cx="316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строим квадратную сет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16" name=""/>
          <p:cNvGraphicFramePr/>
          <p:nvPr/>
        </p:nvGraphicFramePr>
        <p:xfrm>
          <a:off x="2689200" y="4314960"/>
          <a:ext cx="2962440" cy="266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89200" y="4314960"/>
                    <a:ext cx="296244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8" name=""/>
          <p:cNvSpPr/>
          <p:nvPr/>
        </p:nvSpPr>
        <p:spPr>
          <a:xfrm>
            <a:off x="0" y="5013360"/>
            <a:ext cx="34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 таким расчетом, чтобы уз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0" name=""/>
          <p:cNvGraphicFramePr/>
          <p:nvPr/>
        </p:nvGraphicFramePr>
        <p:xfrm>
          <a:off x="3433680" y="4959360"/>
          <a:ext cx="561960" cy="342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2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33680" y="4959360"/>
                    <a:ext cx="5619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2" name=""/>
          <p:cNvSpPr/>
          <p:nvPr/>
        </p:nvSpPr>
        <p:spPr>
          <a:xfrm>
            <a:off x="4067280" y="501336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4" name=""/>
          <p:cNvGraphicFramePr/>
          <p:nvPr/>
        </p:nvGraphicFramePr>
        <p:xfrm>
          <a:off x="4859280" y="5064120"/>
          <a:ext cx="219240" cy="237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59280" y="5064120"/>
                    <a:ext cx="219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6" name=""/>
          <p:cNvSpPr/>
          <p:nvPr/>
        </p:nvSpPr>
        <p:spPr>
          <a:xfrm>
            <a:off x="5076720" y="5013360"/>
            <a:ext cx="316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ли принадлежали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8" name=""/>
          <p:cNvGraphicFramePr/>
          <p:nvPr/>
        </p:nvGraphicFramePr>
        <p:xfrm>
          <a:off x="133200" y="5803920"/>
          <a:ext cx="190800" cy="181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2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33200" y="5803920"/>
                    <a:ext cx="1908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0" name=""/>
          <p:cNvSpPr/>
          <p:nvPr/>
        </p:nvSpPr>
        <p:spPr>
          <a:xfrm>
            <a:off x="395280" y="573264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или отстояли от ее гран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2" name=""/>
          <p:cNvGraphicFramePr/>
          <p:nvPr/>
        </p:nvGraphicFramePr>
        <p:xfrm>
          <a:off x="3780000" y="5767560"/>
          <a:ext cx="152280" cy="180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780000" y="5767560"/>
                    <a:ext cx="15228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4" name=""/>
          <p:cNvSpPr/>
          <p:nvPr/>
        </p:nvSpPr>
        <p:spPr>
          <a:xfrm>
            <a:off x="3995640" y="573264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 расстоянии, меньшем ч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6" name=""/>
          <p:cNvGraphicFramePr/>
          <p:nvPr/>
        </p:nvGraphicFramePr>
        <p:xfrm>
          <a:off x="7380360" y="5803920"/>
          <a:ext cx="142920" cy="1904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3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7380360" y="5803920"/>
                    <a:ext cx="14292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8" name=""/>
          <p:cNvSpPr/>
          <p:nvPr/>
        </p:nvSpPr>
        <p:spPr>
          <a:xfrm>
            <a:off x="7596360" y="5732640"/>
            <a:ext cx="28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0" y="26028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ЕШЕНИЕ ЗАДАЧИ ДИРИХЛЕ МЕТОДОМ СЕ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0" y="907920"/>
            <a:ext cx="31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Узлы с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5" name=""/>
          <p:cNvGraphicFramePr/>
          <p:nvPr/>
        </p:nvGraphicFramePr>
        <p:xfrm>
          <a:off x="3059280" y="958680"/>
          <a:ext cx="218880" cy="2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958680"/>
                    <a:ext cx="21888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8" name=""/>
          <p:cNvGraphicFramePr/>
          <p:nvPr/>
        </p:nvGraphicFramePr>
        <p:xfrm>
          <a:off x="8101080" y="1268280"/>
          <a:ext cx="142920" cy="190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01080" y="1268280"/>
                    <a:ext cx="14292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0" name=""/>
          <p:cNvSpPr/>
          <p:nvPr/>
        </p:nvSpPr>
        <p:spPr>
          <a:xfrm>
            <a:off x="3276720" y="907920"/>
            <a:ext cx="56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зываются соседними, если они удалены дру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0" y="1197000"/>
            <a:ext cx="831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от друга в направлении оси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OX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или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OY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на расстоянии, равное шагу с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8317080" y="119700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0" y="1627200"/>
            <a:ext cx="24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Уз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5" name=""/>
          <p:cNvGraphicFramePr/>
          <p:nvPr/>
        </p:nvGraphicFramePr>
        <p:xfrm>
          <a:off x="2411280" y="1677960"/>
          <a:ext cx="219240" cy="2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1677960"/>
                    <a:ext cx="219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58" name=""/>
          <p:cNvGraphicFramePr/>
          <p:nvPr/>
        </p:nvGraphicFramePr>
        <p:xfrm>
          <a:off x="3492360" y="1700280"/>
          <a:ext cx="219240" cy="23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1700280"/>
                    <a:ext cx="219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61" name=""/>
          <p:cNvGraphicFramePr/>
          <p:nvPr/>
        </p:nvGraphicFramePr>
        <p:xfrm>
          <a:off x="1042920" y="1989000"/>
          <a:ext cx="190440" cy="18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6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42920" y="1989000"/>
                    <a:ext cx="1904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3" name=""/>
          <p:cNvSpPr/>
          <p:nvPr/>
        </p:nvSpPr>
        <p:spPr>
          <a:xfrm>
            <a:off x="2700360" y="162864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3780000" y="1628640"/>
            <a:ext cx="53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зывается внутренним, если он принадлеж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>
            <a:off x="0" y="1916280"/>
            <a:ext cx="11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>
            <a:off x="1258920" y="1916280"/>
            <a:ext cx="482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а все 4 соседним с ним узла - множест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67" name=""/>
          <p:cNvGraphicFramePr/>
          <p:nvPr/>
        </p:nvGraphicFramePr>
        <p:xfrm>
          <a:off x="6081840" y="1967040"/>
          <a:ext cx="218880" cy="23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81840" y="1967040"/>
                    <a:ext cx="21888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9" name=""/>
          <p:cNvSpPr/>
          <p:nvPr/>
        </p:nvSpPr>
        <p:spPr>
          <a:xfrm>
            <a:off x="6300720" y="1916280"/>
            <a:ext cx="25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; в противном случа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0" y="2276640"/>
            <a:ext cx="31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н называется грани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0" y="2637000"/>
            <a:ext cx="442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Граничный узел с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2" name=""/>
          <p:cNvGraphicFramePr/>
          <p:nvPr/>
        </p:nvGraphicFramePr>
        <p:xfrm>
          <a:off x="4211640" y="2685960"/>
          <a:ext cx="219240" cy="238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1640" y="2685960"/>
                    <a:ext cx="219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4" name=""/>
          <p:cNvSpPr/>
          <p:nvPr/>
        </p:nvSpPr>
        <p:spPr>
          <a:xfrm>
            <a:off x="4427640" y="2637000"/>
            <a:ext cx="36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зывается узлом первого 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6" name=""/>
          <p:cNvGraphicFramePr/>
          <p:nvPr/>
        </p:nvGraphicFramePr>
        <p:xfrm>
          <a:off x="8028000" y="2708280"/>
          <a:ext cx="219240" cy="237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028000" y="2708280"/>
                    <a:ext cx="219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8" name=""/>
          <p:cNvSpPr/>
          <p:nvPr/>
        </p:nvSpPr>
        <p:spPr>
          <a:xfrm>
            <a:off x="8244000" y="2637000"/>
            <a:ext cx="9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>
            <a:off x="0" y="299736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н имеет соседний внутренний узел этой сетки; в противном случае гранич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>
            <a:off x="0" y="3284640"/>
            <a:ext cx="43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зел называется узлом второго 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2" name=""/>
          <p:cNvGraphicFramePr/>
          <p:nvPr/>
        </p:nvGraphicFramePr>
        <p:xfrm>
          <a:off x="4199040" y="3335400"/>
          <a:ext cx="228600" cy="23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8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99040" y="3335400"/>
                    <a:ext cx="228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4" name=""/>
          <p:cNvSpPr/>
          <p:nvPr/>
        </p:nvSpPr>
        <p:spPr>
          <a:xfrm>
            <a:off x="4500720" y="328464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>
            <a:off x="0" y="357336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нутренние уз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7" name=""/>
          <p:cNvGraphicFramePr/>
          <p:nvPr/>
        </p:nvGraphicFramePr>
        <p:xfrm>
          <a:off x="1979640" y="3622680"/>
          <a:ext cx="218880" cy="237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979640" y="3622680"/>
                    <a:ext cx="21888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0" name=""/>
          <p:cNvGraphicFramePr/>
          <p:nvPr/>
        </p:nvGraphicFramePr>
        <p:xfrm>
          <a:off x="5867280" y="3622680"/>
          <a:ext cx="219240" cy="237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9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67280" y="3622680"/>
                    <a:ext cx="219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3" name=""/>
          <p:cNvGraphicFramePr/>
          <p:nvPr/>
        </p:nvGraphicFramePr>
        <p:xfrm>
          <a:off x="6945480" y="3622680"/>
          <a:ext cx="218880" cy="237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9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45480" y="3622680"/>
                    <a:ext cx="21888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96" name=""/>
          <p:cNvGraphicFramePr/>
          <p:nvPr/>
        </p:nvGraphicFramePr>
        <p:xfrm>
          <a:off x="5783400" y="3911760"/>
          <a:ext cx="228600" cy="2379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9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783400" y="3911760"/>
                    <a:ext cx="228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8" name=""/>
          <p:cNvSpPr/>
          <p:nvPr/>
        </p:nvSpPr>
        <p:spPr>
          <a:xfrm>
            <a:off x="2268360" y="3573360"/>
            <a:ext cx="359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граничные узлы первого 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>
            <a:off x="6156360" y="3573360"/>
            <a:ext cx="79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>
            <a:off x="0" y="3860640"/>
            <a:ext cx="57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счетными точками. Граничные узлы второго 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>
            <a:off x="7236000" y="3573360"/>
            <a:ext cx="19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зываю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>
            <a:off x="6084720" y="3860640"/>
            <a:ext cx="30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 вычислениях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>
            <a:off x="0" y="4221000"/>
            <a:ext cx="46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частвуют и могут быть изъяты из се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05" name=""/>
          <p:cNvGraphicFramePr/>
          <p:nvPr/>
        </p:nvGraphicFramePr>
        <p:xfrm>
          <a:off x="3851280" y="4630680"/>
          <a:ext cx="219240" cy="238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40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851280" y="4630680"/>
                    <a:ext cx="2192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7" name=""/>
          <p:cNvSpPr/>
          <p:nvPr/>
        </p:nvSpPr>
        <p:spPr>
          <a:xfrm>
            <a:off x="0" y="4581360"/>
            <a:ext cx="406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Множество расчетных точек с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>
            <a:off x="4211640" y="4581360"/>
            <a:ext cx="475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олжно быть «связное», т.е. любые д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>
            <a:off x="0" y="494172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счетные точки можно соединить цепочкой узлов, каждые два смежных элемента которой являются соседними узл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8000" y="836640"/>
            <a:ext cx="21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Если график фун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ГРАФИЧЕСКИЙ МЕТ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254320" y="836640"/>
                <a:ext cx="6620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2987640" y="836640"/>
            <a:ext cx="144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имеет прост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8000" y="1197000"/>
            <a:ext cx="5832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аналитический вид, то его мож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непосредственно построить и определить точ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его пересечения с осью </a:t>
            </a: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OX</a:t>
            </a: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. Эти точки и буду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являться приближенными значениями корне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нелинейного уравнения (1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280" y="3540240"/>
            <a:ext cx="212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Если график функц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254320" y="3540240"/>
                <a:ext cx="6620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3059280" y="3540240"/>
            <a:ext cx="1584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имеет слож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1280" y="3935520"/>
            <a:ext cx="4645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аналитический вид, то его можно представить 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280" y="4292640"/>
            <a:ext cx="450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виде разности двух более простых функций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57240" y="4589640"/>
                <a:ext cx="1706400" cy="35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limUpp>
                      <m:e>
                        <m:r>
                          <m:t xml:space="preserve">=</m:t>
                        </m:r>
                      </m:e>
                      <m:li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lim>
                    </m:limUpp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1835280" y="4662360"/>
            <a:ext cx="718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Тогд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449440" y="4662360"/>
                <a:ext cx="97020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>
            <a:off x="108000" y="5013360"/>
            <a:ext cx="453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Таким образом, задача решения нелинейног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44360" y="5373720"/>
            <a:ext cx="500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уравнения (1) сводится к поиску точек пересеч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4360" y="5700600"/>
            <a:ext cx="183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графиков функци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1979640" y="5700600"/>
                <a:ext cx="6760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6" name=""/>
          <p:cNvSpPr/>
          <p:nvPr/>
        </p:nvSpPr>
        <p:spPr>
          <a:xfrm>
            <a:off x="2771640" y="5700600"/>
            <a:ext cx="287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059280" y="5700600"/>
                <a:ext cx="73476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108000" y="6093000"/>
            <a:ext cx="439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будут являться приближенными значени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360" y="6453360"/>
            <a:ext cx="34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корней нелинейного уравнения (1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51280" y="5700600"/>
            <a:ext cx="122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Эти точки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570640" y="817560"/>
            <a:ext cx="2746440" cy="2322360"/>
            <a:chOff x="5570640" y="817560"/>
            <a:chExt cx="2746440" cy="2322360"/>
          </a:xfrm>
        </p:grpSpPr>
        <p:sp>
          <p:nvSpPr>
            <p:cNvPr id="312" name=""/>
            <p:cNvSpPr/>
            <p:nvPr/>
          </p:nvSpPr>
          <p:spPr>
            <a:xfrm flipV="1">
              <a:off x="5940360" y="836640"/>
              <a:ext cx="0" cy="2016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40360" y="2852640"/>
              <a:ext cx="2305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"/>
                <p:cNvSpPr txBox="1"/>
                <p:nvPr/>
              </p:nvSpPr>
              <p:spPr>
                <a:xfrm>
                  <a:off x="8120160" y="2924280"/>
                  <a:ext cx="1969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5570640" y="817560"/>
                  <a:ext cx="21564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6" name=""/>
                <p:cNvSpPr txBox="1"/>
                <p:nvPr/>
              </p:nvSpPr>
              <p:spPr>
                <a:xfrm>
                  <a:off x="5599080" y="2698920"/>
                  <a:ext cx="19692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7" name=""/>
            <p:cNvSpPr/>
            <p:nvPr/>
          </p:nvSpPr>
          <p:spPr>
            <a:xfrm>
              <a:off x="6012000" y="981000"/>
              <a:ext cx="1368360" cy="2087640"/>
            </a:xfrm>
            <a:custGeom>
              <a:avLst/>
              <a:gdLst/>
              <a:ahLst/>
              <a:rect l="l" t="t" r="r" b="b"/>
              <a:pathLst>
                <a:path w="862" h="1315">
                  <a:moveTo>
                    <a:pt x="0" y="1315"/>
                  </a:moveTo>
                  <a:cubicBezTo>
                    <a:pt x="79" y="1304"/>
                    <a:pt x="159" y="1293"/>
                    <a:pt x="227" y="1270"/>
                  </a:cubicBezTo>
                  <a:cubicBezTo>
                    <a:pt x="295" y="1247"/>
                    <a:pt x="355" y="1217"/>
                    <a:pt x="408" y="1179"/>
                  </a:cubicBezTo>
                  <a:cubicBezTo>
                    <a:pt x="461" y="1141"/>
                    <a:pt x="492" y="1118"/>
                    <a:pt x="545" y="1043"/>
                  </a:cubicBezTo>
                  <a:cubicBezTo>
                    <a:pt x="598" y="968"/>
                    <a:pt x="681" y="839"/>
                    <a:pt x="726" y="726"/>
                  </a:cubicBezTo>
                  <a:cubicBezTo>
                    <a:pt x="771" y="613"/>
                    <a:pt x="794" y="484"/>
                    <a:pt x="817" y="363"/>
                  </a:cubicBezTo>
                  <a:cubicBezTo>
                    <a:pt x="840" y="242"/>
                    <a:pt x="851" y="121"/>
                    <a:pt x="862" y="0"/>
                  </a:cubicBezTo>
                </a:path>
              </a:pathLst>
            </a:custGeom>
            <a:noFill/>
            <a:ln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7524720" y="907920"/>
                  <a:ext cx="662040" cy="24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19" name=""/>
            <p:cNvSpPr/>
            <p:nvPr/>
          </p:nvSpPr>
          <p:spPr>
            <a:xfrm>
              <a:off x="6553080" y="2739960"/>
              <a:ext cx="179640" cy="1843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"/>
                <p:cNvSpPr txBox="1"/>
                <p:nvPr/>
              </p:nvSpPr>
              <p:spPr>
                <a:xfrm>
                  <a:off x="6784920" y="2924280"/>
                  <a:ext cx="2365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1" name=""/>
          <p:cNvGrpSpPr/>
          <p:nvPr/>
        </p:nvGrpSpPr>
        <p:grpSpPr>
          <a:xfrm>
            <a:off x="5580000" y="3789360"/>
            <a:ext cx="3413160" cy="2326320"/>
            <a:chOff x="5580000" y="3789360"/>
            <a:chExt cx="3413160" cy="2326320"/>
          </a:xfrm>
        </p:grpSpPr>
        <p:sp>
          <p:nvSpPr>
            <p:cNvPr id="322" name=""/>
            <p:cNvSpPr/>
            <p:nvPr/>
          </p:nvSpPr>
          <p:spPr>
            <a:xfrm>
              <a:off x="7524720" y="5246640"/>
              <a:ext cx="0" cy="64944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5950080" y="3808440"/>
              <a:ext cx="0" cy="2016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950080" y="5824440"/>
              <a:ext cx="2305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8129520" y="5896080"/>
                  <a:ext cx="1969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580000" y="3789360"/>
                  <a:ext cx="216000" cy="2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5608800" y="5670360"/>
                  <a:ext cx="196560" cy="27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"/>
            <p:cNvSpPr/>
            <p:nvPr/>
          </p:nvSpPr>
          <p:spPr>
            <a:xfrm rot="6142800">
              <a:off x="6707520" y="3651840"/>
              <a:ext cx="884160" cy="2343240"/>
            </a:xfrm>
            <a:custGeom>
              <a:avLst/>
              <a:gdLst/>
              <a:ahLst/>
              <a:rect l="l" t="t" r="r" b="b"/>
              <a:pathLst>
                <a:path w="862" h="1315">
                  <a:moveTo>
                    <a:pt x="0" y="1315"/>
                  </a:moveTo>
                  <a:cubicBezTo>
                    <a:pt x="79" y="1304"/>
                    <a:pt x="159" y="1293"/>
                    <a:pt x="227" y="1270"/>
                  </a:cubicBezTo>
                  <a:cubicBezTo>
                    <a:pt x="295" y="1247"/>
                    <a:pt x="355" y="1217"/>
                    <a:pt x="408" y="1179"/>
                  </a:cubicBezTo>
                  <a:cubicBezTo>
                    <a:pt x="461" y="1141"/>
                    <a:pt x="492" y="1118"/>
                    <a:pt x="545" y="1043"/>
                  </a:cubicBezTo>
                  <a:cubicBezTo>
                    <a:pt x="598" y="968"/>
                    <a:pt x="681" y="839"/>
                    <a:pt x="726" y="726"/>
                  </a:cubicBezTo>
                  <a:cubicBezTo>
                    <a:pt x="771" y="613"/>
                    <a:pt x="794" y="484"/>
                    <a:pt x="817" y="363"/>
                  </a:cubicBezTo>
                  <a:cubicBezTo>
                    <a:pt x="840" y="242"/>
                    <a:pt x="851" y="121"/>
                    <a:pt x="862" y="0"/>
                  </a:cubicBezTo>
                </a:path>
              </a:pathLst>
            </a:custGeom>
            <a:noFill/>
            <a:ln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7431120" y="5896080"/>
                  <a:ext cx="23652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8317080" y="5391000"/>
                  <a:ext cx="676080" cy="24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331" name=""/>
            <p:cNvSpPr/>
            <p:nvPr/>
          </p:nvSpPr>
          <p:spPr>
            <a:xfrm rot="2700600">
              <a:off x="6857280" y="4023000"/>
              <a:ext cx="793800" cy="2122560"/>
            </a:xfrm>
            <a:custGeom>
              <a:avLst/>
              <a:gdLst/>
              <a:ahLst/>
              <a:rect l="l" t="t" r="r" b="b"/>
              <a:pathLst>
                <a:path w="862" h="1315">
                  <a:moveTo>
                    <a:pt x="0" y="1315"/>
                  </a:moveTo>
                  <a:cubicBezTo>
                    <a:pt x="79" y="1304"/>
                    <a:pt x="159" y="1293"/>
                    <a:pt x="227" y="1270"/>
                  </a:cubicBezTo>
                  <a:cubicBezTo>
                    <a:pt x="295" y="1247"/>
                    <a:pt x="355" y="1217"/>
                    <a:pt x="408" y="1179"/>
                  </a:cubicBezTo>
                  <a:cubicBezTo>
                    <a:pt x="461" y="1141"/>
                    <a:pt x="492" y="1118"/>
                    <a:pt x="545" y="1043"/>
                  </a:cubicBezTo>
                  <a:cubicBezTo>
                    <a:pt x="598" y="968"/>
                    <a:pt x="681" y="839"/>
                    <a:pt x="726" y="726"/>
                  </a:cubicBezTo>
                  <a:cubicBezTo>
                    <a:pt x="771" y="613"/>
                    <a:pt x="794" y="484"/>
                    <a:pt x="817" y="363"/>
                  </a:cubicBezTo>
                  <a:cubicBezTo>
                    <a:pt x="840" y="242"/>
                    <a:pt x="851" y="121"/>
                    <a:pt x="862" y="0"/>
                  </a:cubicBezTo>
                </a:path>
              </a:pathLst>
            </a:custGeom>
            <a:noFill/>
            <a:ln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8244000" y="4238640"/>
                  <a:ext cx="734760" cy="24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ϕ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33" name=""/>
            <p:cNvSpPr/>
            <p:nvPr/>
          </p:nvSpPr>
          <p:spPr>
            <a:xfrm>
              <a:off x="7416720" y="5207040"/>
              <a:ext cx="179640" cy="18396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>
            <a:off x="0" y="26028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РЕШЕНИЕ ЗАДАЧИ ДИРИХЛЕ МЕТОДОМ СЕ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>
            <a:off x="0" y="907920"/>
            <a:ext cx="32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начение искомой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16" name=""/>
          <p:cNvGraphicFramePr/>
          <p:nvPr/>
        </p:nvGraphicFramePr>
        <p:xfrm>
          <a:off x="3114720" y="907920"/>
          <a:ext cx="80964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14720" y="907920"/>
                    <a:ext cx="8096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8" name=""/>
          <p:cNvSpPr/>
          <p:nvPr/>
        </p:nvSpPr>
        <p:spPr>
          <a:xfrm>
            <a:off x="3995640" y="907920"/>
            <a:ext cx="115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 точ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0" name=""/>
          <p:cNvGraphicFramePr/>
          <p:nvPr/>
        </p:nvGraphicFramePr>
        <p:xfrm>
          <a:off x="5076720" y="907920"/>
          <a:ext cx="561960" cy="3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907920"/>
                    <a:ext cx="56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2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3" name=""/>
          <p:cNvGraphicFramePr/>
          <p:nvPr/>
        </p:nvGraphicFramePr>
        <p:xfrm>
          <a:off x="7020000" y="925560"/>
          <a:ext cx="1019160" cy="342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0000" y="925560"/>
                    <a:ext cx="10191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5" name=""/>
          <p:cNvSpPr/>
          <p:nvPr/>
        </p:nvSpPr>
        <p:spPr>
          <a:xfrm>
            <a:off x="5651640" y="907920"/>
            <a:ext cx="144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бознач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>
            <a:off x="8172360" y="90792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3348000" y="1484280"/>
          <a:ext cx="56196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48000" y="1484280"/>
                    <a:ext cx="561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30" name=""/>
          <p:cNvGraphicFramePr/>
          <p:nvPr/>
        </p:nvGraphicFramePr>
        <p:xfrm>
          <a:off x="4857840" y="1535040"/>
          <a:ext cx="218880" cy="238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7840" y="1535040"/>
                    <a:ext cx="21888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33" name=""/>
          <p:cNvGraphicFramePr/>
          <p:nvPr/>
        </p:nvGraphicFramePr>
        <p:xfrm>
          <a:off x="3295800" y="2549520"/>
          <a:ext cx="2428560" cy="44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95800" y="2549520"/>
                    <a:ext cx="242856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5" name=""/>
          <p:cNvSpPr/>
          <p:nvPr/>
        </p:nvSpPr>
        <p:spPr>
          <a:xfrm>
            <a:off x="0" y="1484280"/>
            <a:ext cx="34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ля каждой внутренней то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>
            <a:off x="3995640" y="148428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>
            <a:off x="0" y="2060640"/>
            <a:ext cx="88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аменим дифференциальное уравнение (64) конечно-разностным уравн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>
            <a:off x="5867280" y="262080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6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0" name=""/>
          <p:cNvGraphicFramePr/>
          <p:nvPr/>
        </p:nvGraphicFramePr>
        <p:xfrm>
          <a:off x="3708360" y="3262320"/>
          <a:ext cx="219240" cy="23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4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08360" y="3262320"/>
                    <a:ext cx="219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"/>
          <p:cNvGraphicFramePr/>
          <p:nvPr/>
        </p:nvGraphicFramePr>
        <p:xfrm>
          <a:off x="4859280" y="3262320"/>
          <a:ext cx="219240" cy="237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59280" y="3262320"/>
                    <a:ext cx="219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"/>
          <p:cNvSpPr/>
          <p:nvPr/>
        </p:nvSpPr>
        <p:spPr>
          <a:xfrm>
            <a:off x="0" y="3213000"/>
            <a:ext cx="37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 граничных узлах первого р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>
            <a:off x="5219640" y="3213000"/>
            <a:ext cx="144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лагае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>
            <a:off x="3995640" y="321300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ет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"/>
          <p:cNvGraphicFramePr/>
          <p:nvPr/>
        </p:nvGraphicFramePr>
        <p:xfrm>
          <a:off x="3276720" y="3809880"/>
          <a:ext cx="1571400" cy="266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5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276720" y="3809880"/>
                    <a:ext cx="1571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2" name=""/>
          <p:cNvGraphicFramePr/>
          <p:nvPr/>
        </p:nvGraphicFramePr>
        <p:xfrm>
          <a:off x="539640" y="4363920"/>
          <a:ext cx="162000" cy="181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5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39640" y="4363920"/>
                    <a:ext cx="1620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4" name=""/>
          <p:cNvSpPr/>
          <p:nvPr/>
        </p:nvSpPr>
        <p:spPr>
          <a:xfrm>
            <a:off x="0" y="4292640"/>
            <a:ext cx="5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>
            <a:off x="755640" y="429264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ближайшая 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7" name=""/>
          <p:cNvGraphicFramePr/>
          <p:nvPr/>
        </p:nvGraphicFramePr>
        <p:xfrm>
          <a:off x="2556000" y="4341960"/>
          <a:ext cx="218880" cy="237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45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556000" y="4341960"/>
                    <a:ext cx="21888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9" name=""/>
          <p:cNvSpPr/>
          <p:nvPr/>
        </p:nvSpPr>
        <p:spPr>
          <a:xfrm>
            <a:off x="2843280" y="4292640"/>
            <a:ext cx="180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очка гран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61" name=""/>
          <p:cNvGraphicFramePr/>
          <p:nvPr/>
        </p:nvGraphicFramePr>
        <p:xfrm>
          <a:off x="4572000" y="4363920"/>
          <a:ext cx="152280" cy="181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46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572000" y="4363920"/>
                    <a:ext cx="15228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3" name=""/>
          <p:cNvSpPr/>
          <p:nvPr/>
        </p:nvSpPr>
        <p:spPr>
          <a:xfrm>
            <a:off x="4788000" y="429264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>
            <a:off x="0" y="4941720"/>
            <a:ext cx="8893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истема (65) является неоднородной линейной системой. Система (65) всегда совместна и имеет единственное решени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Если число узлов сетки велико, то решение системы (65) затруднено. Кроме того, значения искомой функции в граничных узлах выбрано грубо. Это заставляет для решения системы прибегать к итерационным методам с одновременным исправлением граничных знач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КОНТРОЛЬНЫЕ ВОПРОС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>
            <a:off x="179280" y="692280"/>
            <a:ext cx="87854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Какие узлы называются соседним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Дайте определение внутренних и граничных уз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Дайте определение граничных узлов первого и второго ро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Какие узлы сетки называются расчетными точкам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Какая функция называется гармонической функцие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Сформулируйте принцип максиму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Как выбирается начальное приближение в граничных узлах первого род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Как выбирается начальное приближение во внутренних узлах сетк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Запишите итерационные формулы для внутренних уз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Запишите итерационные формулы для граничных узло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. Запишите условие окончания итерационного процес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5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1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6" name="PlaceHolder 2"/>
          <p:cNvSpPr>
            <a:spLocks noGrp="1"/>
          </p:cNvSpPr>
          <p:nvPr>
            <p:ph type="subTitle"/>
          </p:nvPr>
        </p:nvSpPr>
        <p:spPr>
          <a:xfrm>
            <a:off x="179280" y="3645000"/>
            <a:ext cx="8785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ЧИСЛЕННЫЕ МЕТОДЫ РЕШЕНИЯ КРАЕВЫХ ЗАДАЧ ДЛЯ ДИФФЕРЕНЦИАЛЬНЫХ УРАВНЕНИЙ С ЧАСТНЫМИ ПРОИЗВОДНЫ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метод сеток для уравнений параболического и гиперболического тип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0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406" dur="2000" fill="hold"/>
                                        <p:tgtEl>
                                          <p:spTgt spid="3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1000" fill="hold"/>
                                        <p:tgtEl>
                                          <p:spTgt spid="3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1000" fill="hold"/>
                                        <p:tgtEl>
                                          <p:spTgt spid="3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1000" fill="hold"/>
                                        <p:tgtEl>
                                          <p:spTgt spid="3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1000" fill="hold"/>
                                        <p:tgtEl>
                                          <p:spTgt spid="3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0" y="26028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ЕТОД СЕТОК ДЛЯ УРАВНЕНИЯ ПАРАБОЛИЧЕСКОГО ТИП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0" y="907920"/>
            <a:ext cx="716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равнение теплопроводности для однородного стержня дли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7885080" y="90792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4" name=""/>
          <p:cNvGraphicFramePr/>
          <p:nvPr/>
        </p:nvGraphicFramePr>
        <p:xfrm>
          <a:off x="7121520" y="981000"/>
          <a:ext cx="619200" cy="1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21520" y="981000"/>
                    <a:ext cx="6192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6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87" name=""/>
          <p:cNvGraphicFramePr/>
          <p:nvPr/>
        </p:nvGraphicFramePr>
        <p:xfrm>
          <a:off x="3954600" y="1268280"/>
          <a:ext cx="904680" cy="5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4600" y="1268280"/>
                    <a:ext cx="9046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9" name=""/>
          <p:cNvSpPr/>
          <p:nvPr/>
        </p:nvSpPr>
        <p:spPr>
          <a:xfrm>
            <a:off x="5148360" y="13413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6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0" y="1773360"/>
            <a:ext cx="6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2" name=""/>
          <p:cNvGraphicFramePr/>
          <p:nvPr/>
        </p:nvGraphicFramePr>
        <p:xfrm>
          <a:off x="569880" y="1793880"/>
          <a:ext cx="76212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9880" y="1793880"/>
                    <a:ext cx="7621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4" name=""/>
          <p:cNvSpPr/>
          <p:nvPr/>
        </p:nvSpPr>
        <p:spPr>
          <a:xfrm>
            <a:off x="1403280" y="1773360"/>
            <a:ext cx="187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температур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6" name=""/>
          <p:cNvGraphicFramePr/>
          <p:nvPr/>
        </p:nvGraphicFramePr>
        <p:xfrm>
          <a:off x="3276720" y="1844640"/>
          <a:ext cx="104760" cy="16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1844640"/>
                    <a:ext cx="1047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8" name=""/>
          <p:cNvSpPr/>
          <p:nvPr/>
        </p:nvSpPr>
        <p:spPr>
          <a:xfrm>
            <a:off x="3419640" y="177336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врем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0" y="2205000"/>
            <a:ext cx="665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спределение температуры в начальный момент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01" name=""/>
          <p:cNvGraphicFramePr/>
          <p:nvPr/>
        </p:nvGraphicFramePr>
        <p:xfrm>
          <a:off x="6595920" y="2276640"/>
          <a:ext cx="352440" cy="19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5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95920" y="2276640"/>
                    <a:ext cx="352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3" name=""/>
          <p:cNvSpPr/>
          <p:nvPr/>
        </p:nvSpPr>
        <p:spPr>
          <a:xfrm>
            <a:off x="7020000" y="2205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05" name=""/>
          <p:cNvGraphicFramePr/>
          <p:nvPr/>
        </p:nvGraphicFramePr>
        <p:xfrm>
          <a:off x="3649680" y="2637000"/>
          <a:ext cx="1066680" cy="266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49680" y="2637000"/>
                    <a:ext cx="106668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7" name=""/>
          <p:cNvSpPr/>
          <p:nvPr/>
        </p:nvSpPr>
        <p:spPr>
          <a:xfrm>
            <a:off x="0" y="292428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аконы изменения температуры в зависимости от времени на концах стерж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9" name=""/>
              <p:cNvSpPr txBox="1"/>
              <p:nvPr/>
            </p:nvSpPr>
            <p:spPr>
              <a:xfrm>
                <a:off x="55440" y="3357720"/>
                <a:ext cx="77148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1" name=""/>
          <p:cNvGraphicFramePr/>
          <p:nvPr/>
        </p:nvGraphicFramePr>
        <p:xfrm>
          <a:off x="3016080" y="3594240"/>
          <a:ext cx="981360" cy="26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5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16080" y="3594240"/>
                    <a:ext cx="98136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3" name=""/>
          <p:cNvSpPr/>
          <p:nvPr/>
        </p:nvSpPr>
        <p:spPr>
          <a:xfrm>
            <a:off x="4068720" y="357336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5" name=""/>
          <p:cNvGraphicFramePr/>
          <p:nvPr/>
        </p:nvGraphicFramePr>
        <p:xfrm>
          <a:off x="4546440" y="3594240"/>
          <a:ext cx="962280" cy="266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5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46440" y="3594240"/>
                    <a:ext cx="96228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7" name=""/>
          <p:cNvSpPr/>
          <p:nvPr/>
        </p:nvSpPr>
        <p:spPr>
          <a:xfrm>
            <a:off x="0" y="3933720"/>
            <a:ext cx="53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ребуется найти распределение температ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19" name=""/>
          <p:cNvGraphicFramePr/>
          <p:nvPr/>
        </p:nvGraphicFramePr>
        <p:xfrm>
          <a:off x="5219640" y="3954600"/>
          <a:ext cx="762120" cy="266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5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219640" y="3954600"/>
                    <a:ext cx="76212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1" name=""/>
          <p:cNvSpPr/>
          <p:nvPr/>
        </p:nvSpPr>
        <p:spPr>
          <a:xfrm>
            <a:off x="6084720" y="3932280"/>
            <a:ext cx="30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доль стержня дли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2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3" name=""/>
          <p:cNvGraphicFramePr/>
          <p:nvPr/>
        </p:nvGraphicFramePr>
        <p:xfrm>
          <a:off x="65160" y="4390920"/>
          <a:ext cx="619200" cy="190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52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160" y="4390920"/>
                    <a:ext cx="6192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5" name=""/>
          <p:cNvSpPr/>
          <p:nvPr/>
        </p:nvSpPr>
        <p:spPr>
          <a:xfrm>
            <a:off x="755640" y="4292640"/>
            <a:ext cx="30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 любой момент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6" name=""/>
          <p:cNvGraphicFramePr/>
          <p:nvPr/>
        </p:nvGraphicFramePr>
        <p:xfrm>
          <a:off x="3708360" y="4365720"/>
          <a:ext cx="104760" cy="16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5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708360" y="4365720"/>
                    <a:ext cx="104760" cy="1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28" name=""/>
          <p:cNvSpPr/>
          <p:nvPr/>
        </p:nvSpPr>
        <p:spPr>
          <a:xfrm>
            <a:off x="3995640" y="4292640"/>
            <a:ext cx="460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Решим эту задачу методом сет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2" name=""/>
          <p:cNvSpPr/>
          <p:nvPr/>
        </p:nvSpPr>
        <p:spPr>
          <a:xfrm>
            <a:off x="0" y="26028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ЕТОД СЕТОК ДЛЯ УРАВНЕНИЯ ПАРАБОЛИЧЕСКОГО ТИП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3" name=""/>
          <p:cNvSpPr/>
          <p:nvPr/>
        </p:nvSpPr>
        <p:spPr>
          <a:xfrm>
            <a:off x="0" y="907920"/>
            <a:ext cx="68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ссмотрим пространственно-временную систему координ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8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39" name=""/>
          <p:cNvGrpSpPr/>
          <p:nvPr/>
        </p:nvGrpSpPr>
        <p:grpSpPr>
          <a:xfrm>
            <a:off x="3276720" y="1628640"/>
            <a:ext cx="2097000" cy="1800360"/>
            <a:chOff x="3276720" y="1628640"/>
            <a:chExt cx="2097000" cy="1800360"/>
          </a:xfrm>
        </p:grpSpPr>
        <p:grpSp>
          <p:nvGrpSpPr>
            <p:cNvPr id="3540" name=""/>
            <p:cNvGrpSpPr/>
            <p:nvPr/>
          </p:nvGrpSpPr>
          <p:grpSpPr>
            <a:xfrm>
              <a:off x="3276720" y="1628640"/>
              <a:ext cx="2097000" cy="1735200"/>
              <a:chOff x="3276720" y="1628640"/>
              <a:chExt cx="2097000" cy="1735200"/>
            </a:xfrm>
          </p:grpSpPr>
          <p:grpSp>
            <p:nvGrpSpPr>
              <p:cNvPr id="3541" name=""/>
              <p:cNvGrpSpPr/>
              <p:nvPr/>
            </p:nvGrpSpPr>
            <p:grpSpPr>
              <a:xfrm>
                <a:off x="3354480" y="1628640"/>
                <a:ext cx="2019240" cy="1735200"/>
                <a:chOff x="3354480" y="1628640"/>
                <a:chExt cx="2019240" cy="1735200"/>
              </a:xfrm>
            </p:grpSpPr>
            <p:sp>
              <p:nvSpPr>
                <p:cNvPr id="3542" name=""/>
                <p:cNvSpPr/>
                <p:nvPr/>
              </p:nvSpPr>
              <p:spPr>
                <a:xfrm>
                  <a:off x="3552480" y="1743480"/>
                  <a:ext cx="0" cy="1269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>
                  <a:off x="3552480" y="1990440"/>
                  <a:ext cx="1341000" cy="807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3478320" y="2796480"/>
                  <a:ext cx="1687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stealth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3354480" y="1628640"/>
                  <a:ext cx="102240" cy="175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5169960" y="2834280"/>
                  <a:ext cx="203760" cy="17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>
                  <a:off x="4859280" y="2846520"/>
                  <a:ext cx="102240" cy="190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>
                  <a:off x="3382920" y="2819160"/>
                  <a:ext cx="177840" cy="1904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4268160" y="2200320"/>
                  <a:ext cx="190800" cy="177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>
                  <a:off x="4015440" y="3089520"/>
                  <a:ext cx="731520" cy="274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0800" bIns="10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300" spc="-1" strike="noStrike">
                      <a:solidFill>
                        <a:srgbClr val="ffffff"/>
                      </a:solidFill>
                      <a:latin typeface="Tahoma"/>
                    </a:rPr>
                    <a:t>Рис. </a:t>
                  </a:r>
                  <a:r>
                    <a:rPr b="0" lang="en-US" sz="1300" spc="-1" strike="noStrike">
                      <a:solidFill>
                        <a:srgbClr val="ffffff"/>
                      </a:solidFill>
                      <a:latin typeface="Tahoma"/>
                    </a:rPr>
                    <a:t>10</a:t>
                  </a:r>
                  <a:r>
                    <a:rPr b="0" lang="ru-RU" sz="1300" spc="-1" strike="noStrike">
                      <a:solidFill>
                        <a:srgbClr val="ffffff"/>
                      </a:solidFill>
                      <a:latin typeface="Tahoma"/>
                    </a:rPr>
                    <a:t>.4</a:t>
                  </a:r>
                  <a:endParaRPr b="0" lang="en-US" sz="13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>
                  <a:off x="3762720" y="1876320"/>
                  <a:ext cx="0" cy="91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>
                  <a:off x="3991320" y="1876320"/>
                  <a:ext cx="0" cy="91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>
                  <a:off x="4219920" y="1876320"/>
                  <a:ext cx="0" cy="91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>
                  <a:off x="4448520" y="1876320"/>
                  <a:ext cx="0" cy="91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>
                  <a:off x="4677120" y="1876320"/>
                  <a:ext cx="0" cy="91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4892400" y="1876320"/>
                  <a:ext cx="0" cy="91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7" name=""/>
                <p:cNvSpPr/>
                <p:nvPr/>
              </p:nvSpPr>
              <p:spPr>
                <a:xfrm>
                  <a:off x="3534120" y="239472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>
                  <a:off x="3534120" y="260064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>
                  <a:off x="3534120" y="2186280"/>
                  <a:ext cx="1371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>
                  <a:off x="3534120" y="19695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1" name=""/>
                <p:cNvSpPr/>
                <p:nvPr/>
              </p:nvSpPr>
              <p:spPr>
                <a:xfrm>
                  <a:off x="3744360" y="19695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>
                  <a:off x="3974760" y="19695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>
                  <a:off x="4201560" y="19695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>
                  <a:off x="4431960" y="19695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>
                  <a:off x="4658760" y="19695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>
                  <a:off x="4881600" y="19695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>
                  <a:off x="3535200" y="21718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>
                  <a:off x="3744360" y="21718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>
                  <a:off x="3974760" y="21718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4201560" y="21718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>
                  <a:off x="4431960" y="21718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>
                  <a:off x="4658760" y="21718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>
                  <a:off x="4874760" y="21718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>
                  <a:off x="3534120" y="23914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>
                  <a:off x="3742920" y="23914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>
                  <a:off x="3973680" y="23914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>
                  <a:off x="4200120" y="23914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>
                  <a:off x="4430880" y="23914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>
                  <a:off x="4657320" y="23914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>
                  <a:off x="4873320" y="23914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>
                  <a:off x="3534120" y="25750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>
                  <a:off x="3742920" y="25750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>
                  <a:off x="3973680" y="25750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4200120" y="25750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>
                  <a:off x="4430880" y="25750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>
                  <a:off x="4657320" y="25750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>
                  <a:off x="4873320" y="257508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>
                  <a:off x="3534120" y="27723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>
                  <a:off x="3742920" y="27723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0" name=""/>
                <p:cNvSpPr/>
                <p:nvPr/>
              </p:nvSpPr>
              <p:spPr>
                <a:xfrm>
                  <a:off x="3973680" y="27723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>
                  <a:off x="4200120" y="27723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>
                  <a:off x="4430880" y="27723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>
                  <a:off x="4657320" y="27723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4873320" y="2772360"/>
                  <a:ext cx="43200" cy="43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595" name=""/>
                  <p:cNvSpPr txBox="1"/>
                  <p:nvPr/>
                </p:nvSpPr>
                <p:spPr>
                  <a:xfrm>
                    <a:off x="4200840" y="1649520"/>
                    <a:ext cx="761760" cy="1439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96" name=""/>
                  <p:cNvSpPr txBox="1"/>
                  <p:nvPr/>
                </p:nvSpPr>
                <p:spPr>
                  <a:xfrm>
                    <a:off x="3286440" y="1706400"/>
                    <a:ext cx="85680" cy="152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97" name=""/>
                  <p:cNvSpPr txBox="1"/>
                  <p:nvPr/>
                </p:nvSpPr>
                <p:spPr>
                  <a:xfrm>
                    <a:off x="3276720" y="2822400"/>
                    <a:ext cx="152640" cy="18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O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98" name=""/>
                  <p:cNvSpPr txBox="1"/>
                  <p:nvPr/>
                </p:nvSpPr>
                <p:spPr>
                  <a:xfrm>
                    <a:off x="4856400" y="2822400"/>
                    <a:ext cx="85680" cy="181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99" name=""/>
                  <p:cNvSpPr txBox="1"/>
                  <p:nvPr/>
                </p:nvSpPr>
                <p:spPr>
                  <a:xfrm>
                    <a:off x="5121360" y="2841480"/>
                    <a:ext cx="181080" cy="162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600" name=""/>
                  <p:cNvSpPr txBox="1"/>
                  <p:nvPr/>
                </p:nvSpPr>
                <p:spPr>
                  <a:xfrm>
                    <a:off x="4203720" y="2211480"/>
                    <a:ext cx="162000" cy="16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01" name=""/>
            <p:cNvSpPr/>
            <p:nvPr/>
          </p:nvSpPr>
          <p:spPr>
            <a:xfrm>
              <a:off x="3861000" y="3068640"/>
              <a:ext cx="136836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ahoma"/>
                </a:rPr>
                <a:t>Рис. 10.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03" name=""/>
          <p:cNvGraphicFramePr/>
          <p:nvPr/>
        </p:nvGraphicFramePr>
        <p:xfrm>
          <a:off x="6804000" y="907920"/>
          <a:ext cx="39060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907920"/>
                    <a:ext cx="390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5" name=""/>
          <p:cNvSpPr/>
          <p:nvPr/>
        </p:nvSpPr>
        <p:spPr>
          <a:xfrm>
            <a:off x="0" y="1268280"/>
            <a:ext cx="16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В полуполос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7" name=""/>
              <p:cNvSpPr txBox="1"/>
              <p:nvPr/>
            </p:nvSpPr>
            <p:spPr>
              <a:xfrm>
                <a:off x="1692360" y="1341360"/>
                <a:ext cx="9046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8" name=""/>
          <p:cNvSpPr/>
          <p:nvPr/>
        </p:nvSpPr>
        <p:spPr>
          <a:xfrm>
            <a:off x="2771640" y="126828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строим прямоугольную сет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0" name=""/>
              <p:cNvSpPr txBox="1"/>
              <p:nvPr/>
            </p:nvSpPr>
            <p:spPr>
              <a:xfrm>
                <a:off x="6372360" y="1319040"/>
                <a:ext cx="202860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jk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1" name=""/>
          <p:cNvSpPr/>
          <p:nvPr/>
        </p:nvSpPr>
        <p:spPr>
          <a:xfrm>
            <a:off x="7236000" y="907920"/>
            <a:ext cx="143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Рис.10.4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0" y="3500280"/>
            <a:ext cx="37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онечно-разностное уравн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4" name=""/>
          <p:cNvGraphicFramePr/>
          <p:nvPr/>
        </p:nvGraphicFramePr>
        <p:xfrm>
          <a:off x="3254400" y="3797280"/>
          <a:ext cx="21812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4400" y="3797280"/>
                    <a:ext cx="21812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6" name=""/>
          <p:cNvSpPr/>
          <p:nvPr/>
        </p:nvSpPr>
        <p:spPr>
          <a:xfrm>
            <a:off x="5580000" y="38606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6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0" y="4292640"/>
            <a:ext cx="37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сле преобразований получ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9" name=""/>
          <p:cNvGraphicFramePr/>
          <p:nvPr/>
        </p:nvGraphicFramePr>
        <p:xfrm>
          <a:off x="2954160" y="4665600"/>
          <a:ext cx="2409840" cy="27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54160" y="4665600"/>
                    <a:ext cx="24098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1" name=""/>
          <p:cNvSpPr/>
          <p:nvPr/>
        </p:nvSpPr>
        <p:spPr>
          <a:xfrm>
            <a:off x="5508720" y="45813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6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0" y="5013360"/>
            <a:ext cx="78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з формулы (69) видно, что для подсчета значения искомой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4" name=""/>
          <p:cNvGraphicFramePr/>
          <p:nvPr/>
        </p:nvGraphicFramePr>
        <p:xfrm>
          <a:off x="7740720" y="5013360"/>
          <a:ext cx="49536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40720" y="5013360"/>
                    <a:ext cx="495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6" name=""/>
          <p:cNvSpPr/>
          <p:nvPr/>
        </p:nvSpPr>
        <p:spPr>
          <a:xfrm>
            <a:off x="0" y="5373720"/>
            <a:ext cx="205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 узловых точ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28" name=""/>
          <p:cNvGraphicFramePr/>
          <p:nvPr/>
        </p:nvGraphicFramePr>
        <p:xfrm>
          <a:off x="2050920" y="5394240"/>
          <a:ext cx="49536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2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394240"/>
                    <a:ext cx="495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0" name=""/>
          <p:cNvSpPr/>
          <p:nvPr/>
        </p:nvSpPr>
        <p:spPr>
          <a:xfrm>
            <a:off x="2556000" y="5373720"/>
            <a:ext cx="65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го слоя используются уже известные значения э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0" y="5734080"/>
            <a:ext cx="46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функции в трех соседних узловых точ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33" name=""/>
          <p:cNvGraphicFramePr/>
          <p:nvPr/>
        </p:nvGraphicFramePr>
        <p:xfrm>
          <a:off x="4643280" y="5802480"/>
          <a:ext cx="142920" cy="218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43280" y="5802480"/>
                    <a:ext cx="14292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5" name=""/>
          <p:cNvSpPr/>
          <p:nvPr/>
        </p:nvSpPr>
        <p:spPr>
          <a:xfrm>
            <a:off x="4859280" y="5732640"/>
            <a:ext cx="122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го сло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0" y="26028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ЕТОД СЕТОК ДЛЯ УРАВНЕНИЯ ПАРАБОЛИЧЕСКОГО ТИП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0" y="907920"/>
            <a:ext cx="32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сходя из начального сло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2" name=""/>
          <p:cNvGraphicFramePr/>
          <p:nvPr/>
        </p:nvGraphicFramePr>
        <p:xfrm>
          <a:off x="3203640" y="981000"/>
          <a:ext cx="352440" cy="1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981000"/>
                    <a:ext cx="352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5" name=""/>
          <p:cNvGraphicFramePr/>
          <p:nvPr/>
        </p:nvGraphicFramePr>
        <p:xfrm>
          <a:off x="5940360" y="930240"/>
          <a:ext cx="49536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930240"/>
                    <a:ext cx="495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48" name=""/>
          <p:cNvGraphicFramePr/>
          <p:nvPr/>
        </p:nvGraphicFramePr>
        <p:xfrm>
          <a:off x="2340000" y="1268280"/>
          <a:ext cx="1714320" cy="29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1268280"/>
                    <a:ext cx="171432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51" name=""/>
          <p:cNvGraphicFramePr/>
          <p:nvPr/>
        </p:nvGraphicFramePr>
        <p:xfrm>
          <a:off x="2378160" y="2205000"/>
          <a:ext cx="1114200" cy="343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78160" y="2205000"/>
                    <a:ext cx="11142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3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54" name=""/>
          <p:cNvGraphicFramePr/>
          <p:nvPr/>
        </p:nvGraphicFramePr>
        <p:xfrm>
          <a:off x="4067280" y="2222640"/>
          <a:ext cx="1114200" cy="342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67280" y="2222640"/>
                    <a:ext cx="11142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6" name=""/>
          <p:cNvSpPr/>
          <p:nvPr/>
        </p:nvSpPr>
        <p:spPr>
          <a:xfrm>
            <a:off x="3635280" y="90792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значения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6443640" y="907920"/>
            <a:ext cx="23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пределяются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0" y="1268280"/>
            <a:ext cx="24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чального услов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4067280" y="1268280"/>
            <a:ext cx="50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и, используя значения функции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0" y="1628640"/>
            <a:ext cx="795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раничных узловых точках, определяемые граничными условия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635280" y="2205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5219640" y="2205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0" y="2781360"/>
            <a:ext cx="550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 формуле (69) последовательно вычисляю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5" name=""/>
              <p:cNvSpPr txBox="1"/>
              <p:nvPr/>
            </p:nvSpPr>
            <p:spPr>
              <a:xfrm>
                <a:off x="5568840" y="2781360"/>
                <a:ext cx="1667160" cy="2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6" name=""/>
          <p:cNvSpPr/>
          <p:nvPr/>
        </p:nvSpPr>
        <p:spPr>
          <a:xfrm>
            <a:off x="0" y="342900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Конечно-разностная схема называется устойчивой, если малые погрешности, допущенные в процессе решения, затухают или остаются малыми при неограниченном увеличении номера текущего слоя. В противном случае конечно-разностная схема называется неустойчив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з рассмотренной конечно-разностной схемы («явной схемы») ясно, что ша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68" name=""/>
          <p:cNvGraphicFramePr/>
          <p:nvPr/>
        </p:nvGraphicFramePr>
        <p:xfrm>
          <a:off x="8748720" y="4390920"/>
          <a:ext cx="142920" cy="19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6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748720" y="4390920"/>
                    <a:ext cx="14292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0" name=""/>
          <p:cNvSpPr/>
          <p:nvPr/>
        </p:nvSpPr>
        <p:spPr>
          <a:xfrm>
            <a:off x="34920" y="4869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2" name=""/>
          <p:cNvGraphicFramePr/>
          <p:nvPr/>
        </p:nvGraphicFramePr>
        <p:xfrm>
          <a:off x="8605800" y="4940280"/>
          <a:ext cx="142920" cy="19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67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605800" y="4940280"/>
                    <a:ext cx="14292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4" name=""/>
          <p:cNvGraphicFramePr/>
          <p:nvPr/>
        </p:nvGraphicFramePr>
        <p:xfrm>
          <a:off x="395280" y="4940280"/>
          <a:ext cx="142920" cy="190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6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5280" y="4940280"/>
                    <a:ext cx="14292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6" name=""/>
          <p:cNvSpPr/>
          <p:nvPr/>
        </p:nvSpPr>
        <p:spPr>
          <a:xfrm>
            <a:off x="611280" y="4869000"/>
            <a:ext cx="316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еодинаковы и выбор ша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7" name=""/>
          <p:cNvGraphicFramePr/>
          <p:nvPr/>
        </p:nvGraphicFramePr>
        <p:xfrm>
          <a:off x="3778200" y="4940280"/>
          <a:ext cx="142920" cy="190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67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778200" y="4940280"/>
                    <a:ext cx="14292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9" name=""/>
          <p:cNvSpPr/>
          <p:nvPr/>
        </p:nvSpPr>
        <p:spPr>
          <a:xfrm>
            <a:off x="3995640" y="4869000"/>
            <a:ext cx="46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кладывает ограничения на выбор шаг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8821800" y="4869000"/>
            <a:ext cx="2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0" y="26028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«Неявная схем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0" y="907920"/>
            <a:ext cx="32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онечно-разностная схем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7" name=""/>
              <p:cNvSpPr txBox="1"/>
              <p:nvPr/>
            </p:nvSpPr>
            <p:spPr>
              <a:xfrm>
                <a:off x="2604960" y="1268280"/>
                <a:ext cx="254340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88" name=""/>
          <p:cNvSpPr/>
          <p:nvPr/>
        </p:nvSpPr>
        <p:spPr>
          <a:xfrm>
            <a:off x="5219640" y="134136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7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0" y="1773360"/>
            <a:ext cx="622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ля решения СЛАУ (71) применяется метод прогон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0" y="2133720"/>
            <a:ext cx="810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уть метода прогонки состоит в том, что сначала вычисляются зн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92" name=""/>
          <p:cNvGraphicFramePr/>
          <p:nvPr/>
        </p:nvGraphicFramePr>
        <p:xfrm>
          <a:off x="122400" y="2492280"/>
          <a:ext cx="561960" cy="2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2492280"/>
                    <a:ext cx="56196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4" name=""/>
          <p:cNvSpPr/>
          <p:nvPr/>
        </p:nvSpPr>
        <p:spPr>
          <a:xfrm>
            <a:off x="826920" y="2492280"/>
            <a:ext cx="352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В прямом ходе на очеред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96" name=""/>
          <p:cNvGraphicFramePr/>
          <p:nvPr/>
        </p:nvGraphicFramePr>
        <p:xfrm>
          <a:off x="4356000" y="2552760"/>
          <a:ext cx="48600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552760"/>
                    <a:ext cx="4860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8" name=""/>
          <p:cNvSpPr/>
          <p:nvPr/>
        </p:nvSpPr>
        <p:spPr>
          <a:xfrm>
            <a:off x="4932360" y="249228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м временном слое вычисляю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9" name=""/>
          <p:cNvSpPr/>
          <p:nvPr/>
        </p:nvSpPr>
        <p:spPr>
          <a:xfrm>
            <a:off x="0" y="2852640"/>
            <a:ext cx="32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спомогательные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1" name=""/>
          <p:cNvGraphicFramePr/>
          <p:nvPr/>
        </p:nvGraphicFramePr>
        <p:xfrm>
          <a:off x="3564000" y="3141720"/>
          <a:ext cx="1371600" cy="75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3141720"/>
                    <a:ext cx="137160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3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4" name=""/>
          <p:cNvGraphicFramePr/>
          <p:nvPr/>
        </p:nvGraphicFramePr>
        <p:xfrm>
          <a:off x="3203640" y="4005360"/>
          <a:ext cx="2209680" cy="7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4005360"/>
                    <a:ext cx="22096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6" name=""/>
          <p:cNvSpPr/>
          <p:nvPr/>
        </p:nvSpPr>
        <p:spPr>
          <a:xfrm>
            <a:off x="0" y="4869000"/>
            <a:ext cx="68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 обратном ходе вычисляются значения искомой функции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08" name=""/>
          <p:cNvGraphicFramePr/>
          <p:nvPr/>
        </p:nvGraphicFramePr>
        <p:xfrm>
          <a:off x="6823080" y="4929120"/>
          <a:ext cx="48564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23080" y="4929120"/>
                    <a:ext cx="4856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0" name=""/>
          <p:cNvSpPr/>
          <p:nvPr/>
        </p:nvSpPr>
        <p:spPr>
          <a:xfrm>
            <a:off x="0" y="5157720"/>
            <a:ext cx="21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лое по форму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2" name=""/>
          <p:cNvGraphicFramePr/>
          <p:nvPr/>
        </p:nvGraphicFramePr>
        <p:xfrm>
          <a:off x="3203640" y="5445000"/>
          <a:ext cx="186696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7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03640" y="5445000"/>
                    <a:ext cx="18669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4" name=""/>
          <p:cNvSpPr/>
          <p:nvPr/>
        </p:nvSpPr>
        <p:spPr>
          <a:xfrm>
            <a:off x="0" y="5734080"/>
            <a:ext cx="13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елич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16" name=""/>
          <p:cNvGraphicFramePr/>
          <p:nvPr/>
        </p:nvGraphicFramePr>
        <p:xfrm>
          <a:off x="1247760" y="5754600"/>
          <a:ext cx="876240" cy="2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7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47760" y="5754600"/>
                    <a:ext cx="8762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8" name=""/>
          <p:cNvSpPr/>
          <p:nvPr/>
        </p:nvSpPr>
        <p:spPr>
          <a:xfrm>
            <a:off x="2195640" y="5734080"/>
            <a:ext cx="52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является значением искомой функции в т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0" name=""/>
          <p:cNvGraphicFramePr/>
          <p:nvPr/>
        </p:nvGraphicFramePr>
        <p:xfrm>
          <a:off x="7380360" y="5754600"/>
          <a:ext cx="647640" cy="266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72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80360" y="5754600"/>
                    <a:ext cx="6476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2" name=""/>
          <p:cNvSpPr/>
          <p:nvPr/>
        </p:nvSpPr>
        <p:spPr>
          <a:xfrm>
            <a:off x="8101080" y="573408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4" name=""/>
          <p:cNvGraphicFramePr/>
          <p:nvPr/>
        </p:nvGraphicFramePr>
        <p:xfrm>
          <a:off x="95400" y="6041880"/>
          <a:ext cx="876240" cy="266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72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5400" y="6041880"/>
                    <a:ext cx="8762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6" name=""/>
          <p:cNvSpPr/>
          <p:nvPr/>
        </p:nvSpPr>
        <p:spPr>
          <a:xfrm>
            <a:off x="1187280" y="6021360"/>
            <a:ext cx="13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в т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28" name=""/>
          <p:cNvGraphicFramePr/>
          <p:nvPr/>
        </p:nvGraphicFramePr>
        <p:xfrm>
          <a:off x="2340000" y="6041880"/>
          <a:ext cx="647640" cy="266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7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340000" y="6041880"/>
                    <a:ext cx="6476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0" name=""/>
          <p:cNvSpPr/>
          <p:nvPr/>
        </p:nvSpPr>
        <p:spPr>
          <a:xfrm>
            <a:off x="3059280" y="602136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4" name=""/>
          <p:cNvSpPr/>
          <p:nvPr/>
        </p:nvSpPr>
        <p:spPr>
          <a:xfrm>
            <a:off x="0" y="26028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ЕТОД СЕТОК ДЛЯ УРАВНЕНИЯ ГИПЕРБОЛИЧЕСКОГО ТИП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5" name=""/>
          <p:cNvSpPr/>
          <p:nvPr/>
        </p:nvSpPr>
        <p:spPr>
          <a:xfrm>
            <a:off x="0" y="907920"/>
            <a:ext cx="781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равнение свободных колебаний однородной ограниченной стру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7" name=""/>
          <p:cNvGraphicFramePr/>
          <p:nvPr/>
        </p:nvGraphicFramePr>
        <p:xfrm>
          <a:off x="3519360" y="1197000"/>
          <a:ext cx="9813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9360" y="1197000"/>
                    <a:ext cx="981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9" name=""/>
          <p:cNvSpPr/>
          <p:nvPr/>
        </p:nvSpPr>
        <p:spPr>
          <a:xfrm>
            <a:off x="4788000" y="126828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0" y="1700280"/>
            <a:ext cx="298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 начальных условия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3" name=""/>
              <p:cNvSpPr txBox="1"/>
              <p:nvPr/>
            </p:nvSpPr>
            <p:spPr>
              <a:xfrm>
                <a:off x="3446640" y="2035080"/>
                <a:ext cx="1485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44" name=""/>
          <p:cNvSpPr/>
          <p:nvPr/>
        </p:nvSpPr>
        <p:spPr>
          <a:xfrm>
            <a:off x="5148360" y="20606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7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0" y="2492280"/>
            <a:ext cx="25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краевых условия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7" name=""/>
              <p:cNvSpPr txBox="1"/>
              <p:nvPr/>
            </p:nvSpPr>
            <p:spPr>
              <a:xfrm>
                <a:off x="3419640" y="2852640"/>
                <a:ext cx="14572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u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48" name=""/>
          <p:cNvSpPr/>
          <p:nvPr/>
        </p:nvSpPr>
        <p:spPr>
          <a:xfrm>
            <a:off x="5148360" y="28526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7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9" name=""/>
          <p:cNvSpPr/>
          <p:nvPr/>
        </p:nvSpPr>
        <p:spPr>
          <a:xfrm>
            <a:off x="0" y="3429000"/>
            <a:ext cx="37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онечно-разностное уравн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51" name=""/>
          <p:cNvGraphicFramePr/>
          <p:nvPr/>
        </p:nvGraphicFramePr>
        <p:xfrm>
          <a:off x="2646360" y="3789360"/>
          <a:ext cx="293364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6360" y="3789360"/>
                    <a:ext cx="29336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3" name=""/>
          <p:cNvSpPr/>
          <p:nvPr/>
        </p:nvSpPr>
        <p:spPr>
          <a:xfrm>
            <a:off x="5796000" y="386064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7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0" y="4292640"/>
            <a:ext cx="6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56" name=""/>
          <p:cNvGraphicFramePr/>
          <p:nvPr/>
        </p:nvGraphicFramePr>
        <p:xfrm>
          <a:off x="614520" y="4221000"/>
          <a:ext cx="42840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4520" y="4221000"/>
                    <a:ext cx="4284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8" name=""/>
          <p:cNvSpPr/>
          <p:nvPr/>
        </p:nvSpPr>
        <p:spPr>
          <a:xfrm>
            <a:off x="1116000" y="4292640"/>
            <a:ext cx="532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равнение (75) упрощается и принимает ви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0" name=""/>
          <p:cNvGraphicFramePr/>
          <p:nvPr/>
        </p:nvGraphicFramePr>
        <p:xfrm>
          <a:off x="3276720" y="4675320"/>
          <a:ext cx="1800000" cy="26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4675320"/>
                    <a:ext cx="180000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2" name=""/>
          <p:cNvSpPr/>
          <p:nvPr/>
        </p:nvSpPr>
        <p:spPr>
          <a:xfrm>
            <a:off x="71280" y="5013360"/>
            <a:ext cx="10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тку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64" name=""/>
          <p:cNvGraphicFramePr/>
          <p:nvPr/>
        </p:nvGraphicFramePr>
        <p:xfrm>
          <a:off x="3036960" y="5467320"/>
          <a:ext cx="254304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36960" y="5467320"/>
                    <a:ext cx="2543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6" name=""/>
          <p:cNvSpPr/>
          <p:nvPr/>
        </p:nvSpPr>
        <p:spPr>
          <a:xfrm>
            <a:off x="5724360" y="5445000"/>
            <a:ext cx="6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7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0" y="26028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МЕТОД СЕТОК ДЛЯ УРАВНЕНИЯ ГИПЕРБОЛИЧЕСКОГО ТИП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6" name=""/>
          <p:cNvGrpSpPr/>
          <p:nvPr/>
        </p:nvGrpSpPr>
        <p:grpSpPr>
          <a:xfrm>
            <a:off x="2916360" y="2349360"/>
            <a:ext cx="2892240" cy="1728720"/>
            <a:chOff x="2916360" y="2349360"/>
            <a:chExt cx="2892240" cy="1728720"/>
          </a:xfrm>
        </p:grpSpPr>
        <p:sp>
          <p:nvSpPr>
            <p:cNvPr id="3787" name=""/>
            <p:cNvSpPr/>
            <p:nvPr/>
          </p:nvSpPr>
          <p:spPr>
            <a:xfrm>
              <a:off x="3708360" y="3717720"/>
              <a:ext cx="1225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Tahoma"/>
                </a:rPr>
                <a:t>Рис.10.6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4327560" y="2512800"/>
              <a:ext cx="0" cy="10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3240000" y="302724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4384800" y="3070080"/>
              <a:ext cx="41724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987640" y="3070080"/>
              <a:ext cx="63360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162400" y="3070080"/>
              <a:ext cx="64620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4384800" y="2420640"/>
              <a:ext cx="645840" cy="2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400720" y="300168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4305240" y="300168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220920" y="300168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4305240" y="250488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726000" y="2766960"/>
              <a:ext cx="1760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4754520" y="2763720"/>
              <a:ext cx="1764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4130640" y="2649240"/>
              <a:ext cx="1764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4300560" y="3539880"/>
              <a:ext cx="54000" cy="54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4130640" y="3106440"/>
              <a:ext cx="1764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4359240" y="3449520"/>
              <a:ext cx="63360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3804" name=""/>
            <p:cNvGraphicFramePr/>
            <p:nvPr/>
          </p:nvGraphicFramePr>
          <p:xfrm>
            <a:off x="4741920" y="2687400"/>
            <a:ext cx="142920" cy="190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1920" y="2687400"/>
                      <a:ext cx="1429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06" name=""/>
            <p:cNvGraphicFramePr/>
            <p:nvPr/>
          </p:nvGraphicFramePr>
          <p:xfrm>
            <a:off x="3732120" y="2687400"/>
            <a:ext cx="142920" cy="19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32120" y="2687400"/>
                      <a:ext cx="1429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08" name=""/>
            <p:cNvGraphicFramePr/>
            <p:nvPr/>
          </p:nvGraphicFramePr>
          <p:xfrm>
            <a:off x="4094280" y="3119400"/>
            <a:ext cx="142920" cy="190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94280" y="3119400"/>
                      <a:ext cx="1429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0" name=""/>
            <p:cNvGraphicFramePr/>
            <p:nvPr/>
          </p:nvGraphicFramePr>
          <p:xfrm>
            <a:off x="4092480" y="2616120"/>
            <a:ext cx="1429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92480" y="2616120"/>
                      <a:ext cx="1429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2" name=""/>
            <p:cNvGraphicFramePr/>
            <p:nvPr/>
          </p:nvGraphicFramePr>
          <p:xfrm>
            <a:off x="4379760" y="2976480"/>
            <a:ext cx="38124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8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379760" y="2976480"/>
                      <a:ext cx="38124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4" name=""/>
            <p:cNvGraphicFramePr/>
            <p:nvPr/>
          </p:nvGraphicFramePr>
          <p:xfrm>
            <a:off x="5172120" y="2997000"/>
            <a:ext cx="609480" cy="266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81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172120" y="2997000"/>
                      <a:ext cx="6094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6" name=""/>
            <p:cNvGraphicFramePr/>
            <p:nvPr/>
          </p:nvGraphicFramePr>
          <p:xfrm>
            <a:off x="4419720" y="2349360"/>
            <a:ext cx="609480" cy="2667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381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419720" y="2349360"/>
                      <a:ext cx="6094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8" name=""/>
            <p:cNvGraphicFramePr/>
            <p:nvPr/>
          </p:nvGraphicFramePr>
          <p:xfrm>
            <a:off x="2916360" y="3047760"/>
            <a:ext cx="600120" cy="2667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381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916360" y="3047760"/>
                      <a:ext cx="60012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20" name=""/>
            <p:cNvGraphicFramePr/>
            <p:nvPr/>
          </p:nvGraphicFramePr>
          <p:xfrm>
            <a:off x="4452840" y="3408120"/>
            <a:ext cx="600120" cy="2667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382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452840" y="3408120"/>
                      <a:ext cx="60012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22" name=""/>
          <p:cNvSpPr/>
          <p:nvPr/>
        </p:nvSpPr>
        <p:spPr>
          <a:xfrm>
            <a:off x="0" y="907920"/>
            <a:ext cx="615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з уравнения (76) видно, что для получения знач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4" name=""/>
          <p:cNvGraphicFramePr/>
          <p:nvPr/>
        </p:nvGraphicFramePr>
        <p:xfrm>
          <a:off x="6084720" y="907920"/>
          <a:ext cx="495360" cy="266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82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84720" y="907920"/>
                    <a:ext cx="495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6" name=""/>
          <p:cNvSpPr/>
          <p:nvPr/>
        </p:nvSpPr>
        <p:spPr>
          <a:xfrm>
            <a:off x="6696000" y="907920"/>
            <a:ext cx="3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8" name=""/>
          <p:cNvGraphicFramePr/>
          <p:nvPr/>
        </p:nvGraphicFramePr>
        <p:xfrm>
          <a:off x="7029360" y="930240"/>
          <a:ext cx="49536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82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29360" y="930240"/>
                    <a:ext cx="495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0" name=""/>
          <p:cNvSpPr/>
          <p:nvPr/>
        </p:nvSpPr>
        <p:spPr>
          <a:xfrm>
            <a:off x="7596360" y="90792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м сл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71280" y="1268280"/>
            <a:ext cx="27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спользуются зн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2" name=""/>
          <p:cNvGraphicFramePr/>
          <p:nvPr/>
        </p:nvGraphicFramePr>
        <p:xfrm>
          <a:off x="2843280" y="1290600"/>
          <a:ext cx="495360" cy="26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83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843280" y="1290600"/>
                    <a:ext cx="495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4" name=""/>
          <p:cNvSpPr/>
          <p:nvPr/>
        </p:nvSpPr>
        <p:spPr>
          <a:xfrm>
            <a:off x="3419640" y="1268280"/>
            <a:ext cx="30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 двух предыдущих сло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6" name=""/>
          <p:cNvGraphicFramePr/>
          <p:nvPr/>
        </p:nvGraphicFramePr>
        <p:xfrm>
          <a:off x="6373800" y="1338120"/>
          <a:ext cx="142920" cy="2192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83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373800" y="1338120"/>
                    <a:ext cx="14292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8" name=""/>
          <p:cNvSpPr/>
          <p:nvPr/>
        </p:nvSpPr>
        <p:spPr>
          <a:xfrm>
            <a:off x="6588000" y="126828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м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0" name=""/>
          <p:cNvGraphicFramePr/>
          <p:nvPr/>
        </p:nvGraphicFramePr>
        <p:xfrm>
          <a:off x="7245360" y="1290600"/>
          <a:ext cx="49536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84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245360" y="1290600"/>
                    <a:ext cx="495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2" name=""/>
          <p:cNvSpPr/>
          <p:nvPr/>
        </p:nvSpPr>
        <p:spPr>
          <a:xfrm>
            <a:off x="7812000" y="126828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0" y="162864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Рис.10.6). Для начала вычислений по формуле (76) необходимо зн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0" y="2060640"/>
            <a:ext cx="12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н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5" name=""/>
          <p:cNvGraphicFramePr/>
          <p:nvPr/>
        </p:nvGraphicFramePr>
        <p:xfrm>
          <a:off x="1187280" y="2060640"/>
          <a:ext cx="495360" cy="266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846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187280" y="2060640"/>
                    <a:ext cx="495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7" name=""/>
          <p:cNvSpPr/>
          <p:nvPr/>
        </p:nvSpPr>
        <p:spPr>
          <a:xfrm>
            <a:off x="1763640" y="2060640"/>
            <a:ext cx="16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 двух сло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9" name=""/>
              <p:cNvSpPr txBox="1"/>
              <p:nvPr/>
            </p:nvSpPr>
            <p:spPr>
              <a:xfrm>
                <a:off x="3348000" y="2133720"/>
                <a:ext cx="84780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0" name=""/>
          <p:cNvSpPr/>
          <p:nvPr/>
        </p:nvSpPr>
        <p:spPr>
          <a:xfrm>
            <a:off x="0" y="4076640"/>
            <a:ext cx="47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чальные условия (73) задают зн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1" name=""/>
          <p:cNvGraphicFramePr/>
          <p:nvPr/>
        </p:nvGraphicFramePr>
        <p:xfrm>
          <a:off x="4716360" y="4076640"/>
          <a:ext cx="495360" cy="2667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852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716360" y="4076640"/>
                    <a:ext cx="495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3" name=""/>
          <p:cNvSpPr/>
          <p:nvPr/>
        </p:nvSpPr>
        <p:spPr>
          <a:xfrm>
            <a:off x="5292720" y="4076640"/>
            <a:ext cx="27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лишь на нулевом сл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55" name=""/>
          <p:cNvGraphicFramePr/>
          <p:nvPr/>
        </p:nvGraphicFramePr>
        <p:xfrm>
          <a:off x="7956720" y="4148280"/>
          <a:ext cx="390240" cy="2286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3856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7956720" y="4148280"/>
                    <a:ext cx="3902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7" name=""/>
          <p:cNvSpPr/>
          <p:nvPr/>
        </p:nvSpPr>
        <p:spPr>
          <a:xfrm>
            <a:off x="8388360" y="407664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0" y="4437000"/>
            <a:ext cx="406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спользуя начальные условия (7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0" name=""/>
          <p:cNvGraphicFramePr/>
          <p:nvPr/>
        </p:nvGraphicFramePr>
        <p:xfrm>
          <a:off x="3995640" y="4486320"/>
          <a:ext cx="1067040" cy="23796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86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3995640" y="4486320"/>
                    <a:ext cx="1067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2" name=""/>
          <p:cNvSpPr/>
          <p:nvPr/>
        </p:nvSpPr>
        <p:spPr>
          <a:xfrm>
            <a:off x="5076720" y="4437000"/>
            <a:ext cx="38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можно определить зн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3" name=""/>
          <p:cNvGraphicFramePr/>
          <p:nvPr/>
        </p:nvGraphicFramePr>
        <p:xfrm>
          <a:off x="115920" y="4797360"/>
          <a:ext cx="495360" cy="2667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3864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115920" y="4797360"/>
                    <a:ext cx="495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5" name=""/>
          <p:cNvSpPr/>
          <p:nvPr/>
        </p:nvSpPr>
        <p:spPr>
          <a:xfrm>
            <a:off x="684360" y="4797360"/>
            <a:ext cx="23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 слое с номер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67" name=""/>
          <p:cNvGraphicFramePr/>
          <p:nvPr/>
        </p:nvGraphicFramePr>
        <p:xfrm>
          <a:off x="2916360" y="4856040"/>
          <a:ext cx="485640" cy="22860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3868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2916360" y="4856040"/>
                    <a:ext cx="4856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9" name=""/>
          <p:cNvSpPr/>
          <p:nvPr/>
        </p:nvSpPr>
        <p:spPr>
          <a:xfrm>
            <a:off x="3492360" y="4797360"/>
            <a:ext cx="565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Для этого запишем соотношение (74)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0" y="5157720"/>
            <a:ext cx="305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онечно-разностном вид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72" name=""/>
          <p:cNvGraphicFramePr/>
          <p:nvPr/>
        </p:nvGraphicFramePr>
        <p:xfrm>
          <a:off x="3059280" y="5103720"/>
          <a:ext cx="1056960" cy="4860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387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3059280" y="5103720"/>
                    <a:ext cx="10569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4" name=""/>
          <p:cNvSpPr/>
          <p:nvPr/>
        </p:nvSpPr>
        <p:spPr>
          <a:xfrm>
            <a:off x="4211640" y="515772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76" name=""/>
          <p:cNvGraphicFramePr/>
          <p:nvPr/>
        </p:nvGraphicFramePr>
        <p:xfrm>
          <a:off x="4924440" y="5178600"/>
          <a:ext cx="799920" cy="26640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3877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4924440" y="5178600"/>
                    <a:ext cx="79992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8" name=""/>
          <p:cNvSpPr/>
          <p:nvPr/>
        </p:nvSpPr>
        <p:spPr>
          <a:xfrm>
            <a:off x="5796000" y="515772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Отсюда наход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0" name=""/>
          <p:cNvGraphicFramePr/>
          <p:nvPr/>
        </p:nvGraphicFramePr>
        <p:xfrm>
          <a:off x="179280" y="5610240"/>
          <a:ext cx="1095480" cy="26676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388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179280" y="5610240"/>
                    <a:ext cx="10954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2" name=""/>
          <p:cNvSpPr/>
          <p:nvPr/>
        </p:nvSpPr>
        <p:spPr>
          <a:xfrm>
            <a:off x="1332000" y="558972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Зная зн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3" name=""/>
          <p:cNvGraphicFramePr/>
          <p:nvPr/>
        </p:nvGraphicFramePr>
        <p:xfrm>
          <a:off x="3276720" y="5589720"/>
          <a:ext cx="495360" cy="26640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3884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3276720" y="5589720"/>
                    <a:ext cx="49536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5" name=""/>
          <p:cNvSpPr/>
          <p:nvPr/>
        </p:nvSpPr>
        <p:spPr>
          <a:xfrm>
            <a:off x="3780000" y="5589720"/>
            <a:ext cx="107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 сл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86" name=""/>
          <p:cNvGraphicFramePr/>
          <p:nvPr/>
        </p:nvGraphicFramePr>
        <p:xfrm>
          <a:off x="4788000" y="5648400"/>
          <a:ext cx="485640" cy="22860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3887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788000" y="5648400"/>
                    <a:ext cx="4856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8" name=""/>
          <p:cNvSpPr/>
          <p:nvPr/>
        </p:nvSpPr>
        <p:spPr>
          <a:xfrm>
            <a:off x="5364000" y="5589720"/>
            <a:ext cx="37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можно начать вычис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0" y="5950080"/>
            <a:ext cx="69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раевые условия (74) используются для получения знач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1" name=""/>
              <p:cNvSpPr txBox="1"/>
              <p:nvPr/>
            </p:nvSpPr>
            <p:spPr>
              <a:xfrm>
                <a:off x="6877080" y="5950080"/>
                <a:ext cx="50472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КОНТРОЛЬНЫЕ ВОПРОС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179280" y="692280"/>
            <a:ext cx="8785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 Приведите пример дифференциального уравнения параболического тип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Как выбираются шаги по оси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и оси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Y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для уравнения параболического тип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 Дайте определение устойчивой конечно-разностной схем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179280" y="1628640"/>
            <a:ext cx="24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При каких значения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04" name=""/>
          <p:cNvGraphicFramePr/>
          <p:nvPr/>
        </p:nvGraphicFramePr>
        <p:xfrm>
          <a:off x="2627280" y="1700280"/>
          <a:ext cx="15228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700280"/>
                    <a:ext cx="15228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6" name=""/>
          <p:cNvSpPr/>
          <p:nvPr/>
        </p:nvSpPr>
        <p:spPr>
          <a:xfrm>
            <a:off x="2843280" y="1628640"/>
            <a:ext cx="58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конечно-разностная схема будет устойчиво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179280" y="1989000"/>
            <a:ext cx="878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Чему равна погрешность метода сеток для уравнения параболического типа п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179280" y="2421000"/>
            <a:ext cx="23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личных значения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909" name=""/>
          <p:cNvGraphicFramePr/>
          <p:nvPr/>
        </p:nvGraphicFramePr>
        <p:xfrm>
          <a:off x="2411280" y="2492280"/>
          <a:ext cx="152640" cy="142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492280"/>
                    <a:ext cx="15264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1" name=""/>
          <p:cNvSpPr/>
          <p:nvPr/>
        </p:nvSpPr>
        <p:spPr>
          <a:xfrm>
            <a:off x="2627280" y="2421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179280" y="2779560"/>
            <a:ext cx="8785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Запишите итерационную формулу метода сеток для дифференциального уравнения параболического тип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Изобразите схему метода сеток для дифференциального уравнения параболического тип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Приведите пример уравнения гиперболического тип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Запишите итерационную формулу метода сеток для дифференциального уравнения гиперболического тип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Изобразите схему метода сеток для дифференциального уравнения гиперболического тип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МЕ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270400" y="860400"/>
          <a:ext cx="3333960" cy="17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860400"/>
                    <a:ext cx="333396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5203800" y="2579760"/>
          <a:ext cx="3400560" cy="185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3800" y="2579760"/>
                    <a:ext cx="340056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219640" y="4495680"/>
          <a:ext cx="3371760" cy="18860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19640" y="4495680"/>
                    <a:ext cx="337176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1" name=""/>
          <p:cNvSpPr/>
          <p:nvPr/>
        </p:nvSpPr>
        <p:spPr>
          <a:xfrm>
            <a:off x="216000" y="981000"/>
            <a:ext cx="5076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Пример 1.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 Дано нелинейное уравнени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2157480" y="1197000"/>
                <a:ext cx="13240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3" name=""/>
          <p:cNvSpPr/>
          <p:nvPr/>
        </p:nvSpPr>
        <p:spPr>
          <a:xfrm>
            <a:off x="216000" y="1557360"/>
            <a:ext cx="50767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Разбиваем исходный график на два более простых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2532240" y="1773360"/>
                <a:ext cx="572760" cy="23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9280" y="2060640"/>
            <a:ext cx="50770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Вывод: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 исходное уравнение имеет единственный корен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6000" y="2747880"/>
            <a:ext cx="5076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Пример 2.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 Дано нелинейное уравнени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2157480" y="2963880"/>
                <a:ext cx="13240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216000" y="3324240"/>
            <a:ext cx="50767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Разбиваем исходный график на два более простых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481120" y="3540240"/>
                <a:ext cx="676440" cy="23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179280" y="3827520"/>
            <a:ext cx="507708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Вывод: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 исходное уравнение корней не име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6000" y="4764240"/>
            <a:ext cx="50767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Пример 3.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 Дано нелинейное уравнени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025720" y="4986360"/>
                <a:ext cx="15890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216000" y="5340240"/>
            <a:ext cx="5076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Разбиваем исходный график на два более простых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392200" y="5549760"/>
                <a:ext cx="8524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179280" y="5843520"/>
            <a:ext cx="5077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Вывод: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 исходное уравнение имеет три корн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280" y="836640"/>
            <a:ext cx="536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Данный метод основывается на следующих теоремах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АНАЛИТИЧЕСКИЙ МЕТ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71280" y="1379520"/>
            <a:ext cx="26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Теорема 1.</a:t>
            </a: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 Если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2700360" y="1379520"/>
                <a:ext cx="3826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1" name=""/>
          <p:cNvSpPr/>
          <p:nvPr/>
        </p:nvSpPr>
        <p:spPr>
          <a:xfrm>
            <a:off x="3276720" y="1379520"/>
            <a:ext cx="230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непрерывна на отрез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5651640" y="1379520"/>
                <a:ext cx="38232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6227640" y="1379520"/>
            <a:ext cx="208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и на концах</a:t>
            </a: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отрез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1280" y="1666800"/>
            <a:ext cx="14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меняет знак 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476360" y="1666800"/>
                <a:ext cx="95724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2556000" y="1666800"/>
            <a:ext cx="572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), то на отрезке содержится хотя бы один коре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280" y="2349360"/>
            <a:ext cx="255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Теорема 2.</a:t>
            </a: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 Если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2627280" y="2349360"/>
                <a:ext cx="3826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3132000" y="2349360"/>
            <a:ext cx="230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непрерывна на отрез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5435640" y="2349360"/>
                <a:ext cx="38268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1" name=""/>
          <p:cNvSpPr/>
          <p:nvPr/>
        </p:nvSpPr>
        <p:spPr>
          <a:xfrm>
            <a:off x="5940360" y="2349360"/>
            <a:ext cx="302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, на концах отрезка меня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1280" y="2638440"/>
            <a:ext cx="68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знак 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684360" y="2638440"/>
                <a:ext cx="9572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1692360" y="2638440"/>
            <a:ext cx="165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), а производ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280" y="2925720"/>
            <a:ext cx="3421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содержится единственный коре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3419640" y="2638440"/>
                <a:ext cx="41256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7" name=""/>
          <p:cNvSpPr/>
          <p:nvPr/>
        </p:nvSpPr>
        <p:spPr>
          <a:xfrm>
            <a:off x="3995640" y="2638440"/>
            <a:ext cx="410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на отрезке знак сохраняет, то на отрез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1280" y="3645000"/>
            <a:ext cx="262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Теорема 3.</a:t>
            </a: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 Если 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2627280" y="3645000"/>
                <a:ext cx="38268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3132000" y="3645000"/>
            <a:ext cx="216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является полином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5289480" y="3716280"/>
                <a:ext cx="146160" cy="1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5580000" y="3645000"/>
            <a:ext cx="30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степени и на концах отрез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1280" y="3932280"/>
            <a:ext cx="14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меняет знак 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1403280" y="3932280"/>
                <a:ext cx="957240" cy="2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71280" y="4221000"/>
            <a:ext cx="13320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производ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280" y="4508640"/>
            <a:ext cx="889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корень). Если функция на отрезке знак сохраняет, то на отрезке содержится четное числ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корней или корней н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1403280" y="4221000"/>
                <a:ext cx="412920" cy="2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8" name=""/>
          <p:cNvSpPr/>
          <p:nvPr/>
        </p:nvSpPr>
        <p:spPr>
          <a:xfrm>
            <a:off x="1908000" y="4221000"/>
            <a:ext cx="698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на отрезке знак сохраняет, то на отрезке содержится единствен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411280" y="3932280"/>
            <a:ext cx="655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), то на отрезке содержится нечетное число корней (ес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925640" y="3956040"/>
            <a:ext cx="4599000" cy="2497320"/>
          </a:xfrm>
          <a:custGeom>
            <a:avLst/>
            <a:gdLst/>
            <a:ahLst/>
            <a:rect l="l" t="t" r="r" b="b"/>
            <a:pathLst>
              <a:path w="2897" h="1573">
                <a:moveTo>
                  <a:pt x="0" y="1573"/>
                </a:moveTo>
                <a:cubicBezTo>
                  <a:pt x="62" y="1093"/>
                  <a:pt x="124" y="614"/>
                  <a:pt x="233" y="357"/>
                </a:cubicBezTo>
                <a:cubicBezTo>
                  <a:pt x="342" y="101"/>
                  <a:pt x="522" y="62"/>
                  <a:pt x="654" y="31"/>
                </a:cubicBezTo>
                <a:cubicBezTo>
                  <a:pt x="786" y="0"/>
                  <a:pt x="934" y="70"/>
                  <a:pt x="1027" y="171"/>
                </a:cubicBezTo>
                <a:cubicBezTo>
                  <a:pt x="1120" y="272"/>
                  <a:pt x="1167" y="528"/>
                  <a:pt x="1215" y="638"/>
                </a:cubicBezTo>
                <a:cubicBezTo>
                  <a:pt x="1262" y="747"/>
                  <a:pt x="1262" y="771"/>
                  <a:pt x="1308" y="825"/>
                </a:cubicBezTo>
                <a:cubicBezTo>
                  <a:pt x="1355" y="880"/>
                  <a:pt x="1419" y="1013"/>
                  <a:pt x="1495" y="965"/>
                </a:cubicBezTo>
                <a:cubicBezTo>
                  <a:pt x="1571" y="917"/>
                  <a:pt x="1700" y="646"/>
                  <a:pt x="1762" y="537"/>
                </a:cubicBezTo>
                <a:cubicBezTo>
                  <a:pt x="1824" y="428"/>
                  <a:pt x="1820" y="388"/>
                  <a:pt x="1869" y="311"/>
                </a:cubicBezTo>
                <a:cubicBezTo>
                  <a:pt x="1918" y="234"/>
                  <a:pt x="1985" y="124"/>
                  <a:pt x="2055" y="77"/>
                </a:cubicBezTo>
                <a:cubicBezTo>
                  <a:pt x="2125" y="31"/>
                  <a:pt x="2211" y="15"/>
                  <a:pt x="2289" y="31"/>
                </a:cubicBezTo>
                <a:cubicBezTo>
                  <a:pt x="2367" y="46"/>
                  <a:pt x="2453" y="77"/>
                  <a:pt x="2523" y="171"/>
                </a:cubicBezTo>
                <a:cubicBezTo>
                  <a:pt x="2593" y="265"/>
                  <a:pt x="2664" y="475"/>
                  <a:pt x="2709" y="591"/>
                </a:cubicBezTo>
                <a:cubicBezTo>
                  <a:pt x="2754" y="707"/>
                  <a:pt x="2761" y="713"/>
                  <a:pt x="2792" y="869"/>
                </a:cubicBezTo>
                <a:cubicBezTo>
                  <a:pt x="2823" y="1025"/>
                  <a:pt x="2875" y="1389"/>
                  <a:pt x="2897" y="152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11200" y="3718080"/>
            <a:ext cx="9720" cy="2157120"/>
          </a:xfrm>
          <a:prstGeom prst="line">
            <a:avLst/>
          </a:prstGeom>
          <a:ln w="9360">
            <a:solidFill>
              <a:srgbClr val="0000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36760" y="5873760"/>
            <a:ext cx="6880320" cy="3240"/>
          </a:xfrm>
          <a:prstGeom prst="line">
            <a:avLst/>
          </a:prstGeom>
          <a:ln w="9360">
            <a:solidFill>
              <a:srgbClr val="00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1122480" y="5908680"/>
                <a:ext cx="180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8201160" y="6019920"/>
                <a:ext cx="20448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116000" y="3718080"/>
                <a:ext cx="223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131920" y="5929200"/>
                <a:ext cx="26208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373720" y="6029280"/>
                <a:ext cx="16668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221520" y="3948120"/>
                <a:ext cx="8413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29280" y="5992920"/>
                <a:ext cx="2044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4195800" y="5407200"/>
            <a:ext cx="179280" cy="183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916360" y="6021360"/>
                <a:ext cx="168120" cy="2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1636560" y="5661000"/>
            <a:ext cx="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62600" y="5661000"/>
            <a:ext cx="0" cy="3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411200" y="5946840"/>
                <a:ext cx="2048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6869160" y="5983200"/>
                <a:ext cx="1857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99"/>
                </a:solidFill>
                <a:latin typeface="Arial Black"/>
              </a:rPr>
              <a:t>ГЕОМЕТРИЧЕСКАЯ ИНТЕРПРЕТАЦИЯ АНАЛИТИЧЕСКОГО МЕТОДА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2933640" y="3930480"/>
            <a:ext cx="179280" cy="184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81640" y="3930480"/>
            <a:ext cx="179280" cy="184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25640" y="5803920"/>
            <a:ext cx="179280" cy="183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389640" y="5757840"/>
            <a:ext cx="179280" cy="184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6084720" y="5946840"/>
                <a:ext cx="27972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2" name=""/>
          <p:cNvSpPr/>
          <p:nvPr/>
        </p:nvSpPr>
        <p:spPr>
          <a:xfrm>
            <a:off x="3005280" y="40752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452920" y="407520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299120" y="55879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360" y="1268280"/>
            <a:ext cx="464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. Определяются точки, в которых производн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4778280" y="1268280"/>
                <a:ext cx="8604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7" name=""/>
          <p:cNvSpPr/>
          <p:nvPr/>
        </p:nvSpPr>
        <p:spPr>
          <a:xfrm>
            <a:off x="5724360" y="126828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(точк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8" name=""/>
              <p:cNvSpPr txBox="1"/>
              <p:nvPr/>
            </p:nvSpPr>
            <p:spPr>
              <a:xfrm>
                <a:off x="6521400" y="1278000"/>
                <a:ext cx="56052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9" name=""/>
          <p:cNvSpPr/>
          <p:nvPr/>
        </p:nvSpPr>
        <p:spPr>
          <a:xfrm>
            <a:off x="7093080" y="1268280"/>
            <a:ext cx="142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360" y="1700280"/>
            <a:ext cx="493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2. Выделяются интервалы монотонности функции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5140440" y="1668600"/>
                <a:ext cx="20955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179280" y="2205000"/>
            <a:ext cx="7056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3. Из этих интервалов выбираются те, на которых функция меняет знак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662120" y="5734080"/>
            <a:ext cx="73080" cy="287280"/>
          </a:xfrm>
          <a:custGeom>
            <a:avLst/>
            <a:gdLst>
              <a:gd name="textAreaLeft" fmla="*/ 21240 w 73080"/>
              <a:gd name="textAreaRight" fmla="*/ 73440 w 73080"/>
              <a:gd name="textAreaTop" fmla="*/ 31680 h 287280"/>
              <a:gd name="textAreaBottom" fmla="*/ 25560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87"/>
                  <a:pt x="0" y="4773"/>
                </a:cubicBezTo>
                <a:lnTo>
                  <a:pt x="0" y="16827"/>
                </a:lnTo>
                <a:cubicBezTo>
                  <a:pt x="0" y="19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11400" y="5734080"/>
            <a:ext cx="73080" cy="287280"/>
          </a:xfrm>
          <a:custGeom>
            <a:avLst/>
            <a:gdLst>
              <a:gd name="textAreaLeft" fmla="*/ 21240 w 73080"/>
              <a:gd name="textAreaRight" fmla="*/ 73440 w 73080"/>
              <a:gd name="textAreaTop" fmla="*/ 31680 h 287280"/>
              <a:gd name="textAreaBottom" fmla="*/ 25560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87"/>
                  <a:pt x="0" y="4773"/>
                </a:cubicBezTo>
                <a:lnTo>
                  <a:pt x="0" y="16827"/>
                </a:lnTo>
                <a:cubicBezTo>
                  <a:pt x="0" y="19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07040" y="5734080"/>
            <a:ext cx="72720" cy="287280"/>
          </a:xfrm>
          <a:custGeom>
            <a:avLst/>
            <a:gdLst>
              <a:gd name="textAreaLeft" fmla="*/ 21240 w 72720"/>
              <a:gd name="textAreaRight" fmla="*/ 73080 w 72720"/>
              <a:gd name="textAreaTop" fmla="*/ 31680 h 287280"/>
              <a:gd name="textAreaBottom" fmla="*/ 25560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387"/>
                  <a:pt x="0" y="4773"/>
                </a:cubicBezTo>
                <a:lnTo>
                  <a:pt x="0" y="16827"/>
                </a:lnTo>
                <a:cubicBezTo>
                  <a:pt x="0" y="19214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462640" y="5734080"/>
            <a:ext cx="73080" cy="287280"/>
          </a:xfrm>
          <a:custGeom>
            <a:avLst/>
            <a:gdLst>
              <a:gd name="textAreaLeft" fmla="*/ 21240 w 73080"/>
              <a:gd name="textAreaRight" fmla="*/ 73440 w 73080"/>
              <a:gd name="textAreaTop" fmla="*/ 52920 h 287280"/>
              <a:gd name="textAreaBottom" fmla="*/ 234360 h 2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3998"/>
                  <a:pt x="0" y="7996"/>
                </a:cubicBezTo>
                <a:lnTo>
                  <a:pt x="0" y="13604"/>
                </a:lnTo>
                <a:cubicBezTo>
                  <a:pt x="0" y="17602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9280" y="836640"/>
            <a:ext cx="8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Фун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413000" y="804960"/>
                <a:ext cx="8413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2340000" y="836640"/>
            <a:ext cx="172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имеет на отрез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4068720" y="804960"/>
                <a:ext cx="4856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4645080" y="836640"/>
            <a:ext cx="273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ahoma"/>
              </a:rPr>
              <a:t>два пересечения с осью </a:t>
            </a: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O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7451640" y="765000"/>
                <a:ext cx="6159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922480" y="5734080"/>
            <a:ext cx="73080" cy="287280"/>
          </a:xfrm>
          <a:custGeom>
            <a:avLst/>
            <a:gdLst>
              <a:gd name="textAreaLeft" fmla="*/ 0 w 73080"/>
              <a:gd name="textAreaRight" fmla="*/ 51480 w 73080"/>
              <a:gd name="textAreaTop" fmla="*/ 67320 h 287280"/>
              <a:gd name="textAreaBottom" fmla="*/ 2199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072"/>
                  <a:pt x="21600" y="10144"/>
                </a:cubicBezTo>
                <a:lnTo>
                  <a:pt x="21600" y="11456"/>
                </a:lnTo>
                <a:cubicBezTo>
                  <a:pt x="21600" y="16528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19560" y="5734080"/>
            <a:ext cx="73080" cy="287280"/>
          </a:xfrm>
          <a:custGeom>
            <a:avLst/>
            <a:gdLst>
              <a:gd name="textAreaLeft" fmla="*/ 0 w 73080"/>
              <a:gd name="textAreaRight" fmla="*/ 51480 w 73080"/>
              <a:gd name="textAreaTop" fmla="*/ 60840 h 287280"/>
              <a:gd name="textAreaBottom" fmla="*/ 2264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595"/>
                  <a:pt x="21600" y="9189"/>
                </a:cubicBezTo>
                <a:lnTo>
                  <a:pt x="21600" y="12411"/>
                </a:lnTo>
                <a:cubicBezTo>
                  <a:pt x="21600" y="17006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72280" y="5734080"/>
            <a:ext cx="72720" cy="287280"/>
          </a:xfrm>
          <a:custGeom>
            <a:avLst/>
            <a:gdLst>
              <a:gd name="textAreaLeft" fmla="*/ 0 w 72720"/>
              <a:gd name="textAreaRight" fmla="*/ 51120 w 72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659640" y="5734080"/>
            <a:ext cx="73080" cy="287280"/>
          </a:xfrm>
          <a:custGeom>
            <a:avLst/>
            <a:gdLst>
              <a:gd name="textAreaLeft" fmla="*/ 0 w 73080"/>
              <a:gd name="textAreaRight" fmla="*/ 51480 w 73080"/>
              <a:gd name="textAreaTop" fmla="*/ 68040 h 287280"/>
              <a:gd name="textAreaBottom" fmla="*/ 2192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132"/>
                  <a:pt x="21600" y="10263"/>
                </a:cubicBezTo>
                <a:lnTo>
                  <a:pt x="21600" y="11337"/>
                </a:lnTo>
                <a:cubicBezTo>
                  <a:pt x="21600" y="16469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236000" y="2205000"/>
                <a:ext cx="102996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>
            <a:off x="179280" y="2708280"/>
            <a:ext cx="1728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4. На интервала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1987560" y="2708280"/>
                <a:ext cx="10126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,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3059280" y="2708280"/>
            <a:ext cx="4465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содержится по одному корню, соответственн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7586640" y="2708280"/>
                <a:ext cx="6350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179280" y="3213000"/>
            <a:ext cx="864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нахождения их приближенного значения можно использовать методы уточнения корн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280360" y="2708280"/>
            <a:ext cx="61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и д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54200" y="5877000"/>
            <a:ext cx="1332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5435640" y="5877000"/>
            <a:ext cx="129528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500"/>
                            </p:stCondLst>
                            <p:childTnLst>
                              <p:par>
                                <p:cTn id="1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500"/>
                            </p:stCondLst>
                            <p:childTnLst>
                              <p:par>
                                <p:cTn id="1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5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500"/>
                            </p:stCondLst>
                            <p:childTnLst>
                              <p:par>
                                <p:cTn id="2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8000"/>
                            </p:stCondLst>
                            <p:childTnLst>
                              <p:par>
                                <p:cTn id="2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МЕТОД ДЕЛЕНИЯ ОТРЕЗКА ПОПОЛ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144360" y="1195560"/>
            <a:ext cx="464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7091280" y="2306520"/>
                <a:ext cx="8413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539640" y="763560"/>
            <a:ext cx="431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усть нелинейное уравнение (1) имеет на отрез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4859280" y="692280"/>
                <a:ext cx="4860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5506920" y="765000"/>
            <a:ext cx="345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единственный вещественный корен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108000" y="1163520"/>
                <a:ext cx="9367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3" name=""/>
          <p:cNvSpPr/>
          <p:nvPr/>
        </p:nvSpPr>
        <p:spPr>
          <a:xfrm>
            <a:off x="1044720" y="1236600"/>
            <a:ext cx="36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ребуется найти его с заданной точность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4716360" y="1236600"/>
                <a:ext cx="26208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539640" y="1741320"/>
            <a:ext cx="172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Разбиваем отрез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2268360" y="1668600"/>
                <a:ext cx="4860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"/>
          <p:cNvSpPr/>
          <p:nvPr/>
        </p:nvSpPr>
        <p:spPr>
          <a:xfrm>
            <a:off x="2843280" y="1741320"/>
            <a:ext cx="14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ополам точк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4284720" y="1649520"/>
                <a:ext cx="24300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179280" y="2378160"/>
            <a:ext cx="27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и из двух полученных отрезк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2836800" y="2297160"/>
                <a:ext cx="11588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4067280" y="2378160"/>
            <a:ext cx="30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выбираем тот, на котором функ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9280" y="3016080"/>
            <a:ext cx="36036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.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539640" y="2944800"/>
                <a:ext cx="65412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1187280" y="3016080"/>
            <a:ext cx="273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Разбиваем его пополам точк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924360" y="2954160"/>
                <a:ext cx="223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4211640" y="3017880"/>
            <a:ext cx="374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первое приближение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) и получаем отрез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7896240" y="2944800"/>
                <a:ext cx="636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179280" y="3684600"/>
            <a:ext cx="662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И т.д. до тех пор, пока модуль разности между 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последующим приближени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778800" y="3613320"/>
                <a:ext cx="2412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179280" y="4259160"/>
            <a:ext cx="129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приближени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1539720" y="4187880"/>
                <a:ext cx="223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1835280" y="4251240"/>
            <a:ext cx="172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(т.е. длина отрез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3573360" y="4187880"/>
                <a:ext cx="6350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4" name=""/>
          <p:cNvSpPr/>
          <p:nvPr/>
        </p:nvSpPr>
        <p:spPr>
          <a:xfrm>
            <a:off x="4282920" y="4251240"/>
            <a:ext cx="35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) не будет превышать заданной точ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846600" y="4781520"/>
                <a:ext cx="10857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468360" y="5413320"/>
            <a:ext cx="727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огда в качестве приближенного значения корня выбирается 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последнее приближ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7812000" y="5340240"/>
                <a:ext cx="3160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>
            <a:off x="8172360" y="5413320"/>
            <a:ext cx="360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.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3995640" y="5845320"/>
                <a:ext cx="66852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4643280" y="1735200"/>
            <a:ext cx="4321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нулевое или начальное приближение (итерация)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6720" y="2370240"/>
            <a:ext cx="118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меняет знак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164360" y="3684600"/>
            <a:ext cx="136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и 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предыдущи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7804080" y="4230720"/>
                <a:ext cx="27936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4" name=""/>
          <p:cNvSpPr/>
          <p:nvPr/>
        </p:nvSpPr>
        <p:spPr>
          <a:xfrm>
            <a:off x="8172360" y="4259160"/>
            <a:ext cx="360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.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ГЕОМЕТРИЧЕСКАЯ ИНТЕРПРЕТАЦИЯ МЕТОДА ДЕЛЕНИЯ ОТРЕЗКА ПОПОЛ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50920" y="1268280"/>
            <a:ext cx="8641800" cy="5184720"/>
            <a:chOff x="250920" y="1268280"/>
            <a:chExt cx="8641800" cy="5184720"/>
          </a:xfrm>
        </p:grpSpPr>
        <p:sp>
          <p:nvSpPr>
            <p:cNvPr id="487" name=""/>
            <p:cNvSpPr/>
            <p:nvPr/>
          </p:nvSpPr>
          <p:spPr>
            <a:xfrm>
              <a:off x="676800" y="1347120"/>
              <a:ext cx="0" cy="4612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6800" y="5960160"/>
              <a:ext cx="7552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41000" y="2046240"/>
              <a:ext cx="6721200" cy="4093200"/>
            </a:xfrm>
            <a:custGeom>
              <a:avLst/>
              <a:gdLst/>
              <a:ahLst/>
              <a:rect l="l" t="t" r="r" b="b"/>
              <a:pathLst>
                <a:path w="3280" h="2506">
                  <a:moveTo>
                    <a:pt x="0" y="2506"/>
                  </a:moveTo>
                  <a:cubicBezTo>
                    <a:pt x="309" y="2463"/>
                    <a:pt x="615" y="2436"/>
                    <a:pt x="958" y="2304"/>
                  </a:cubicBezTo>
                  <a:cubicBezTo>
                    <a:pt x="1301" y="2173"/>
                    <a:pt x="1810" y="1878"/>
                    <a:pt x="2059" y="1718"/>
                  </a:cubicBezTo>
                  <a:cubicBezTo>
                    <a:pt x="2308" y="1558"/>
                    <a:pt x="2382" y="1411"/>
                    <a:pt x="2453" y="1342"/>
                  </a:cubicBezTo>
                  <a:cubicBezTo>
                    <a:pt x="2524" y="1273"/>
                    <a:pt x="2470" y="1323"/>
                    <a:pt x="2487" y="1301"/>
                  </a:cubicBezTo>
                  <a:cubicBezTo>
                    <a:pt x="2504" y="1279"/>
                    <a:pt x="2536" y="1240"/>
                    <a:pt x="2555" y="1213"/>
                  </a:cubicBezTo>
                  <a:cubicBezTo>
                    <a:pt x="2574" y="1186"/>
                    <a:pt x="2581" y="1170"/>
                    <a:pt x="2602" y="1138"/>
                  </a:cubicBezTo>
                  <a:cubicBezTo>
                    <a:pt x="2623" y="1106"/>
                    <a:pt x="2657" y="1063"/>
                    <a:pt x="2683" y="1023"/>
                  </a:cubicBezTo>
                  <a:cubicBezTo>
                    <a:pt x="2709" y="983"/>
                    <a:pt x="2659" y="1065"/>
                    <a:pt x="2758" y="895"/>
                  </a:cubicBezTo>
                  <a:cubicBezTo>
                    <a:pt x="2857" y="725"/>
                    <a:pt x="3171" y="186"/>
                    <a:pt x="3280" y="0"/>
                  </a:cubicBezTo>
                </a:path>
              </a:pathLst>
            </a:custGeom>
            <a:noFill/>
            <a:ln w="255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0" name=""/>
                <p:cNvSpPr txBox="1"/>
                <p:nvPr/>
              </p:nvSpPr>
              <p:spPr>
                <a:xfrm>
                  <a:off x="506880" y="5996880"/>
                  <a:ext cx="208440" cy="30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1" name=""/>
                <p:cNvSpPr txBox="1"/>
                <p:nvPr/>
              </p:nvSpPr>
              <p:spPr>
                <a:xfrm>
                  <a:off x="8075160" y="6139800"/>
                  <a:ext cx="23580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250920" y="1268280"/>
                  <a:ext cx="25776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3" name=""/>
            <p:cNvSpPr/>
            <p:nvPr/>
          </p:nvSpPr>
          <p:spPr>
            <a:xfrm>
              <a:off x="2420640" y="5856120"/>
              <a:ext cx="206280" cy="2037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94" name=""/>
                <p:cNvSpPr txBox="1"/>
                <p:nvPr/>
              </p:nvSpPr>
              <p:spPr>
                <a:xfrm>
                  <a:off x="2502720" y="6130800"/>
                  <a:ext cx="2797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5" name=""/>
                <p:cNvSpPr txBox="1"/>
                <p:nvPr/>
              </p:nvSpPr>
              <p:spPr>
                <a:xfrm>
                  <a:off x="7681680" y="6099120"/>
                  <a:ext cx="213840" cy="28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6" name=""/>
                <p:cNvSpPr txBox="1"/>
                <p:nvPr/>
              </p:nvSpPr>
              <p:spPr>
                <a:xfrm>
                  <a:off x="7797240" y="1588320"/>
                  <a:ext cx="1095480" cy="39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7" name=""/>
                <p:cNvSpPr txBox="1"/>
                <p:nvPr/>
              </p:nvSpPr>
              <p:spPr>
                <a:xfrm>
                  <a:off x="2949120" y="6060240"/>
                  <a:ext cx="299880" cy="39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8" name=""/>
                <p:cNvSpPr txBox="1"/>
                <p:nvPr/>
              </p:nvSpPr>
              <p:spPr>
                <a:xfrm>
                  <a:off x="2005200" y="6060240"/>
                  <a:ext cx="343800" cy="39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9" name=""/>
                <p:cNvSpPr txBox="1"/>
                <p:nvPr/>
              </p:nvSpPr>
              <p:spPr>
                <a:xfrm>
                  <a:off x="2420640" y="5340600"/>
                  <a:ext cx="471600" cy="28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ε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0" name=""/>
            <p:cNvSpPr/>
            <p:nvPr/>
          </p:nvSpPr>
          <p:spPr>
            <a:xfrm>
              <a:off x="2252160" y="5979240"/>
              <a:ext cx="830520" cy="180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53960" y="5880600"/>
              <a:ext cx="0" cy="15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837560" y="5880600"/>
              <a:ext cx="0" cy="15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1187640" y="6039000"/>
                  <a:ext cx="235440" cy="248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4" name=""/>
            <p:cNvSpPr/>
            <p:nvPr/>
          </p:nvSpPr>
          <p:spPr>
            <a:xfrm flipV="1" rot="16200000">
              <a:off x="2494080" y="5428440"/>
              <a:ext cx="268920" cy="830520"/>
            </a:xfrm>
            <a:custGeom>
              <a:avLst/>
              <a:gdLst>
                <a:gd name="textAreaLeft" fmla="*/ 0 w 268920"/>
                <a:gd name="textAreaRight" fmla="*/ 97200 w 268920"/>
                <a:gd name="textAreaTop" fmla="*/ 21600 h 830520"/>
                <a:gd name="textAreaBottom" fmla="*/ 808920 h 830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490"/>
                  </a:lnTo>
                  <a:cubicBezTo>
                    <a:pt x="10800" y="10390"/>
                    <a:pt x="16200" y="11290"/>
                    <a:pt x="21600" y="11290"/>
                  </a:cubicBezTo>
                  <a:cubicBezTo>
                    <a:pt x="16200" y="11290"/>
                    <a:pt x="10800" y="12190"/>
                    <a:pt x="10800" y="1309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70080" y="5900040"/>
              <a:ext cx="120600" cy="119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701960" y="5900040"/>
              <a:ext cx="120600" cy="119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00600" y="5887800"/>
              <a:ext cx="120600" cy="119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4630320" y="6071040"/>
                  <a:ext cx="277920" cy="37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179280" y="763560"/>
            <a:ext cx="87854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Какое уравнение называется нелинейным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Что называется решением нелинейного уравнени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Когда возникает задача приближенного решения нелинейных уравнен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Что называется приближенным решением нелинейного уравнени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Назовите основные этапы решения нелинейных уравне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В чем состоит этап отделения корней нелинейных уравнен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В чем состоит этап уточнения корней нелинейных уравнен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В чем состоит графический метод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В чем состоит аналитический метод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Сформулируйте теорему о существовании хотя бы одного корня нелинейного уравнения на отрез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. Сформулируйте теорему о существовании единственного корня нелинейного уравнения на отрез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. В чем состоит метод половинного делени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ЕКЦИЯ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0" y="3933360"/>
            <a:ext cx="914400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ТОЧНЕНИЕ КОРНЕЙ НЕЛИНЕЙНЫХ УРАВ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метод простых итераци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329" dur="2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Black"/>
              </a:rPr>
              <a:t>МЕТОД ПРОСТЫХ ИТЕРАЦИЙ ДЛЯ РЕШЕНИЯ НЕЛИНЕЙНЫХ УРАВН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"/>
          <p:cNvSpPr/>
          <p:nvPr/>
        </p:nvSpPr>
        <p:spPr>
          <a:xfrm>
            <a:off x="144360" y="1052640"/>
            <a:ext cx="464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9640" y="496800"/>
            <a:ext cx="431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усть нелинейное уравнение (1) имеет на отрез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6" name=""/>
              <p:cNvSpPr txBox="1"/>
              <p:nvPr/>
            </p:nvSpPr>
            <p:spPr>
              <a:xfrm>
                <a:off x="4859280" y="425520"/>
                <a:ext cx="486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17" name=""/>
          <p:cNvSpPr/>
          <p:nvPr/>
        </p:nvSpPr>
        <p:spPr>
          <a:xfrm>
            <a:off x="5506920" y="49860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единственный вещественный корен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08000" y="785880"/>
                <a:ext cx="9367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1044720" y="819000"/>
            <a:ext cx="3958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ребуется найти его с заданными точност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4950000" y="804960"/>
                <a:ext cx="4856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539640" y="1146240"/>
            <a:ext cx="44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1. От нелинейного уравнения (1) переходим к вид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5510160" y="1074600"/>
                <a:ext cx="12938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539640" y="15145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2. Итерационный процесс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4253040" y="1433520"/>
                <a:ext cx="2550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539640" y="1844640"/>
            <a:ext cx="828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3. 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Теорема 4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 (</a:t>
            </a:r>
            <a:r>
              <a:rPr b="0" lang="en-US" sz="1400" spc="-1" strike="noStrike" u="sng">
                <a:solidFill>
                  <a:srgbClr val="000099"/>
                </a:solidFill>
                <a:uFillTx/>
                <a:latin typeface="Tahoma"/>
              </a:rPr>
              <a:t>теорема о достаточных условиях сходимости итерационного процесса (3)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). Ес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79280" y="213192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функ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971640" y="2060640"/>
                <a:ext cx="4492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1476360" y="2131920"/>
            <a:ext cx="3743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определена и дифференцируема на отрез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5265720" y="2060640"/>
                <a:ext cx="5414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0" name=""/>
          <p:cNvSpPr/>
          <p:nvPr/>
        </p:nvSpPr>
        <p:spPr>
          <a:xfrm>
            <a:off x="5867280" y="2130480"/>
            <a:ext cx="327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все ее значения принадлежат отрезк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79280" y="2419200"/>
            <a:ext cx="208908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и выполняется услови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238480" y="2390760"/>
                <a:ext cx="236196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4716360" y="2419200"/>
            <a:ext cx="34560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о итерационный процесс (3) сходится 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79280" y="2852640"/>
            <a:ext cx="849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единственному корню нелинейного уравнения (1) независимо от выбора начального приближ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8604360" y="2770200"/>
                <a:ext cx="2984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539640" y="3573360"/>
            <a:ext cx="338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5. Сходящийся итерационный процесс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3924360" y="3451320"/>
                <a:ext cx="3095640" cy="33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7164360" y="3502080"/>
            <a:ext cx="11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где знач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2340000" y="3871800"/>
                <a:ext cx="168120" cy="2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179280" y="3862440"/>
            <a:ext cx="216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неизвестной постоян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627280" y="3862440"/>
            <a:ext cx="532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выбирается из соответствующего двустороннего неравенств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1279440" y="4078440"/>
                <a:ext cx="18525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258920" y="4438800"/>
                <a:ext cx="185256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486240" y="4078440"/>
                <a:ext cx="15904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3492360" y="4438800"/>
                <a:ext cx="159084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6" name=""/>
          <p:cNvSpPr/>
          <p:nvPr/>
        </p:nvSpPr>
        <p:spPr>
          <a:xfrm>
            <a:off x="538200" y="414972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а) ес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39640" y="451008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б) ес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03640" y="4149720"/>
            <a:ext cx="28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03640" y="4510080"/>
            <a:ext cx="28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9640" y="4799160"/>
            <a:ext cx="489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6. Условия окончания итерационных процессов (3) и (5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"/>
              <p:cNvSpPr txBox="1"/>
              <p:nvPr/>
            </p:nvSpPr>
            <p:spPr>
              <a:xfrm>
                <a:off x="5425920" y="4697280"/>
                <a:ext cx="260208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2" name=""/>
          <p:cNvSpPr/>
          <p:nvPr/>
        </p:nvSpPr>
        <p:spPr>
          <a:xfrm>
            <a:off x="539640" y="5086440"/>
            <a:ext cx="860436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7. Достоинства метода простых итераций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а) метод является универсальным, самоисправляющимся и простым для реализации на ЭВМ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б) метод позволяет находить решение уравнения (1) при любом начальном приближении из отрез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8. Недостатки метода простых итераций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а) если начальное приближение выбрано достаточно далеко от корня, то число итераций возрастает (метод обладает медленной скоростью сходимост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б) метод является трудоемки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9640" y="3213000"/>
            <a:ext cx="849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4. Начальное приближение выбирается произвольно из отрез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5640" y="4111200"/>
            <a:ext cx="698508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ЧЕТ ПОГРЕШНОСТЕЙ ПРИ ВЫЧИСЛЕНИЯ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5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1763640" y="1611360"/>
            <a:ext cx="0" cy="3456000"/>
          </a:xfrm>
          <a:prstGeom prst="line">
            <a:avLst/>
          </a:prstGeom>
          <a:ln w="9360">
            <a:solidFill>
              <a:srgbClr val="0000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63640" y="5067360"/>
            <a:ext cx="518472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763640" y="1971360"/>
            <a:ext cx="4248360" cy="309564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979640" y="2763720"/>
            <a:ext cx="4105080" cy="1727280"/>
          </a:xfrm>
          <a:custGeom>
            <a:avLst/>
            <a:gdLst/>
            <a:ahLst/>
            <a:rect l="l" t="t" r="r" b="b"/>
            <a:pathLst>
              <a:path w="2586" h="1088">
                <a:moveTo>
                  <a:pt x="0" y="1088"/>
                </a:moveTo>
                <a:cubicBezTo>
                  <a:pt x="234" y="1069"/>
                  <a:pt x="469" y="1051"/>
                  <a:pt x="726" y="998"/>
                </a:cubicBezTo>
                <a:cubicBezTo>
                  <a:pt x="983" y="945"/>
                  <a:pt x="1232" y="937"/>
                  <a:pt x="1542" y="771"/>
                </a:cubicBezTo>
                <a:cubicBezTo>
                  <a:pt x="1852" y="605"/>
                  <a:pt x="2219" y="302"/>
                  <a:pt x="2586" y="0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1616040" y="5100480"/>
                <a:ext cx="181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6796080" y="5240160"/>
                <a:ext cx="2048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393920" y="1511280"/>
                <a:ext cx="2239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"/>
          <p:cNvSpPr/>
          <p:nvPr/>
        </p:nvSpPr>
        <p:spPr>
          <a:xfrm>
            <a:off x="2627280" y="4487760"/>
            <a:ext cx="0" cy="64476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2529000" y="5167440"/>
                <a:ext cx="24264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5724360" y="3051000"/>
            <a:ext cx="0" cy="215928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5543640" y="5146560"/>
                <a:ext cx="2793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6188040" y="1755720"/>
                <a:ext cx="61596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6" name=""/>
              <p:cNvSpPr txBox="1"/>
              <p:nvPr/>
            </p:nvSpPr>
            <p:spPr>
              <a:xfrm>
                <a:off x="6159600" y="2509920"/>
                <a:ext cx="933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7" name=""/>
          <p:cNvSpPr/>
          <p:nvPr/>
        </p:nvSpPr>
        <p:spPr>
          <a:xfrm flipH="1">
            <a:off x="4571640" y="3051000"/>
            <a:ext cx="115236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692000" y="3051000"/>
            <a:ext cx="287964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971640" y="2835360"/>
                <a:ext cx="635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0" name=""/>
          <p:cNvSpPr/>
          <p:nvPr/>
        </p:nvSpPr>
        <p:spPr>
          <a:xfrm>
            <a:off x="4572000" y="3051000"/>
            <a:ext cx="0" cy="86364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572000" y="3976560"/>
            <a:ext cx="0" cy="118764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4599000" y="5138640"/>
                <a:ext cx="2602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3" name=""/>
          <p:cNvSpPr/>
          <p:nvPr/>
        </p:nvSpPr>
        <p:spPr>
          <a:xfrm flipH="1">
            <a:off x="3381480" y="3914640"/>
            <a:ext cx="11332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1692360" y="3914640"/>
            <a:ext cx="158256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990720" y="3699000"/>
                <a:ext cx="596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6" name=""/>
          <p:cNvSpPr/>
          <p:nvPr/>
        </p:nvSpPr>
        <p:spPr>
          <a:xfrm flipH="1">
            <a:off x="3360600" y="3914640"/>
            <a:ext cx="5040" cy="36036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360600" y="4348080"/>
            <a:ext cx="0" cy="79056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8" name=""/>
              <p:cNvSpPr txBox="1"/>
              <p:nvPr/>
            </p:nvSpPr>
            <p:spPr>
              <a:xfrm>
                <a:off x="3059280" y="5138640"/>
                <a:ext cx="298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9" name=""/>
          <p:cNvSpPr/>
          <p:nvPr/>
        </p:nvSpPr>
        <p:spPr>
          <a:xfrm rot="5400000">
            <a:off x="3887640" y="4599000"/>
            <a:ext cx="144720" cy="1224000"/>
          </a:xfrm>
          <a:custGeom>
            <a:avLst/>
            <a:gdLst>
              <a:gd name="textAreaLeft" fmla="*/ 0 w 144720"/>
              <a:gd name="textAreaRight" fmla="*/ 52200 w 144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90"/>
                </a:lnTo>
                <a:cubicBezTo>
                  <a:pt x="10800" y="10390"/>
                  <a:pt x="16200" y="11290"/>
                  <a:pt x="21600" y="11290"/>
                </a:cubicBezTo>
                <a:cubicBezTo>
                  <a:pt x="16200" y="11290"/>
                  <a:pt x="10800" y="12190"/>
                  <a:pt x="10800" y="1309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3921120" y="5329080"/>
                <a:ext cx="40968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3348000" y="5067360"/>
            <a:ext cx="1224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979640" y="49957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84720" y="49957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835280" y="5138640"/>
                <a:ext cx="20448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6058080" y="5175360"/>
                <a:ext cx="18540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ГЕОМЕТРИЧЕСКАЯ ИНТЕРПРЕТАЦИЯ МЕТОДА ПРОСТЫХ ИТЕРАЦИЙ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(случай сходящегося итерационного процесса, «лестница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5664240" y="298620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500720" y="298620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22680" y="387972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314880" y="384336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313080" y="426096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56000" y="4348080"/>
            <a:ext cx="179280" cy="184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500"/>
                            </p:stCondLst>
                            <p:childTnLst>
                              <p:par>
                                <p:cTn id="3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60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6500"/>
                            </p:stCondLst>
                            <p:childTnLst>
                              <p:par>
                                <p:cTn id="4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9500"/>
                            </p:stCondLst>
                            <p:childTnLst>
                              <p:par>
                                <p:cTn id="4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4500"/>
                            </p:stCondLst>
                            <p:childTnLst>
                              <p:par>
                                <p:cTn id="4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8500"/>
                            </p:stCondLst>
                            <p:childTnLst>
                              <p:par>
                                <p:cTn id="4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2340000" y="1963800"/>
            <a:ext cx="0" cy="3456000"/>
          </a:xfrm>
          <a:prstGeom prst="line">
            <a:avLst/>
          </a:prstGeom>
          <a:ln w="9360">
            <a:solidFill>
              <a:srgbClr val="0000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0000" y="5419800"/>
            <a:ext cx="518472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2340000" y="2125800"/>
            <a:ext cx="3960720" cy="32940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709720" y="2116080"/>
            <a:ext cx="4208760" cy="3056040"/>
          </a:xfrm>
          <a:custGeom>
            <a:avLst/>
            <a:gdLst/>
            <a:ahLst/>
            <a:rect l="l" t="t" r="r" b="b"/>
            <a:pathLst>
              <a:path w="2651" h="1925">
                <a:moveTo>
                  <a:pt x="0" y="0"/>
                </a:moveTo>
                <a:cubicBezTo>
                  <a:pt x="55" y="124"/>
                  <a:pt x="158" y="510"/>
                  <a:pt x="330" y="746"/>
                </a:cubicBezTo>
                <a:cubicBezTo>
                  <a:pt x="502" y="982"/>
                  <a:pt x="648" y="1221"/>
                  <a:pt x="1035" y="1417"/>
                </a:cubicBezTo>
                <a:cubicBezTo>
                  <a:pt x="1422" y="1613"/>
                  <a:pt x="2314" y="1819"/>
                  <a:pt x="2651" y="1925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2124000" y="5452920"/>
                <a:ext cx="181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7372440" y="5592600"/>
                <a:ext cx="2048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1969920" y="1916280"/>
                <a:ext cx="223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0" name=""/>
          <p:cNvSpPr/>
          <p:nvPr/>
        </p:nvSpPr>
        <p:spPr>
          <a:xfrm flipH="1">
            <a:off x="3924360" y="4137120"/>
            <a:ext cx="15840" cy="137304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3825720" y="5653080"/>
                <a:ext cx="24300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6300720" y="5005440"/>
            <a:ext cx="0" cy="50148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6227640" y="5443560"/>
                <a:ext cx="279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6372360" y="2060640"/>
                <a:ext cx="6159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7020000" y="4937040"/>
                <a:ext cx="933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 flipH="1" flipV="1">
            <a:off x="2916000" y="5005080"/>
            <a:ext cx="3384360" cy="324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2268360" y="5008680"/>
            <a:ext cx="288000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547640" y="4792680"/>
                <a:ext cx="635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2878200" y="2532240"/>
            <a:ext cx="0" cy="244764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878200" y="5005440"/>
            <a:ext cx="0" cy="50472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"/>
              <p:cNvSpPr txBox="1"/>
              <p:nvPr/>
            </p:nvSpPr>
            <p:spPr>
              <a:xfrm>
                <a:off x="2771640" y="5514840"/>
                <a:ext cx="2606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2" name=""/>
          <p:cNvSpPr/>
          <p:nvPr/>
        </p:nvSpPr>
        <p:spPr>
          <a:xfrm flipH="1">
            <a:off x="2897280" y="2500200"/>
            <a:ext cx="289872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96000" y="244944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2268000" y="2500200"/>
            <a:ext cx="57636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566720" y="2341440"/>
                <a:ext cx="5968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 flipH="1">
            <a:off x="5864400" y="4869000"/>
            <a:ext cx="2880" cy="63180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5796000" y="5443560"/>
                <a:ext cx="298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8" name=""/>
          <p:cNvSpPr/>
          <p:nvPr/>
        </p:nvSpPr>
        <p:spPr>
          <a:xfrm rot="5400000">
            <a:off x="4280760" y="4072680"/>
            <a:ext cx="223920" cy="2952720"/>
          </a:xfrm>
          <a:custGeom>
            <a:avLst/>
            <a:gdLst>
              <a:gd name="textAreaLeft" fmla="*/ 0 w 223920"/>
              <a:gd name="textAreaRight" fmla="*/ 80640 w 223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90"/>
                </a:lnTo>
                <a:cubicBezTo>
                  <a:pt x="10800" y="10390"/>
                  <a:pt x="16200" y="11290"/>
                  <a:pt x="21600" y="11290"/>
                </a:cubicBezTo>
                <a:cubicBezTo>
                  <a:pt x="16200" y="11290"/>
                  <a:pt x="10800" y="12190"/>
                  <a:pt x="10800" y="1309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233960" y="5689440"/>
                <a:ext cx="409320" cy="2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2881440" y="5437080"/>
            <a:ext cx="298764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56000" y="53481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61080" y="53481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2411280" y="5491080"/>
                <a:ext cx="2048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6634080" y="5527800"/>
                <a:ext cx="1857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ГЕОМЕТРИЧЕСКАЯ ИНТЕРПРЕТАЦИЯ МЕТОДА ПРОСТЫХ ИТЕРАЦИЙ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(случай сходящегося итерационного процесса, «спираль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2800440" y="244944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45320" y="2486160"/>
            <a:ext cx="23760" cy="237492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240600" y="493236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852720" y="3997440"/>
            <a:ext cx="179640" cy="183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844720" y="494352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808600" y="4826160"/>
            <a:ext cx="104760" cy="10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2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3000"/>
                            </p:stCondLst>
                            <p:childTnLst>
                              <p:par>
                                <p:cTn id="5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000"/>
                            </p:stCondLst>
                            <p:childTnLst>
                              <p:par>
                                <p:cTn id="5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9000"/>
                            </p:stCondLst>
                            <p:childTnLst>
                              <p:par>
                                <p:cTn id="5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9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1000"/>
                            </p:stCondLst>
                            <p:childTnLst>
                              <p:par>
                                <p:cTn id="5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2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2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50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7000"/>
                            </p:stCondLst>
                            <p:childTnLst>
                              <p:par>
                                <p:cTn id="6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9000"/>
                            </p:stCondLst>
                            <p:childTnLst>
                              <p:par>
                                <p:cTn id="6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310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2340000" y="1700280"/>
            <a:ext cx="0" cy="3719520"/>
          </a:xfrm>
          <a:prstGeom prst="line">
            <a:avLst/>
          </a:prstGeom>
          <a:ln w="9360">
            <a:solidFill>
              <a:srgbClr val="0000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340000" y="5419800"/>
            <a:ext cx="518472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340000" y="2125800"/>
            <a:ext cx="3960720" cy="329400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13120" y="1893960"/>
            <a:ext cx="3219480" cy="3335400"/>
          </a:xfrm>
          <a:custGeom>
            <a:avLst/>
            <a:gdLst/>
            <a:ahLst/>
            <a:rect l="l" t="t" r="r" b="b"/>
            <a:pathLst>
              <a:path w="2028" h="2219">
                <a:moveTo>
                  <a:pt x="2028" y="0"/>
                </a:moveTo>
                <a:cubicBezTo>
                  <a:pt x="1956" y="25"/>
                  <a:pt x="1797" y="27"/>
                  <a:pt x="1594" y="149"/>
                </a:cubicBezTo>
                <a:cubicBezTo>
                  <a:pt x="1391" y="271"/>
                  <a:pt x="1073" y="385"/>
                  <a:pt x="807" y="730"/>
                </a:cubicBezTo>
                <a:cubicBezTo>
                  <a:pt x="541" y="1075"/>
                  <a:pt x="168" y="1909"/>
                  <a:pt x="0" y="2219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2124000" y="5452920"/>
                <a:ext cx="181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7372440" y="5516640"/>
                <a:ext cx="2048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"/>
              <p:cNvSpPr txBox="1"/>
              <p:nvPr/>
            </p:nvSpPr>
            <p:spPr>
              <a:xfrm>
                <a:off x="1969920" y="1635120"/>
                <a:ext cx="2239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9" name=""/>
          <p:cNvSpPr/>
          <p:nvPr/>
        </p:nvSpPr>
        <p:spPr>
          <a:xfrm>
            <a:off x="3246480" y="4713120"/>
            <a:ext cx="0" cy="80352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3176640" y="5516640"/>
                <a:ext cx="24300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"/>
          <p:cNvSpPr/>
          <p:nvPr/>
        </p:nvSpPr>
        <p:spPr>
          <a:xfrm flipH="1">
            <a:off x="3700440" y="3789360"/>
            <a:ext cx="7920" cy="171756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564000" y="5516640"/>
                <a:ext cx="27936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6372360" y="2211480"/>
                <a:ext cx="6159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6227640" y="1631880"/>
                <a:ext cx="933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1547640" y="3645000"/>
                <a:ext cx="635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4284720" y="2924280"/>
            <a:ext cx="0" cy="79200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84720" y="3789360"/>
            <a:ext cx="0" cy="172728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4167360" y="5516640"/>
                <a:ext cx="2602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9" name=""/>
          <p:cNvSpPr/>
          <p:nvPr/>
        </p:nvSpPr>
        <p:spPr>
          <a:xfrm flipH="1">
            <a:off x="2268360" y="2852640"/>
            <a:ext cx="311472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0" name=""/>
              <p:cNvSpPr txBox="1"/>
              <p:nvPr/>
            </p:nvSpPr>
            <p:spPr>
              <a:xfrm>
                <a:off x="1566720" y="2708280"/>
                <a:ext cx="5968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1" name=""/>
          <p:cNvSpPr/>
          <p:nvPr/>
        </p:nvSpPr>
        <p:spPr>
          <a:xfrm>
            <a:off x="5397480" y="2133720"/>
            <a:ext cx="0" cy="338292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5292720" y="5516640"/>
                <a:ext cx="298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3" name=""/>
          <p:cNvSpPr/>
          <p:nvPr/>
        </p:nvSpPr>
        <p:spPr>
          <a:xfrm>
            <a:off x="2855880" y="53481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86280" y="53481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2711520" y="5491080"/>
                <a:ext cx="2048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4859280" y="5527800"/>
                <a:ext cx="1857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ГЕОМЕТРИЧЕСКАЯ ИНТЕРПРЕТАЦИЯ МЕТОДА ПРОСТЫХ ИТЕРАЦИЙ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 Black"/>
              </a:rPr>
              <a:t>(случай расходящегося итерационного процесса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159000" y="4573440"/>
            <a:ext cx="179640" cy="1843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flipV="1">
            <a:off x="2268000" y="3785760"/>
            <a:ext cx="2016360" cy="324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46560" y="371628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224240" y="281628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43480" y="206064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64000" y="278136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639960" y="3716280"/>
            <a:ext cx="10512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5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2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2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5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7000"/>
                            </p:stCondLst>
                            <p:childTnLst>
                              <p:par>
                                <p:cTn id="6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2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9000"/>
                            </p:stCondLst>
                            <p:childTnLst>
                              <p:par>
                                <p:cTn id="69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3000"/>
                            </p:stCondLst>
                            <p:childTnLst>
                              <p:par>
                                <p:cTn id="7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7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19000"/>
                            </p:stCondLst>
                            <p:childTnLst>
                              <p:par>
                                <p:cTn id="7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2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21000"/>
                            </p:stCondLst>
                            <p:childTnLst>
                              <p:par>
                                <p:cTn id="7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2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23000"/>
                            </p:stCondLst>
                            <p:childTnLst>
                              <p:par>
                                <p:cTn id="7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0"/>
                            </p:stCondLst>
                            <p:childTnLst>
                              <p:par>
                                <p:cTn id="7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8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1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7000"/>
                            </p:stCondLst>
                            <p:childTnLst>
                              <p:par>
                                <p:cTn id="7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2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9000"/>
                            </p:stCondLst>
                            <p:childTnLst>
                              <p:par>
                                <p:cTn id="7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197000"/>
            <a:ext cx="8785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Сформулируйте постановку задачи метода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Сформулируйте основную идею метода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Запишите итерационную формулу метода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Как выбирается начальное приближение в методе простых итерац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Приведите геометрическую интерпретацию метода простых итераций (случай «лестница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Приведите геометрическую интерпретацию метода простых итераций (случай «спираль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Приведите геометрическую интерпретацию метода простых итераций в случае расходящегося итерационного процес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Сформулируйте теорему о достаточных условиях сходимости метода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Покажите процесс приведения нелинейного уравнения к виду, допускающему сходящиеся ите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Запишите условия окончания итерационного процесса по методу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. Почему условия окончания итерационного процесса по методу простых итераций должны выполняться одновременно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. Сформулируйте достоинства и недостатки метода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ЛЕКЦИЯ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0" y="371592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ТОЧНЕНИЕ КОРНЕЙ НЕЛИНЕЙНЫХ УРАВ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метод Ньютона и его модификац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769" dur="2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1000" fill="hold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3000"/>
                            </p:stCondLst>
                            <p:childTnLst>
                              <p:par>
                                <p:cTn id="7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1000" fill="hold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0" y="71280"/>
            <a:ext cx="9144000" cy="3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 Black"/>
              </a:rPr>
              <a:t>МЕТОД НЬЮТОНА (МЕТОД КАСАТЕЛЬНЫХ) ДЛЯ РЕШЕНИЯ НЕЛИНЕЙНЫХ УРАВНЕ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39640" y="476280"/>
            <a:ext cx="431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усть нелинейное уравнение (1) имеет на отрез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4859280" y="404640"/>
                <a:ext cx="486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5506920" y="477720"/>
            <a:ext cx="345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единственный вещественный корен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108000" y="765000"/>
                <a:ext cx="9367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4" name=""/>
          <p:cNvSpPr/>
          <p:nvPr/>
        </p:nvSpPr>
        <p:spPr>
          <a:xfrm>
            <a:off x="179280" y="1157400"/>
            <a:ext cx="475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отрезке. Требуется найти его с заданными точност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4932360" y="1085760"/>
                <a:ext cx="4856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539640" y="15890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1. Итерационный процесс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3205080" y="1373040"/>
                <a:ext cx="3095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78" name=""/>
          <p:cNvSpPr/>
          <p:nvPr/>
        </p:nvSpPr>
        <p:spPr>
          <a:xfrm>
            <a:off x="539640" y="2814480"/>
            <a:ext cx="172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3. 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Теорема 4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. Ес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79280" y="3068640"/>
            <a:ext cx="878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определенные знаки на отрезке, то исходя из начального приближения, удовлетворяющему услов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79280" y="3357720"/>
            <a:ext cx="87854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(7), по формуле (6), можно уточнить корень уравнения (1) с любой степенью точно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39640" y="3675240"/>
            <a:ext cx="4392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4. Условия окончания итерационного процесса (6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5148360" y="3573360"/>
                <a:ext cx="2601720" cy="37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"/>
          <p:cNvSpPr/>
          <p:nvPr/>
        </p:nvSpPr>
        <p:spPr>
          <a:xfrm>
            <a:off x="468360" y="3933720"/>
            <a:ext cx="8424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5. Достоинства метода Ньюто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а) метод обладает высокой скоростью сходимости, близкой к квадратично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б) метод имеет единую итерационную формул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6. Недостатки метода Ньюто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а) не при любом начальном приближении метод сходится, а лишь при том, в котором выполняе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39640" y="2093760"/>
            <a:ext cx="849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2. В качестве начального приближения выбирается один из концов отрезка, в котором выполняе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79280" y="2454120"/>
            <a:ext cx="338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достаточное условие сходимости вид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3924360" y="2370240"/>
                <a:ext cx="17827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7" name=""/>
          <p:cNvSpPr/>
          <p:nvPr/>
        </p:nvSpPr>
        <p:spPr>
          <a:xfrm>
            <a:off x="1116000" y="79704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ри этом, производ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3129120" y="725400"/>
                <a:ext cx="10825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9" name=""/>
          <p:cNvSpPr/>
          <p:nvPr/>
        </p:nvSpPr>
        <p:spPr>
          <a:xfrm>
            <a:off x="4284720" y="797040"/>
            <a:ext cx="44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не равны нулю и сохраняют определенные знаки 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2255760" y="2741760"/>
                <a:ext cx="12366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</m:e>
                    </m:d>
                    <m:r>
                      <m:t xml:space="preserve"> 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3564000" y="2814480"/>
            <a:ext cx="12952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и производ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"/>
              <p:cNvSpPr txBox="1"/>
              <p:nvPr/>
            </p:nvSpPr>
            <p:spPr>
              <a:xfrm>
                <a:off x="4859280" y="2741760"/>
                <a:ext cx="10828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93" name=""/>
          <p:cNvSpPr/>
          <p:nvPr/>
        </p:nvSpPr>
        <p:spPr>
          <a:xfrm>
            <a:off x="6012000" y="2814480"/>
            <a:ext cx="237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не равны нулю и сохраняю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79280" y="5200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условие (7) и услов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124000" y="5157720"/>
                <a:ext cx="993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6" name=""/>
              <p:cNvSpPr txBox="1"/>
              <p:nvPr/>
            </p:nvSpPr>
            <p:spPr>
              <a:xfrm>
                <a:off x="1220760" y="5589720"/>
                <a:ext cx="10666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limLow>
                      <m:e>
                        <m:r>
                          <m:t xml:space="preserve">→</m:t>
                        </m:r>
                        <m:r>
                          <m:t xml:space="preserve">0</m:t>
                        </m:r>
                      </m:e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7" name=""/>
          <p:cNvSpPr/>
          <p:nvPr/>
        </p:nvSpPr>
        <p:spPr>
          <a:xfrm>
            <a:off x="538200" y="562752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б) ес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39640" y="6165720"/>
            <a:ext cx="7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в) ес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411280" y="562752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411280" y="6165720"/>
            <a:ext cx="2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1182600" y="6093000"/>
                <a:ext cx="10857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→</m:t>
                    </m:r>
                    <m:r>
                      <m:t xml:space="preserve">∝</m:t>
                    </m:r>
                    <m:limLow>
                      <m:e/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2771640" y="6093000"/>
                <a:ext cx="1087560" cy="64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limLow>
                      <m:e>
                        <m:r>
                          <m:t xml:space="preserve">→</m:t>
                        </m:r>
                      </m:e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2771640" y="5445000"/>
                <a:ext cx="11811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limLow>
                      <m:e>
                        <m:r>
                          <m:t xml:space="preserve">→</m:t>
                        </m:r>
                      </m:e>
                      <m:lim>
                        <m:r>
                          <m:t xml:space="preserve">n</m:t>
                        </m:r>
                      </m:lim>
                    </m:limLow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1763640" y="907920"/>
            <a:ext cx="0" cy="4159440"/>
          </a:xfrm>
          <a:prstGeom prst="line">
            <a:avLst/>
          </a:prstGeom>
          <a:ln w="9360">
            <a:solidFill>
              <a:srgbClr val="0000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763640" y="5067360"/>
            <a:ext cx="655344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79640" y="1538280"/>
            <a:ext cx="5207040" cy="3978360"/>
          </a:xfrm>
          <a:custGeom>
            <a:avLst/>
            <a:gdLst/>
            <a:ahLst/>
            <a:rect l="l" t="t" r="r" b="b"/>
            <a:pathLst>
              <a:path w="3280" h="2506">
                <a:moveTo>
                  <a:pt x="0" y="2506"/>
                </a:moveTo>
                <a:cubicBezTo>
                  <a:pt x="309" y="2463"/>
                  <a:pt x="615" y="2436"/>
                  <a:pt x="958" y="2304"/>
                </a:cubicBezTo>
                <a:cubicBezTo>
                  <a:pt x="1301" y="2173"/>
                  <a:pt x="1810" y="1878"/>
                  <a:pt x="2059" y="1718"/>
                </a:cubicBezTo>
                <a:cubicBezTo>
                  <a:pt x="2308" y="1558"/>
                  <a:pt x="2382" y="1411"/>
                  <a:pt x="2453" y="1342"/>
                </a:cubicBezTo>
                <a:cubicBezTo>
                  <a:pt x="2524" y="1273"/>
                  <a:pt x="2470" y="1323"/>
                  <a:pt x="2487" y="1301"/>
                </a:cubicBezTo>
                <a:cubicBezTo>
                  <a:pt x="2504" y="1279"/>
                  <a:pt x="2536" y="1240"/>
                  <a:pt x="2555" y="1213"/>
                </a:cubicBezTo>
                <a:cubicBezTo>
                  <a:pt x="2574" y="1186"/>
                  <a:pt x="2581" y="1170"/>
                  <a:pt x="2602" y="1138"/>
                </a:cubicBezTo>
                <a:cubicBezTo>
                  <a:pt x="2623" y="1106"/>
                  <a:pt x="2657" y="1063"/>
                  <a:pt x="2683" y="1023"/>
                </a:cubicBezTo>
                <a:cubicBezTo>
                  <a:pt x="2709" y="983"/>
                  <a:pt x="2659" y="1065"/>
                  <a:pt x="2758" y="895"/>
                </a:cubicBezTo>
                <a:cubicBezTo>
                  <a:pt x="2857" y="725"/>
                  <a:pt x="3171" y="186"/>
                  <a:pt x="3280" y="0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1616040" y="5100480"/>
                <a:ext cx="181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8183520" y="5229360"/>
                <a:ext cx="20484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1393920" y="836640"/>
                <a:ext cx="223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0" name=""/>
          <p:cNvSpPr/>
          <p:nvPr/>
        </p:nvSpPr>
        <p:spPr>
          <a:xfrm>
            <a:off x="3672000" y="4973760"/>
            <a:ext cx="179280" cy="183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3537000" y="5221440"/>
                <a:ext cx="24300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2" name=""/>
          <p:cNvSpPr/>
          <p:nvPr/>
        </p:nvSpPr>
        <p:spPr>
          <a:xfrm flipH="1">
            <a:off x="7157880" y="1600200"/>
            <a:ext cx="6480" cy="345600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6781680" y="5146560"/>
                <a:ext cx="6699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7365960" y="1268280"/>
                <a:ext cx="9511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 flipH="1">
            <a:off x="5595840" y="1544760"/>
            <a:ext cx="1578240" cy="350496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984240" y="1341360"/>
                <a:ext cx="635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17" name=""/>
          <p:cNvSpPr/>
          <p:nvPr/>
        </p:nvSpPr>
        <p:spPr>
          <a:xfrm>
            <a:off x="5573880" y="4048200"/>
            <a:ext cx="0" cy="99684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5680080" y="5084640"/>
                <a:ext cx="2602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9" name=""/>
          <p:cNvSpPr/>
          <p:nvPr/>
        </p:nvSpPr>
        <p:spPr>
          <a:xfrm flipH="1">
            <a:off x="4716000" y="4005360"/>
            <a:ext cx="863640" cy="107928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1012680" y="3716280"/>
                <a:ext cx="6159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1" name=""/>
          <p:cNvSpPr/>
          <p:nvPr/>
        </p:nvSpPr>
        <p:spPr>
          <a:xfrm flipH="1">
            <a:off x="4067280" y="4508640"/>
            <a:ext cx="790560" cy="57600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4500720" y="5084640"/>
                <a:ext cx="298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3" name=""/>
          <p:cNvSpPr/>
          <p:nvPr/>
        </p:nvSpPr>
        <p:spPr>
          <a:xfrm rot="10800000">
            <a:off x="1547640" y="4581360"/>
            <a:ext cx="216000" cy="503280"/>
          </a:xfrm>
          <a:custGeom>
            <a:avLst/>
            <a:gdLst>
              <a:gd name="textAreaLeft" fmla="*/ 0 w 216000"/>
              <a:gd name="textAreaRight" fmla="*/ 78120 w 21600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90"/>
                </a:lnTo>
                <a:cubicBezTo>
                  <a:pt x="10800" y="10390"/>
                  <a:pt x="16200" y="11290"/>
                  <a:pt x="21600" y="11290"/>
                </a:cubicBezTo>
                <a:cubicBezTo>
                  <a:pt x="16200" y="11290"/>
                  <a:pt x="10800" y="12190"/>
                  <a:pt x="10800" y="1309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4883040" y="5373720"/>
                <a:ext cx="4096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>
            <a:off x="4749840" y="5084640"/>
            <a:ext cx="82692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79640" y="49957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157880" y="499572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1835280" y="5138640"/>
                <a:ext cx="20448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ГЕОМЕТРИЧЕСКАЯ ИНТЕРПРЕТАЦИЯ МЕТОДА НЬЮТ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4707000" y="4594320"/>
            <a:ext cx="9360" cy="45720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1692360" y="1557360"/>
            <a:ext cx="547200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1692000" y="4005360"/>
            <a:ext cx="388764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692360" y="4581360"/>
            <a:ext cx="302256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4" name=""/>
              <p:cNvSpPr txBox="1"/>
              <p:nvPr/>
            </p:nvSpPr>
            <p:spPr>
              <a:xfrm>
                <a:off x="1033560" y="4221000"/>
                <a:ext cx="6350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35" name=""/>
          <p:cNvSpPr/>
          <p:nvPr/>
        </p:nvSpPr>
        <p:spPr>
          <a:xfrm>
            <a:off x="1763640" y="4581360"/>
            <a:ext cx="0" cy="503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"/>
              <p:cNvSpPr txBox="1"/>
              <p:nvPr/>
            </p:nvSpPr>
            <p:spPr>
              <a:xfrm>
                <a:off x="1066680" y="4653000"/>
                <a:ext cx="4096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7" name=""/>
          <p:cNvSpPr/>
          <p:nvPr/>
        </p:nvSpPr>
        <p:spPr>
          <a:xfrm rot="5400000">
            <a:off x="5022000" y="4779000"/>
            <a:ext cx="216000" cy="827280"/>
          </a:xfrm>
          <a:custGeom>
            <a:avLst/>
            <a:gdLst>
              <a:gd name="textAreaLeft" fmla="*/ 0 w 216000"/>
              <a:gd name="textAreaRight" fmla="*/ 78120 w 216000"/>
              <a:gd name="textAreaTop" fmla="*/ 21240 h 827280"/>
              <a:gd name="textAreaBottom" fmla="*/ 806040 h 8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90"/>
                </a:lnTo>
                <a:cubicBezTo>
                  <a:pt x="10800" y="10390"/>
                  <a:pt x="16200" y="11290"/>
                  <a:pt x="21600" y="11290"/>
                </a:cubicBezTo>
                <a:cubicBezTo>
                  <a:pt x="16200" y="11290"/>
                  <a:pt x="10800" y="12190"/>
                  <a:pt x="10800" y="1309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097760" y="149220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08720" y="396864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643280" y="453708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541840" y="501336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654440" y="500220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2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2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000"/>
                            </p:stCondLst>
                            <p:childTnLst>
                              <p:par>
                                <p:cTn id="79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2500"/>
                            </p:stCondLst>
                            <p:childTnLst>
                              <p:par>
                                <p:cTn id="80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3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500"/>
                            </p:stCondLst>
                            <p:childTnLst>
                              <p:par>
                                <p:cTn id="8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7500"/>
                            </p:stCondLst>
                            <p:childTnLst>
                              <p:par>
                                <p:cTn id="8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9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8" dur="2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2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15500"/>
                            </p:stCondLst>
                            <p:childTnLst>
                              <p:par>
                                <p:cTn id="8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4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2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9500"/>
                            </p:stCondLst>
                            <p:childTnLst>
                              <p:par>
                                <p:cTn id="8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6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2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1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4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23500"/>
                            </p:stCondLst>
                            <p:childTnLst>
                              <p:par>
                                <p:cTn id="8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2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500"/>
                            </p:stCondLst>
                            <p:childTnLst>
                              <p:par>
                                <p:cTn id="8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3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27500"/>
                            </p:stCondLst>
                            <p:childTnLst>
                              <p:par>
                                <p:cTn id="8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2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2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2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6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 Black"/>
              </a:rPr>
              <a:t>МОДИФИЦИРОВАННЫЙ МЕТОД НЬЮТОНА ДЛЯ РЕШЕНИЯ НЕЛИНЕЙНЫХ УРАВН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539640" y="803160"/>
            <a:ext cx="431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усть нелинейное уравнение (1) имеет на отрез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4859280" y="731880"/>
                <a:ext cx="4860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6" name=""/>
          <p:cNvSpPr/>
          <p:nvPr/>
        </p:nvSpPr>
        <p:spPr>
          <a:xfrm>
            <a:off x="5506920" y="804960"/>
            <a:ext cx="345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единственный вещественный корен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108000" y="1163520"/>
                <a:ext cx="9367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8" name=""/>
          <p:cNvSpPr/>
          <p:nvPr/>
        </p:nvSpPr>
        <p:spPr>
          <a:xfrm>
            <a:off x="179280" y="1614600"/>
            <a:ext cx="475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отрезке. Требуется найти его с заданными точност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"/>
              <p:cNvSpPr txBox="1"/>
              <p:nvPr/>
            </p:nvSpPr>
            <p:spPr>
              <a:xfrm>
                <a:off x="4932360" y="1542960"/>
                <a:ext cx="4856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,</m:t>
                    </m:r>
                    <m:r>
                      <m:t xml:space="preserve">δ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0" name=""/>
          <p:cNvSpPr/>
          <p:nvPr/>
        </p:nvSpPr>
        <p:spPr>
          <a:xfrm>
            <a:off x="541440" y="29304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2. Итерационный процесс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3216240" y="2714760"/>
                <a:ext cx="30765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2" name=""/>
          <p:cNvSpPr/>
          <p:nvPr/>
        </p:nvSpPr>
        <p:spPr>
          <a:xfrm>
            <a:off x="539640" y="4559400"/>
            <a:ext cx="4392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4. Условия окончания итерационного процесса (8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5148360" y="4457880"/>
                <a:ext cx="26017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4" name=""/>
          <p:cNvSpPr/>
          <p:nvPr/>
        </p:nvSpPr>
        <p:spPr>
          <a:xfrm>
            <a:off x="539640" y="3587760"/>
            <a:ext cx="849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3. В качестве начального приближения выбирается один из концов отрезка, в котором выполняе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79280" y="4040280"/>
            <a:ext cx="338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достаточное условие сходимости вид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924360" y="3956040"/>
                <a:ext cx="178272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1116000" y="1195560"/>
            <a:ext cx="20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ри этом, производны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8" name=""/>
              <p:cNvSpPr txBox="1"/>
              <p:nvPr/>
            </p:nvSpPr>
            <p:spPr>
              <a:xfrm>
                <a:off x="3129120" y="1123920"/>
                <a:ext cx="10825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,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59" name=""/>
          <p:cNvSpPr/>
          <p:nvPr/>
        </p:nvSpPr>
        <p:spPr>
          <a:xfrm>
            <a:off x="4284720" y="1195560"/>
            <a:ext cx="44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не равны нулю и сохраняют определенные знаки 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41440" y="2060640"/>
            <a:ext cx="3166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1. Предполагается, что производ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1" name=""/>
              <p:cNvSpPr txBox="1"/>
              <p:nvPr/>
            </p:nvSpPr>
            <p:spPr>
              <a:xfrm>
                <a:off x="3708360" y="1979640"/>
                <a:ext cx="6159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62" name=""/>
          <p:cNvSpPr/>
          <p:nvPr/>
        </p:nvSpPr>
        <p:spPr>
          <a:xfrm>
            <a:off x="4500720" y="2060640"/>
            <a:ext cx="403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мало изменяется в окрестности начальн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52360" y="2492280"/>
            <a:ext cx="129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рибли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9640" y="5013360"/>
            <a:ext cx="849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5. В отличие от метода Ньютона, в модифицированном методе касательные заменяются 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9280" y="5608800"/>
            <a:ext cx="5184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рямые, параллельные касательной, проведенной из точк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5292720" y="5537160"/>
                <a:ext cx="100800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1763640" y="1268280"/>
            <a:ext cx="0" cy="4159440"/>
          </a:xfrm>
          <a:prstGeom prst="line">
            <a:avLst/>
          </a:prstGeom>
          <a:ln w="9360">
            <a:solidFill>
              <a:srgbClr val="000099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763640" y="5427720"/>
            <a:ext cx="6553440" cy="0"/>
          </a:xfrm>
          <a:prstGeom prst="line">
            <a:avLst/>
          </a:prstGeom>
          <a:ln w="9360">
            <a:solidFill>
              <a:srgbClr val="000099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79640" y="1898640"/>
            <a:ext cx="5207040" cy="3978360"/>
          </a:xfrm>
          <a:custGeom>
            <a:avLst/>
            <a:gdLst/>
            <a:ahLst/>
            <a:rect l="l" t="t" r="r" b="b"/>
            <a:pathLst>
              <a:path w="3280" h="2506">
                <a:moveTo>
                  <a:pt x="0" y="2506"/>
                </a:moveTo>
                <a:cubicBezTo>
                  <a:pt x="309" y="2463"/>
                  <a:pt x="615" y="2436"/>
                  <a:pt x="958" y="2304"/>
                </a:cubicBezTo>
                <a:cubicBezTo>
                  <a:pt x="1301" y="2173"/>
                  <a:pt x="1810" y="1878"/>
                  <a:pt x="2059" y="1718"/>
                </a:cubicBezTo>
                <a:cubicBezTo>
                  <a:pt x="2308" y="1558"/>
                  <a:pt x="2382" y="1411"/>
                  <a:pt x="2453" y="1342"/>
                </a:cubicBezTo>
                <a:cubicBezTo>
                  <a:pt x="2524" y="1273"/>
                  <a:pt x="2470" y="1323"/>
                  <a:pt x="2487" y="1301"/>
                </a:cubicBezTo>
                <a:cubicBezTo>
                  <a:pt x="2504" y="1279"/>
                  <a:pt x="2536" y="1240"/>
                  <a:pt x="2555" y="1213"/>
                </a:cubicBezTo>
                <a:cubicBezTo>
                  <a:pt x="2574" y="1186"/>
                  <a:pt x="2581" y="1170"/>
                  <a:pt x="2602" y="1138"/>
                </a:cubicBezTo>
                <a:cubicBezTo>
                  <a:pt x="2623" y="1106"/>
                  <a:pt x="2657" y="1063"/>
                  <a:pt x="2683" y="1023"/>
                </a:cubicBezTo>
                <a:cubicBezTo>
                  <a:pt x="2709" y="983"/>
                  <a:pt x="2659" y="1065"/>
                  <a:pt x="2758" y="895"/>
                </a:cubicBezTo>
                <a:cubicBezTo>
                  <a:pt x="2857" y="725"/>
                  <a:pt x="3171" y="186"/>
                  <a:pt x="3280" y="0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0" name=""/>
              <p:cNvSpPr txBox="1"/>
              <p:nvPr/>
            </p:nvSpPr>
            <p:spPr>
              <a:xfrm>
                <a:off x="1616040" y="5460840"/>
                <a:ext cx="181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1" name=""/>
              <p:cNvSpPr txBox="1"/>
              <p:nvPr/>
            </p:nvSpPr>
            <p:spPr>
              <a:xfrm>
                <a:off x="8183520" y="5589720"/>
                <a:ext cx="20484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2" name=""/>
              <p:cNvSpPr txBox="1"/>
              <p:nvPr/>
            </p:nvSpPr>
            <p:spPr>
              <a:xfrm>
                <a:off x="1393920" y="1197000"/>
                <a:ext cx="22392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3" name=""/>
          <p:cNvSpPr/>
          <p:nvPr/>
        </p:nvSpPr>
        <p:spPr>
          <a:xfrm>
            <a:off x="3672000" y="5334120"/>
            <a:ext cx="179280" cy="1839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3537000" y="5581800"/>
                <a:ext cx="243000" cy="22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 flipH="1">
            <a:off x="7157880" y="1960560"/>
            <a:ext cx="6480" cy="345600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6781680" y="5506920"/>
                <a:ext cx="66996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7365960" y="1628640"/>
                <a:ext cx="9511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 flipH="1">
            <a:off x="5595840" y="1905120"/>
            <a:ext cx="1578240" cy="350496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984240" y="1701720"/>
                <a:ext cx="635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>
            <a:off x="5573880" y="4408560"/>
            <a:ext cx="0" cy="99684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5680080" y="5445000"/>
                <a:ext cx="2602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 flipH="1">
            <a:off x="5090760" y="4365720"/>
            <a:ext cx="468360" cy="103644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043600" y="465300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1012680" y="4076640"/>
                <a:ext cx="6159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 flipH="1">
            <a:off x="4643280" y="4724280"/>
            <a:ext cx="433440" cy="72072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6" name=""/>
              <p:cNvSpPr txBox="1"/>
              <p:nvPr/>
            </p:nvSpPr>
            <p:spPr>
              <a:xfrm>
                <a:off x="4778280" y="5445000"/>
                <a:ext cx="29844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7" name=""/>
          <p:cNvSpPr/>
          <p:nvPr/>
        </p:nvSpPr>
        <p:spPr>
          <a:xfrm rot="10800000">
            <a:off x="1547640" y="4724280"/>
            <a:ext cx="216000" cy="704880"/>
          </a:xfrm>
          <a:custGeom>
            <a:avLst/>
            <a:gdLst>
              <a:gd name="textAreaLeft" fmla="*/ 0 w 216000"/>
              <a:gd name="textAreaRight" fmla="*/ 78120 w 216000"/>
              <a:gd name="textAreaTop" fmla="*/ 18360 h 704880"/>
              <a:gd name="textAreaBottom" fmla="*/ 68652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90"/>
                </a:lnTo>
                <a:cubicBezTo>
                  <a:pt x="10800" y="10390"/>
                  <a:pt x="16200" y="11290"/>
                  <a:pt x="21600" y="11290"/>
                </a:cubicBezTo>
                <a:cubicBezTo>
                  <a:pt x="16200" y="11290"/>
                  <a:pt x="10800" y="12190"/>
                  <a:pt x="10800" y="1309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8" name=""/>
              <p:cNvSpPr txBox="1"/>
              <p:nvPr/>
            </p:nvSpPr>
            <p:spPr>
              <a:xfrm>
                <a:off x="5170320" y="5761080"/>
                <a:ext cx="40968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9" name=""/>
          <p:cNvSpPr/>
          <p:nvPr/>
        </p:nvSpPr>
        <p:spPr>
          <a:xfrm>
            <a:off x="5145120" y="5415120"/>
            <a:ext cx="41436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979640" y="53560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157880" y="535608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1835280" y="5499000"/>
                <a:ext cx="20448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ГЕОМЕТРИЧЕСКАЯ ИНТЕРПРЕТАЦИЯ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 Black"/>
              </a:rPr>
              <a:t>МОДИФИЦИРОВАННОГО МЕТОДА НЬЮТ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5102280" y="4749840"/>
            <a:ext cx="0" cy="66528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1692360" y="1917720"/>
            <a:ext cx="547200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1692000" y="4365720"/>
            <a:ext cx="388764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1692000" y="4724280"/>
            <a:ext cx="338436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"/>
              <p:cNvSpPr txBox="1"/>
              <p:nvPr/>
            </p:nvSpPr>
            <p:spPr>
              <a:xfrm>
                <a:off x="1033560" y="4508640"/>
                <a:ext cx="6350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9" name=""/>
          <p:cNvSpPr/>
          <p:nvPr/>
        </p:nvSpPr>
        <p:spPr>
          <a:xfrm>
            <a:off x="1763640" y="4724280"/>
            <a:ext cx="0" cy="7048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042920" y="4932360"/>
                <a:ext cx="4096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≥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 rot="5400000">
            <a:off x="5220360" y="5301360"/>
            <a:ext cx="216000" cy="503280"/>
          </a:xfrm>
          <a:custGeom>
            <a:avLst/>
            <a:gdLst>
              <a:gd name="textAreaLeft" fmla="*/ 0 w 216000"/>
              <a:gd name="textAreaRight" fmla="*/ 78120 w 21600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490"/>
                </a:lnTo>
                <a:cubicBezTo>
                  <a:pt x="10800" y="10390"/>
                  <a:pt x="16200" y="11290"/>
                  <a:pt x="21600" y="11290"/>
                </a:cubicBezTo>
                <a:cubicBezTo>
                  <a:pt x="16200" y="11290"/>
                  <a:pt x="10800" y="12190"/>
                  <a:pt x="10800" y="1309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097760" y="185256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541840" y="537372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508720" y="432900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043600" y="5362560"/>
            <a:ext cx="104760" cy="1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2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2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6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500"/>
                            </p:stCondLst>
                            <p:childTnLst>
                              <p:par>
                                <p:cTn id="9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0" dur="3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5500"/>
                            </p:stCondLst>
                            <p:childTnLst>
                              <p:par>
                                <p:cTn id="9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7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7500"/>
                            </p:stCondLst>
                            <p:childTnLst>
                              <p:par>
                                <p:cTn id="9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7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9500"/>
                            </p:stCondLst>
                            <p:childTnLst>
                              <p:par>
                                <p:cTn id="9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500"/>
                            </p:stCondLst>
                            <p:childTnLst>
                              <p:par>
                                <p:cTn id="9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9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9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5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2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4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2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2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2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4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2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2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2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2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2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2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ИМЕР 4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7" name=""/>
          <p:cNvSpPr/>
          <p:nvPr/>
        </p:nvSpPr>
        <p:spPr>
          <a:xfrm>
            <a:off x="3276720" y="1197000"/>
            <a:ext cx="2808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ановка задач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71640" y="4508640"/>
            <a:ext cx="784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Построить рабочие формулы по методу простых итераций, методу Ньют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971640" y="1773360"/>
            <a:ext cx="684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Доказать графическим и аналитическим методами существова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79280" y="2349360"/>
            <a:ext cx="547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единственного корня нелинейного урав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3564000" y="2928960"/>
                <a:ext cx="1670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2" name=""/>
          <p:cNvSpPr/>
          <p:nvPr/>
        </p:nvSpPr>
        <p:spPr>
          <a:xfrm>
            <a:off x="179280" y="3429000"/>
            <a:ext cx="136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а отрезк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3" name=""/>
              <p:cNvSpPr txBox="1"/>
              <p:nvPr/>
            </p:nvSpPr>
            <p:spPr>
              <a:xfrm>
                <a:off x="3730680" y="3933720"/>
                <a:ext cx="127296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14" name=""/>
          <p:cNvSpPr/>
          <p:nvPr/>
        </p:nvSpPr>
        <p:spPr>
          <a:xfrm>
            <a:off x="179280" y="5084640"/>
            <a:ext cx="79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 модифицированному методу Ньютона, реализующие процесс поиска кор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79280" y="5661000"/>
            <a:ext cx="4465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елинейного уравнения (1) на отрез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ЛАССИФИКАЦИЯ ПОГРЕШНОСТ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835280" y="4213080"/>
                <a:ext cx="1396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918720"/>
            <a:ext cx="91440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. Погрешности зада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. Погрешность мето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. Остаточная погреш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. Начальная погреш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. Погрешность округл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93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. Погрешность действ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13000"/>
            <a:ext cx="442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Приближенным числ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708280"/>
            <a:ext cx="822960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НОВНЫЕ ПОНЯТИЯ И ОПРЕ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429080" y="3348000"/>
                <a:ext cx="142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4643280" y="3213000"/>
            <a:ext cx="432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зывается число, незначит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73360"/>
            <a:ext cx="37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тличающееся от точного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689280" y="3679920"/>
                <a:ext cx="162000" cy="18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924360" y="357336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076640"/>
            <a:ext cx="8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581360"/>
            <a:ext cx="7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55640" y="4175280"/>
                <a:ext cx="42876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758880" y="4678200"/>
                <a:ext cx="42840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258920" y="407664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58920" y="4581360"/>
            <a:ext cx="57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835280" y="4716360"/>
                <a:ext cx="13968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124000" y="407664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 приближенное число с избыт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24000" y="4581360"/>
            <a:ext cx="431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 приближенное число с недостатк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013360"/>
            <a:ext cx="442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Погреш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348000" y="5084640"/>
                <a:ext cx="2192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708360" y="4941720"/>
            <a:ext cx="26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ближенного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227640" y="5076720"/>
                <a:ext cx="14292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6443640" y="494028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732720" y="5038560"/>
                <a:ext cx="80964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7596360" y="494028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36360" y="5373720"/>
            <a:ext cx="727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Абсолютная погрешность приближенного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020000" y="5445000"/>
                <a:ext cx="14292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7236000" y="530064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748720" y="530064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485120" y="5394240"/>
                <a:ext cx="11905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Δa</m:t>
                        </m:r>
                      </m:e>
                    </m:d>
                    <m:r>
                      <m:t xml:space="preserve">=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ИМЕР 4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>
            <a:off x="324000" y="2492280"/>
            <a:ext cx="26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171360" indent="-17136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Графический мет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8" name=""/>
          <p:cNvGraphicFramePr/>
          <p:nvPr/>
        </p:nvGraphicFramePr>
        <p:xfrm>
          <a:off x="324000" y="3716280"/>
          <a:ext cx="3960720" cy="235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716280"/>
                    <a:ext cx="396072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390600" y="3284640"/>
                <a:ext cx="6523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498920" y="249228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Аналитический мето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4716360" y="3519360"/>
                <a:ext cx="1528920" cy="2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3" name=""/>
          <p:cNvSpPr/>
          <p:nvPr/>
        </p:nvSpPr>
        <p:spPr>
          <a:xfrm>
            <a:off x="4427640" y="3067200"/>
            <a:ext cx="4535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а) Функция на концах отрезка должна менять знак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427640" y="3859200"/>
            <a:ext cx="460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б) Производная на отрезке должна сохранять знак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4716360" y="4816440"/>
                <a:ext cx="1608120" cy="2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4788000" y="4297320"/>
                <a:ext cx="111420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>
            <a:off x="250920" y="2852640"/>
            <a:ext cx="370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едставим исходное уравнение в вид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4000" y="6310440"/>
            <a:ext cx="7777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ывод: нелинейное уравнение (1) имеет на отрезке (2) единственный коре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971640" y="1268280"/>
            <a:ext cx="799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ежде, чем приступить к построению итерационных формул, нужно убедитьс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79280" y="1844640"/>
            <a:ext cx="842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что нелинейное уравнение (1) имеет на отрезке (2) имеет единственный корен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ПРИМЕР 4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ИТЕРАЦИОННЫЕ МЕТОДЫ РЕШЕНИЯ НЕЛИНЕЙНЫХ УРАВНЕНИ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324000" y="1484280"/>
            <a:ext cx="30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Метод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1476360" y="1844640"/>
                <a:ext cx="200808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,0</m:t>
                        </m:r>
                      </m:e>
                    </m:d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995400" y="2205000"/>
                <a:ext cx="12729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c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5" name=""/>
          <p:cNvSpPr/>
          <p:nvPr/>
        </p:nvSpPr>
        <p:spPr>
          <a:xfrm>
            <a:off x="395280" y="1844640"/>
            <a:ext cx="107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а) Так как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5280" y="2708280"/>
            <a:ext cx="36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б) Выбираем любую точку из отрезк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468360" y="3068640"/>
                <a:ext cx="125712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8" name=""/>
          <p:cNvSpPr/>
          <p:nvPr/>
        </p:nvSpPr>
        <p:spPr>
          <a:xfrm>
            <a:off x="395280" y="4149720"/>
            <a:ext cx="338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г) Выбор начального приближе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539640" y="3789360"/>
                <a:ext cx="251460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324000" y="4869000"/>
            <a:ext cx="28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Метод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4592520" y="1486080"/>
                <a:ext cx="98748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4500720" y="3573360"/>
            <a:ext cx="41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Модифицированный метод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539640" y="5589720"/>
                <a:ext cx="244980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∨</m:t>
                    </m:r>
                    <m:r>
                      <m:t xml:space="preserve">b</m:t>
                    </m:r>
                    <m:r>
                      <m:t xml:space="preserve">: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  <m:r>
                          <m:t xml:space="preserve">'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>
            <a:off x="395280" y="342900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) Итерационная формул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5" name=""/>
              <p:cNvSpPr txBox="1"/>
              <p:nvPr/>
            </p:nvSpPr>
            <p:spPr>
              <a:xfrm>
                <a:off x="539640" y="4508640"/>
                <a:ext cx="129060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1,0</m:t>
                        </m:r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4643280" y="1844640"/>
                <a:ext cx="219564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7" name=""/>
              <p:cNvSpPr txBox="1"/>
              <p:nvPr/>
            </p:nvSpPr>
            <p:spPr>
              <a:xfrm>
                <a:off x="4643280" y="2305080"/>
                <a:ext cx="208440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p>
                    </m:sSup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8" name=""/>
              <p:cNvSpPr txBox="1"/>
              <p:nvPr/>
            </p:nvSpPr>
            <p:spPr>
              <a:xfrm>
                <a:off x="4714920" y="2924280"/>
                <a:ext cx="2546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4716360" y="4292640"/>
                <a:ext cx="6206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4716360" y="4989600"/>
                <a:ext cx="25462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1" name=""/>
          <p:cNvSpPr/>
          <p:nvPr/>
        </p:nvSpPr>
        <p:spPr>
          <a:xfrm>
            <a:off x="396720" y="2278080"/>
            <a:ext cx="430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95280" y="5229360"/>
            <a:ext cx="36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а) Выбор начального приближе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4572000" y="2709720"/>
            <a:ext cx="29527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б) Итерационная формул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572000" y="3933720"/>
            <a:ext cx="367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а) Выбор начального приближе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0" y="465300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б) Итерационная формул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358920" y="1197000"/>
            <a:ext cx="8785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Сформулируйте постановку задачи метода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Запишите рабочую формулу метода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В чем состоит геометрический смысл метода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Сформулируйте теорему о сходимости метода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Запишите достаточное условие сходимости метода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Как выбирается начальное приближение в методе Ньютон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В каком случае метод Ньютона является частным случаем метода простых итерац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Сформулируйте достоинства и недостатки метода Ньютон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Сформулируйте постановку задачи модифицированного метода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Запишите рабочую формулу модифицированного метода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. В чем состоит геометрический смысл модифицированного метода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. Запишите условия окончания метода Ньютона и его модифик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3. На какие схемы делятся итерационные методы решения нелинейных уравнен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4. В чем состоят дискретные схемы решения нелинейных уравнен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5. В чем состоят непрерывные схемы решения нелинейных уравнен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6. В чем состоит принципиальное отличие непрерывных схем решения нелинейных уравнений от дискретных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115640" y="4111200"/>
            <a:ext cx="698508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ТЕРАЦИОННЫЕ МЕТОДЫ РЕШЕНИЯ СИСТЕМ НЕЛИНЕЙНЫХ УРАВН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0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087" dur="2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10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1000" fill="hold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720720" y="919080"/>
            <a:ext cx="8244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 4.</a:t>
            </a: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 Системами нелинейных уравнений (СНУ) называются систем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79280" y="3067200"/>
            <a:ext cx="36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если хотя бы одна из фун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НОВНЫЕ ПОНЯТИЯ И ОПРЕД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5" name=""/>
              <p:cNvSpPr txBox="1"/>
              <p:nvPr/>
            </p:nvSpPr>
            <p:spPr>
              <a:xfrm>
                <a:off x="3371760" y="1654200"/>
                <a:ext cx="22082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…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…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r>
                              <m:t xml:space="preserve">9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…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6" name=""/>
              <p:cNvSpPr txBox="1"/>
              <p:nvPr/>
            </p:nvSpPr>
            <p:spPr>
              <a:xfrm>
                <a:off x="3708360" y="3132000"/>
                <a:ext cx="198360" cy="2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7" name=""/>
          <p:cNvSpPr/>
          <p:nvPr/>
        </p:nvSpPr>
        <p:spPr>
          <a:xfrm>
            <a:off x="252360" y="141300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и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8" name=""/>
              <p:cNvSpPr txBox="1"/>
              <p:nvPr/>
            </p:nvSpPr>
            <p:spPr>
              <a:xfrm>
                <a:off x="6319800" y="3132000"/>
                <a:ext cx="1060560" cy="30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9" name=""/>
          <p:cNvSpPr/>
          <p:nvPr/>
        </p:nvSpPr>
        <p:spPr>
          <a:xfrm>
            <a:off x="7524720" y="3067200"/>
            <a:ext cx="93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ект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79280" y="3645000"/>
            <a:ext cx="61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еизвестных переменных, а система является поряд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6429240" y="3767040"/>
                <a:ext cx="447840" cy="1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2" name=""/>
          <p:cNvSpPr/>
          <p:nvPr/>
        </p:nvSpPr>
        <p:spPr>
          <a:xfrm>
            <a:off x="752400" y="4219560"/>
            <a:ext cx="180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усть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3" name=""/>
              <p:cNvSpPr txBox="1"/>
              <p:nvPr/>
            </p:nvSpPr>
            <p:spPr>
              <a:xfrm>
                <a:off x="2552760" y="4292640"/>
                <a:ext cx="1918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4" name=""/>
          <p:cNvSpPr/>
          <p:nvPr/>
        </p:nvSpPr>
        <p:spPr>
          <a:xfrm>
            <a:off x="2768760" y="4219560"/>
            <a:ext cx="28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пределены в област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5456160" y="4292640"/>
                <a:ext cx="33984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6" name=""/>
          <p:cNvSpPr/>
          <p:nvPr/>
        </p:nvSpPr>
        <p:spPr>
          <a:xfrm>
            <a:off x="5865840" y="4219560"/>
            <a:ext cx="28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огда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7648560" y="4176720"/>
                <a:ext cx="811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limLow>
                      <m:e>
                        <m:limUpp>
                          <m:e>
                            <m:r>
                              <m:t xml:space="preserve">intersect</m:t>
                            </m:r>
                          </m:e>
                          <m:lim>
                            <m:r>
                              <m:t xml:space="preserve">n</m:t>
                            </m:r>
                          </m:lim>
                        </m:limUpp>
                      </m:e>
                      <m:lim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lim>
                    </m:limLow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78" name=""/>
          <p:cNvSpPr/>
          <p:nvPr/>
        </p:nvSpPr>
        <p:spPr>
          <a:xfrm>
            <a:off x="179280" y="4797360"/>
            <a:ext cx="698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будет являться областью, где находится решение систем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067280" y="3067200"/>
            <a:ext cx="21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нелинейна. Зде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 Black"/>
              </a:rPr>
              <a:t>МЕТОД ПРОСТЫХ ИТЕРАЦИЙ ДЛЯ РЕШЕНИЯ СИСТЕМ НЕЛИНЕЙНЫХ УРАВН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1" name=""/>
          <p:cNvSpPr/>
          <p:nvPr/>
        </p:nvSpPr>
        <p:spPr>
          <a:xfrm>
            <a:off x="603360" y="836640"/>
            <a:ext cx="554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усть дана СНУ (9). Требуется решить ее с заданной точность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2" name=""/>
              <p:cNvSpPr txBox="1"/>
              <p:nvPr/>
            </p:nvSpPr>
            <p:spPr>
              <a:xfrm>
                <a:off x="6148440" y="844560"/>
                <a:ext cx="2239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3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5450040" y="1125360"/>
                <a:ext cx="1785960" cy="8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5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2987640" y="2060640"/>
                <a:ext cx="2586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d>
                                  </m:sup>
                                </m:sSubSup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d>
                                  </m:sup>
                                </m:sSubSup>
                              </m:e>
                            </m:d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3687840" y="3068640"/>
                <a:ext cx="22366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bSup>
                      </m:e>
                    </m:d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Ω</m:t>
                        </m:r>
                      </m:e>
                    </m:bar>
                    <m:r>
                      <m:t xml:space="preserve">⊂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9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"/>
              <p:cNvSpPr txBox="1"/>
              <p:nvPr/>
            </p:nvSpPr>
            <p:spPr>
              <a:xfrm>
                <a:off x="4559400" y="3876840"/>
                <a:ext cx="16682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2241720" y="3860640"/>
                <a:ext cx="16189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</m:nary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611280" y="1413000"/>
            <a:ext cx="43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1. Приведение системы (9) к эквивалентному вид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1280" y="2421000"/>
            <a:ext cx="23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2. Итерационный процесс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611280" y="3141720"/>
            <a:ext cx="309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3. Выбор начального приближе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11280" y="3573360"/>
            <a:ext cx="568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4. Достаточные условия сходимости итерационного процесса (11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4041720" y="4076640"/>
            <a:ext cx="43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и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11280" y="4653000"/>
            <a:ext cx="453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5. Условия окончания итерационного процесса (11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9" name=""/>
              <p:cNvSpPr txBox="1"/>
              <p:nvPr/>
            </p:nvSpPr>
            <p:spPr>
              <a:xfrm>
                <a:off x="5076720" y="4581360"/>
                <a:ext cx="12826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0" name=""/>
          <p:cNvSpPr/>
          <p:nvPr/>
        </p:nvSpPr>
        <p:spPr>
          <a:xfrm>
            <a:off x="611280" y="5013360"/>
            <a:ext cx="835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6. Достоинства метода простых итераций: метод является универсальным, самоисправляющим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79280" y="5373720"/>
            <a:ext cx="835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и простым для реализации на ЭВ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611280" y="5662440"/>
            <a:ext cx="35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7. Недостатки метода простых итераций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11280" y="5950080"/>
            <a:ext cx="482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а) метод обладает медленной скоростью сходим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11280" y="6237360"/>
            <a:ext cx="266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б) метод является трудоемки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3348000" y="6199200"/>
                <a:ext cx="37800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 Black"/>
              </a:rPr>
              <a:t>МЕТОД ПРОСТЫХ ИТЕРАЦИЙ ДЛЯ РЕШЕНИЯ СИСТЕМ НЕЛИНЕЙНЫХ УРАВНЕНИЙ ВТОРОГО ПОРЯД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603360" y="909720"/>
            <a:ext cx="2889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усть дана СНУ второго порядк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11280" y="1413000"/>
            <a:ext cx="597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ребуется привести ее к виду, допускающему сходящиеся итер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11280" y="4437000"/>
            <a:ext cx="396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3. Сходящийся итерационный процесс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11280" y="5661000"/>
            <a:ext cx="309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4. Выбор начального приближе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1280" y="2421000"/>
            <a:ext cx="568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1. Достаточные условия сходимости итерационного процесса (13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11280" y="609300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5. Условия окончания итерационного процесса (15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5189400" y="6021360"/>
                <a:ext cx="26956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∧</m:t>
                    </m:r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5" name=""/>
              <p:cNvSpPr txBox="1"/>
              <p:nvPr/>
            </p:nvSpPr>
            <p:spPr>
              <a:xfrm>
                <a:off x="3605040" y="777960"/>
                <a:ext cx="1398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3564000" y="1700280"/>
                <a:ext cx="151272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928800" y="4797360"/>
                <a:ext cx="587520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d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γ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  <m:r>
                              <m:t xml:space="preserve">,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p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3564000" y="2708280"/>
                <a:ext cx="136044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f>
                                  <m:num>
                                    <m:r>
                                      <m:t xml:space="preserve">∂</m:t>
                                    </m:r>
                                    <m:sSub>
                                      <m:e>
                                        <m:r>
                                          <m:t xml:space="preserve">Φ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∂</m:t>
                                    </m:r>
                                    <m:r>
                                      <m:t xml:space="preserve">x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5718240" y="2708280"/>
                <a:ext cx="20224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γ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δ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α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β</m:t>
                            </m:r>
                            <m:f>
                              <m:num>
                                <m:r>
                                  <m:t xml:space="preserve">∂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∂</m:t>
                                </m:r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3708360" y="5597640"/>
                <a:ext cx="16556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∈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Ω</m:t>
                        </m:r>
                      </m:e>
                    </m:acc>
                    <m:r>
                      <m:t xml:space="preserve">⊂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1" name=""/>
          <p:cNvSpPr/>
          <p:nvPr/>
        </p:nvSpPr>
        <p:spPr>
          <a:xfrm>
            <a:off x="611280" y="3860640"/>
            <a:ext cx="482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2. СЛАУ для определения неизвестных коэффициенто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 Black"/>
              </a:rPr>
              <a:t>МЕТОД НЬЮТОНА И ЕГО МОДИФИКАЦИЯ ДЛЯ РЕШЕНИЯ СИСТЕМ НЕЛИНЕЙНЫХ УРАВН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3360" y="836640"/>
            <a:ext cx="3463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усть дана СНУ (9). При этом, фун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1187280" y="1484280"/>
                <a:ext cx="2239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5" name=""/>
              <p:cNvSpPr txBox="1"/>
              <p:nvPr/>
            </p:nvSpPr>
            <p:spPr>
              <a:xfrm>
                <a:off x="3687840" y="5759280"/>
                <a:ext cx="2236680" cy="3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bSup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bSup>
                      </m:e>
                    </m:d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Ω</m:t>
                        </m:r>
                      </m:e>
                    </m:bar>
                    <m:r>
                      <m:t xml:space="preserve">⊂</m:t>
                    </m:r>
                    <m:r>
                      <m:t xml:space="preserve">Ω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6" name=""/>
          <p:cNvSpPr/>
          <p:nvPr/>
        </p:nvSpPr>
        <p:spPr>
          <a:xfrm>
            <a:off x="611280" y="1844640"/>
            <a:ext cx="381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1. Итерационная формула метода Ньюто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11280" y="5832360"/>
            <a:ext cx="309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3. Выбор начального приближе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611280" y="6302520"/>
            <a:ext cx="49687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4. Условия окончания итерационных процессов (16) и 17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5881680" y="6230880"/>
                <a:ext cx="12826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1898640" y="2193840"/>
                <a:ext cx="2386080" cy="12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4551480" y="1781280"/>
                <a:ext cx="354960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2" name=""/>
          <p:cNvSpPr/>
          <p:nvPr/>
        </p:nvSpPr>
        <p:spPr>
          <a:xfrm>
            <a:off x="179280" y="1197000"/>
            <a:ext cx="878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и имеют первую производную по каждому из аргументов. Требуется решить систему с задан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4067280" y="765000"/>
                <a:ext cx="196920" cy="3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34" name=""/>
          <p:cNvSpPr/>
          <p:nvPr/>
        </p:nvSpPr>
        <p:spPr>
          <a:xfrm>
            <a:off x="4427640" y="836640"/>
            <a:ext cx="381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определены и дифференцируемы в обла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8308800" y="806400"/>
                <a:ext cx="21276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179280" y="1484280"/>
            <a:ext cx="93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очность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179280" y="213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11280" y="3637080"/>
            <a:ext cx="5545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4000"/>
          </a:bodyPr>
          <a:p>
            <a:pPr marL="322200" indent="-3222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2. Итерационная формула модифицированного метода Ньюто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9" name=""/>
              <p:cNvSpPr txBox="1"/>
              <p:nvPr/>
            </p:nvSpPr>
            <p:spPr>
              <a:xfrm>
                <a:off x="1835280" y="4365720"/>
                <a:ext cx="2385720" cy="12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f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∂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0" name=""/>
              <p:cNvSpPr txBox="1"/>
              <p:nvPr/>
            </p:nvSpPr>
            <p:spPr>
              <a:xfrm>
                <a:off x="2484360" y="3933720"/>
                <a:ext cx="35496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J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0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⋅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1" name=""/>
          <p:cNvSpPr/>
          <p:nvPr/>
        </p:nvSpPr>
        <p:spPr>
          <a:xfrm>
            <a:off x="179280" y="4365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358920" y="1197000"/>
            <a:ext cx="8785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Какие системы называются нелинейным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Запишите постановку задачи по методу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Запишите итерационные формулы по методу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Как и из какой области выбирается начальное приближения для метода простых итерац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Запишите достаточные условия сходимости метода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Приведите один из способов приведения системы нелинейных уравнений второго порядка к виду, допускающему сходящиеся ите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Запишите условия окончания итерационного процесса по методу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Приведите достоинства и недостатки метода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Запишите постановку задачи по методу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Запишите рабочую формулу метода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. Запишите рабочую формулу модифицированного метода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. Запишите условия окончания итерационного процесса по методу Ньютона и его модифик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1115640" y="4111560"/>
            <a:ext cx="69850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ИТЕРАЦИОННЫЕ МЕТОДЫ РЕШЕНИЯ СИСТЕМ ЛИНЕЙНЫХ АЛГЕБРАИЧЕСКИХ УРАВН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0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098" dur="2000" fill="hold"/>
                                        <p:tgtEl>
                                          <p:spTgt spid="9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10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1000" fill="hold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НОВНЫЕ ПОНЯТИЯ И ОПРЕД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07920"/>
            <a:ext cx="745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Относительная погрешность приближенного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7380360" y="981000"/>
                <a:ext cx="14292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820000" y="83664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134136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96360" y="836640"/>
            <a:ext cx="21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7885080" y="765000"/>
                <a:ext cx="942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Δa</m:t>
                            </m:r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1413000"/>
            <a:ext cx="60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Предельная абсолютная погреш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5927760" y="1461960"/>
                <a:ext cx="22860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354720" y="1413000"/>
                <a:ext cx="809640" cy="26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164360" y="134136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8160" y="170172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40" y="177336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Предельная относительная погреш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97800" y="1701720"/>
            <a:ext cx="35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300720" y="1822320"/>
                <a:ext cx="20016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6994440" y="1822320"/>
                <a:ext cx="45720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220500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Значащей цифрой приближенного числа называется всякая цифра, отличная от нуля, и нуль, если он находится между значащими цифрами или является представителем сохраненного десятичного разря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60" y="299736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 (первое определение верной цифры)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Цифра называется верной цифрой приближенной величины, если абсолютная погрешность приближенной величины не превосходит единицы десятичного разряда, выражаемого этой циф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4005360"/>
            <a:ext cx="914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 (второе определение верной цифры)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Если абсолют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995640" y="4437000"/>
                <a:ext cx="14292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4365720"/>
            <a:ext cx="4067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грешность приближенного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365720"/>
            <a:ext cx="38876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е превышает половины единиц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724280"/>
            <a:ext cx="27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зряда, выражаем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700360" y="4789440"/>
                <a:ext cx="142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2916360" y="4724280"/>
            <a:ext cx="287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й значащей цифрой,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724360" y="4797360"/>
                <a:ext cx="14292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5940360" y="4726080"/>
            <a:ext cx="3024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ервые значащие циф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5084640"/>
            <a:ext cx="27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ближенного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556000" y="5148360"/>
                <a:ext cx="13968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2916360" y="5084640"/>
            <a:ext cx="2376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являются верн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720720" y="919080"/>
            <a:ext cx="8244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 5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Системами линейных алгебраических уравнений (СЛАУ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11280" y="4581360"/>
            <a:ext cx="82818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ля решения СЛАУ вида (18) или (19) существуют точные методы (мет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НОВНЫЕ ПОНЯТИЯ И ОПРЕД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50920" y="1413000"/>
            <a:ext cx="33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зываются системы ви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3632040" y="1341360"/>
                <a:ext cx="28846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b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4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963720" y="3284640"/>
                <a:ext cx="195264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3189240" y="3284640"/>
                <a:ext cx="728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4270320" y="3284640"/>
                <a:ext cx="7272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3701880" y="2708280"/>
                <a:ext cx="12304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9" name=""/>
          <p:cNvSpPr/>
          <p:nvPr/>
        </p:nvSpPr>
        <p:spPr>
          <a:xfrm>
            <a:off x="179280" y="3357720"/>
            <a:ext cx="647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08000" y="5013360"/>
            <a:ext cx="8713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аусса, метод Крамера, с помощью обратной матрицы и т.д.). Однако, п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08000" y="5445000"/>
            <a:ext cx="903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большом числе неизвестных применение точных методов решения затрудне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8000" y="5877000"/>
            <a:ext cx="8713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 этом случае целесообразней использовать приближенные (численны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06200" y="6308640"/>
            <a:ext cx="8713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мет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50920" y="2492280"/>
            <a:ext cx="28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ли в матричном вид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 Black"/>
              </a:rPr>
              <a:t>МЕТОД ПРОСТЫХ ИТЕРАЦИЙ ДЛЯ РЕШЕНИЯ СИСТЕМ ЛИНЕЙНЫХ АЛГЕБРАИЧЕСКИХ УРАВН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"/>
          <p:cNvSpPr/>
          <p:nvPr/>
        </p:nvSpPr>
        <p:spPr>
          <a:xfrm>
            <a:off x="603360" y="836640"/>
            <a:ext cx="800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усть дана СЛАУ (18) или в матричном виде (19). Требуется решить ее с заданной точность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8740800" y="844560"/>
                <a:ext cx="2239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8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11280" y="2492280"/>
            <a:ext cx="453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1. Приведение системы (18) к эквивалентному вид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1280" y="5157720"/>
            <a:ext cx="23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2. Итерационный процесс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11280" y="6143760"/>
            <a:ext cx="309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3. Выбор начального приближе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79280" y="1165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редполагается, ч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2058840" y="1092240"/>
                <a:ext cx="10638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5364000" y="2155680"/>
                <a:ext cx="280836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0" name=""/>
              <p:cNvSpPr txBox="1"/>
              <p:nvPr/>
            </p:nvSpPr>
            <p:spPr>
              <a:xfrm>
                <a:off x="611280" y="4176720"/>
                <a:ext cx="31557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3" name=""/>
              <p:cNvSpPr txBox="1"/>
              <p:nvPr/>
            </p:nvSpPr>
            <p:spPr>
              <a:xfrm>
                <a:off x="3857760" y="3889440"/>
                <a:ext cx="19382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α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4" name=""/>
              <p:cNvSpPr txBox="1"/>
              <p:nvPr/>
            </p:nvSpPr>
            <p:spPr>
              <a:xfrm>
                <a:off x="5872320" y="3889440"/>
                <a:ext cx="75708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e/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5" name=""/>
              <p:cNvSpPr txBox="1"/>
              <p:nvPr/>
            </p:nvSpPr>
            <p:spPr>
              <a:xfrm>
                <a:off x="3271680" y="3436920"/>
                <a:ext cx="1444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αx</m:t>
                    </m:r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3801960" y="6086520"/>
                <a:ext cx="69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7" name=""/>
              <p:cNvSpPr txBox="1"/>
              <p:nvPr/>
            </p:nvSpPr>
            <p:spPr>
              <a:xfrm>
                <a:off x="3097080" y="5595840"/>
                <a:ext cx="24829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α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k</m:t>
                            </m:r>
                          </m:e>
                        </m:d>
                      </m:sup>
                    </m:sSup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88" name=""/>
          <p:cNvSpPr/>
          <p:nvPr/>
        </p:nvSpPr>
        <p:spPr>
          <a:xfrm>
            <a:off x="179280" y="3429000"/>
            <a:ext cx="20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или в матричном вид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79280" y="4321080"/>
            <a:ext cx="43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гд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276720" y="1125360"/>
            <a:ext cx="568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(в случае равенства нулю одного или нескольких диагональны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79280" y="1484280"/>
            <a:ext cx="849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коэффициентов с помощью перестановки уравнений или других эквивалентных преобразов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79280" y="1844640"/>
            <a:ext cx="4537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можно добиться, чтобы они были отличны от нуля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 Black"/>
              </a:rPr>
              <a:t>МЕТОД ПРОСТЫХ ИТЕРАЦИЙ ДЛЯ РЕШЕНИЯ СИСТЕМ ЛИНЕЙНЫХ АЛГЕБРАИЧЕСКИХ УРАВНЕН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4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11280" y="981000"/>
            <a:ext cx="835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4. </a:t>
            </a: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Теорема 5 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(теорема о достаточных условиях сходимости итерационного процесса (21)): ес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80000" y="1844640"/>
            <a:ext cx="43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и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1280" y="414828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5. Условия окончания итерационного процесса (11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5076720" y="4076640"/>
                <a:ext cx="128268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2" name=""/>
          <p:cNvSpPr/>
          <p:nvPr/>
        </p:nvSpPr>
        <p:spPr>
          <a:xfrm>
            <a:off x="611280" y="4581360"/>
            <a:ext cx="835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6. Достоинства метода простых итераций: метод является универсальным, самоисправляющим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79280" y="4941720"/>
            <a:ext cx="316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и простым для реализации на ЭВ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11280" y="5373720"/>
            <a:ext cx="35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7. Недостатки метода простых итераций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611280" y="5805360"/>
            <a:ext cx="482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а) метод обладает медленной скоростью сходим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11280" y="6237360"/>
            <a:ext cx="266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б) метод является трудоемки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79280" y="1341360"/>
            <a:ext cx="590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для приведенной системы (20) выполнено одно из двух неравенст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4475160" y="1684440"/>
                <a:ext cx="14158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4" name=""/>
              <p:cNvSpPr txBox="1"/>
              <p:nvPr/>
            </p:nvSpPr>
            <p:spPr>
              <a:xfrm>
                <a:off x="1908000" y="1700280"/>
                <a:ext cx="144000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  <m:r>
                          <m:t xml:space="preserve">&lt;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15" name=""/>
          <p:cNvSpPr/>
          <p:nvPr/>
        </p:nvSpPr>
        <p:spPr>
          <a:xfrm>
            <a:off x="179280" y="2276640"/>
            <a:ext cx="878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о итерационный процесс (21) сходится к единственному решению этой системы независимо от выбор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179280" y="2637000"/>
            <a:ext cx="22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начального приближ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539640" y="2997360"/>
            <a:ext cx="835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Следствие:</a:t>
            </a: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 для исходной системы (18) итерационный процесс (21) сходится, если выполне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79280" y="3357720"/>
            <a:ext cx="129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неравенств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0" name=""/>
              <p:cNvSpPr txBox="1"/>
              <p:nvPr/>
            </p:nvSpPr>
            <p:spPr>
              <a:xfrm>
                <a:off x="1476360" y="3213000"/>
                <a:ext cx="165564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</m:sub>
                        </m:sSub>
                      </m:e>
                    </m:d>
                    <m:r>
                      <m:t xml:space="preserve">&gt;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021" name=""/>
          <p:cNvSpPr/>
          <p:nvPr/>
        </p:nvSpPr>
        <p:spPr>
          <a:xfrm>
            <a:off x="3274920" y="3357720"/>
            <a:ext cx="5329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(т.е. модули диагональных коэффициентов больше сум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179280" y="3789360"/>
            <a:ext cx="6913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модулей всех остальных коэффициентов, не считая столбца свободных членов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Arial Black"/>
              </a:rPr>
              <a:t>МЕТОД ЗЕЙДЕЛ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4" name=""/>
          <p:cNvSpPr/>
          <p:nvPr/>
        </p:nvSpPr>
        <p:spPr>
          <a:xfrm>
            <a:off x="603360" y="836640"/>
            <a:ext cx="8001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усть дана СЛАУ (18) или в матричном виде (19). Требуется решить ее с заданной точность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5" name=""/>
              <p:cNvSpPr txBox="1"/>
              <p:nvPr/>
            </p:nvSpPr>
            <p:spPr>
              <a:xfrm>
                <a:off x="8740800" y="844560"/>
                <a:ext cx="22392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6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11280" y="1557360"/>
            <a:ext cx="835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1. Более быструю скорость сходимости метода простых итераций можно обеспечить следующи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11280" y="3933720"/>
            <a:ext cx="23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2. Итерационный процесс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11280" y="5357880"/>
            <a:ext cx="309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3. Выбор начального приближе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79280" y="11653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редполагается, ч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5" name=""/>
              <p:cNvSpPr txBox="1"/>
              <p:nvPr/>
            </p:nvSpPr>
            <p:spPr>
              <a:xfrm>
                <a:off x="2043000" y="1092240"/>
                <a:ext cx="109548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i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6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8" name=""/>
              <p:cNvSpPr txBox="1"/>
              <p:nvPr/>
            </p:nvSpPr>
            <p:spPr>
              <a:xfrm>
                <a:off x="3801960" y="5300640"/>
                <a:ext cx="69876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p>
                    <m:r>
                      <m:t xml:space="preserve">=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9" name=""/>
          <p:cNvSpPr/>
          <p:nvPr/>
        </p:nvSpPr>
        <p:spPr>
          <a:xfrm>
            <a:off x="179280" y="1916280"/>
            <a:ext cx="20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образ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0" name=""/>
          <p:cNvGrpSpPr/>
          <p:nvPr/>
        </p:nvGrpSpPr>
        <p:grpSpPr>
          <a:xfrm>
            <a:off x="3492360" y="2133720"/>
            <a:ext cx="1656000" cy="1600200"/>
            <a:chOff x="3492360" y="2133720"/>
            <a:chExt cx="1656000" cy="1600200"/>
          </a:xfrm>
        </p:grpSpPr>
        <mc:AlternateContent>
          <mc:Choice xmlns:a14="http://schemas.microsoft.com/office/drawing/2010/main" Requires="a14">
            <p:sp>
              <p:nvSpPr>
                <p:cNvPr id="1041" name=""/>
                <p:cNvSpPr txBox="1"/>
                <p:nvPr/>
              </p:nvSpPr>
              <p:spPr>
                <a:xfrm>
                  <a:off x="3492360" y="2133720"/>
                  <a:ext cx="1656000" cy="36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d>
                        </m:sup>
                      </m:sSubSup>
                      <m:r>
                        <m:t xml:space="preserve">…</m:t>
                      </m:r>
                      <m:r>
                        <m:t xml:space="preserve">…</m:t>
                      </m:r>
                      <m:r>
                        <m:t xml:space="preserve">…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d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2" name=""/>
                <p:cNvSpPr txBox="1"/>
                <p:nvPr/>
              </p:nvSpPr>
              <p:spPr>
                <a:xfrm>
                  <a:off x="3564000" y="3357720"/>
                  <a:ext cx="1439640" cy="37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</m:sup>
                      </m:sSubSup>
                      <m:r>
                        <m:t xml:space="preserve">…</m:t>
                      </m:r>
                      <m:r>
                        <m:t xml:space="preserve">…</m:t>
                      </m:r>
                      <m:r>
                        <m:t xml:space="preserve">…</m:t>
                      </m:r>
                      <m:r>
                        <m:t xml:space="preserve"> </m:t>
                      </m:r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43" name=""/>
                <p:cNvSpPr txBox="1"/>
                <p:nvPr/>
              </p:nvSpPr>
              <p:spPr>
                <a:xfrm>
                  <a:off x="3995640" y="2708280"/>
                  <a:ext cx="57636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  <m:sup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k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d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044" name=""/>
            <p:cNvSpPr/>
            <p:nvPr/>
          </p:nvSpPr>
          <p:spPr>
            <a:xfrm flipH="1">
              <a:off x="4644720" y="2565360"/>
              <a:ext cx="215640" cy="142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 flipV="1">
              <a:off x="4572000" y="2997000"/>
              <a:ext cx="288720" cy="21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 flipV="1">
              <a:off x="3708000" y="2565360"/>
              <a:ext cx="28908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H="1">
              <a:off x="3708360" y="2997360"/>
              <a:ext cx="287280" cy="28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3059280" y="3860640"/>
                <a:ext cx="376524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k</m:t>
                                    </m:r>
                                  </m:e>
                                </m:d>
                              </m:sup>
                            </m:sSubSup>
                            <m:r>
                              <m:t xml:space="preserve">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…</m:t>
                            </m:r>
                            <m:r>
                              <m:t xml:space="preserve">…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e>
                            </m:d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9" name=""/>
          <p:cNvSpPr/>
          <p:nvPr/>
        </p:nvSpPr>
        <p:spPr>
          <a:xfrm>
            <a:off x="611280" y="5870520"/>
            <a:ext cx="453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4. Условия окончания итерационного процесса (22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0" name=""/>
              <p:cNvSpPr txBox="1"/>
              <p:nvPr/>
            </p:nvSpPr>
            <p:spPr>
              <a:xfrm>
                <a:off x="5076720" y="5799240"/>
                <a:ext cx="128268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k</m:t>
                                </m:r>
                              </m:e>
                            </m:d>
                          </m:sup>
                        </m:sSup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2" name=""/>
          <p:cNvSpPr/>
          <p:nvPr/>
        </p:nvSpPr>
        <p:spPr>
          <a:xfrm>
            <a:off x="358920" y="1197000"/>
            <a:ext cx="878508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Какие системы называются линейным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Какие точные методы СЛАУ Вы знает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В чем состоит преимущество численных методов перед точным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Сформулируйте постановку задачи для приближенного решения СЛАУ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Приведите процесс приведения СЛАУ к виду, допускающему сходящиеся итер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Сформулируйте теорему о достаточных условиях сходимости итерационного процесса по методу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Сформулируйте теорему о необходимых и достаточных условиях сходимости итерационного процесса по методу простых итера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 Каким образом выбирается начальное приближени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В чем состоит идея метода релаксаци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Запишите условия окончания итерационных процессов по методам простых итераций, Зейделя и релакс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9280" y="4111200"/>
            <a:ext cx="878544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МЕТОДЫ ПРИБЛИЖЕНИЯ ФУНКЦИЙ (первая интерполяционная формула Ньютон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109" dur="2000" fill="hold"/>
                                        <p:tgtEl>
                                          <p:spTgt spid="1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10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1000" fill="hold"/>
                                        <p:tgtEl>
                                          <p:spTgt spid="10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3492360" y="2565360"/>
                <a:ext cx="1800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…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…</m:t>
                          </m:r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НОВНЫЕ ПОНЯТИЯ И ОПРЕД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8" name=""/>
          <p:cNvSpPr/>
          <p:nvPr/>
        </p:nvSpPr>
        <p:spPr>
          <a:xfrm>
            <a:off x="755640" y="836640"/>
            <a:ext cx="554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Задача интерполяции функций возникает в тех случаях, когд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755640" y="1197000"/>
            <a:ext cx="784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1) функция задана в виде таблицы узловых точек (Табл.1) и необходимо знать знач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79280" y="1557360"/>
            <a:ext cx="597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функции для аргументов, расположенных в таблице между узл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1" name=""/>
              <p:cNvSpPr txBox="1"/>
              <p:nvPr/>
            </p:nvSpPr>
            <p:spPr>
              <a:xfrm>
                <a:off x="6012000" y="1565280"/>
                <a:ext cx="74916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2" name=""/>
          <p:cNvSpPr/>
          <p:nvPr/>
        </p:nvSpPr>
        <p:spPr>
          <a:xfrm>
            <a:off x="6877080" y="1557360"/>
            <a:ext cx="2266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а также для аргументов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79280" y="1916280"/>
            <a:ext cx="475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не принадлежащих таблиц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570560" y="2205000"/>
            <a:ext cx="86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абл.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11280" y="3213000"/>
            <a:ext cx="835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2) функция задана в виде таблицы и необходимо определить ее аналитическое выраже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11280" y="3645000"/>
            <a:ext cx="835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3) известно аналитическое выражение функции, но вследствие его сложного вида, возникае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79280" y="4005360"/>
            <a:ext cx="835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необходимость представления этой функции в более простом виде (задачи численно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79280" y="4365720"/>
            <a:ext cx="835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дифференцирования и численного интегрирования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11280" y="4724280"/>
            <a:ext cx="835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остроив интерполяционный полином любого порядка можно уплотнить таблицу, вычисля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79280" y="5084640"/>
            <a:ext cx="835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значения полинома для аргументов, расположенных в таблице между узловыми точками. Такж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179280" y="5445000"/>
            <a:ext cx="835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можно расширить таблицу как вправо, так и влево, вычисляя значения полинома в точках, н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79280" y="5805360"/>
            <a:ext cx="835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принадлежащих таблице (задача экстраполяци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СТАНОВКА ЗАДАЧИ ИНТЕРПОЛЯЦИИ И АППРОКСИМАЦИИ ФУНК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5" name=""/>
          <p:cNvSpPr/>
          <p:nvPr/>
        </p:nvSpPr>
        <p:spPr>
          <a:xfrm>
            <a:off x="611280" y="1123920"/>
            <a:ext cx="8388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лассический подход к численному решению подобных задач заключается в том, чтобы, опи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79280" y="1484280"/>
            <a:ext cx="302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ясь на информацию о фун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79280" y="1844640"/>
            <a:ext cx="93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функц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512720" y="1844640"/>
            <a:ext cx="3346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 определенном смысле «близкую» 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0" name=""/>
          <p:cNvGraphicFramePr/>
          <p:nvPr/>
        </p:nvGraphicFramePr>
        <p:xfrm>
          <a:off x="3132000" y="1506600"/>
          <a:ext cx="41940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1506600"/>
                    <a:ext cx="419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3" name=""/>
          <p:cNvGraphicFramePr/>
          <p:nvPr/>
        </p:nvGraphicFramePr>
        <p:xfrm>
          <a:off x="4788000" y="1866960"/>
          <a:ext cx="41904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866960"/>
                    <a:ext cx="419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6" name=""/>
          <p:cNvGraphicFramePr/>
          <p:nvPr/>
        </p:nvGraphicFramePr>
        <p:xfrm>
          <a:off x="1042920" y="1866960"/>
          <a:ext cx="41904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2920" y="1866960"/>
                    <a:ext cx="419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8" name=""/>
          <p:cNvSpPr/>
          <p:nvPr/>
        </p:nvSpPr>
        <p:spPr>
          <a:xfrm>
            <a:off x="3635280" y="1484280"/>
            <a:ext cx="532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 некоторому алгоритму подобрать аппроксимирующу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292720" y="1844640"/>
            <a:ext cx="331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Часто процедура аппрокси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79280" y="2205000"/>
            <a:ext cx="2881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вязана с критерием соглас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3117960" y="2276640"/>
          <a:ext cx="303840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17960" y="2276640"/>
                    <a:ext cx="30384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"/>
          <p:cNvSpPr/>
          <p:nvPr/>
        </p:nvSpPr>
        <p:spPr>
          <a:xfrm>
            <a:off x="179280" y="2781360"/>
            <a:ext cx="856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именяемый на его основе способ аппроксимации называется методом наименьших квадрат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79280" y="3141720"/>
            <a:ext cx="856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Для функций, заданных таблично, достаточно распространенным критерием согласия являет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79280" y="3500280"/>
            <a:ext cx="482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критерий Чебышева, который определяет расстоя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8" name=""/>
          <p:cNvGraphicFramePr/>
          <p:nvPr/>
        </p:nvGraphicFramePr>
        <p:xfrm>
          <a:off x="4859280" y="3573360"/>
          <a:ext cx="142920" cy="181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59280" y="3573360"/>
                    <a:ext cx="14292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0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2916360" y="4210200"/>
          <a:ext cx="2695320" cy="371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16360" y="4210200"/>
                    <a:ext cx="269532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3" name=""/>
          <p:cNvSpPr/>
          <p:nvPr/>
        </p:nvSpPr>
        <p:spPr>
          <a:xfrm>
            <a:off x="5076720" y="3500280"/>
            <a:ext cx="388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между аппроксимируемой 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79280" y="3860640"/>
            <a:ext cx="878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аппроксимирующей функциями как максимум величины отклонения между ними в узлах сетк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250920" y="4581360"/>
            <a:ext cx="64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Ес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268360" y="4581360"/>
            <a:ext cx="5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т.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8" name=""/>
          <p:cNvGraphicFramePr/>
          <p:nvPr/>
        </p:nvGraphicFramePr>
        <p:xfrm>
          <a:off x="826920" y="4573440"/>
          <a:ext cx="1371600" cy="29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6920" y="4573440"/>
                    <a:ext cx="137160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1" name=""/>
          <p:cNvGraphicFramePr/>
          <p:nvPr/>
        </p:nvGraphicFramePr>
        <p:xfrm>
          <a:off x="2771640" y="4602240"/>
          <a:ext cx="1371600" cy="266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1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771640" y="4602240"/>
                    <a:ext cx="1371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3" name=""/>
          <p:cNvSpPr/>
          <p:nvPr/>
        </p:nvSpPr>
        <p:spPr>
          <a:xfrm>
            <a:off x="250920" y="4941720"/>
            <a:ext cx="316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а процедуру вычисления знач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4211640" y="4581360"/>
            <a:ext cx="493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то способ аппроксимации называется интерполяцие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6" name=""/>
          <p:cNvGraphicFramePr/>
          <p:nvPr/>
        </p:nvGraphicFramePr>
        <p:xfrm>
          <a:off x="3348000" y="4962600"/>
          <a:ext cx="419040" cy="266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1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48000" y="4962600"/>
                    <a:ext cx="419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8" name=""/>
          <p:cNvSpPr/>
          <p:nvPr/>
        </p:nvSpPr>
        <p:spPr>
          <a:xfrm>
            <a:off x="3851280" y="4941720"/>
            <a:ext cx="136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 помощь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0" name=""/>
          <p:cNvGraphicFramePr/>
          <p:nvPr/>
        </p:nvGraphicFramePr>
        <p:xfrm>
          <a:off x="5003640" y="4941720"/>
          <a:ext cx="419400" cy="266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2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03640" y="4941720"/>
                    <a:ext cx="419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2" name=""/>
          <p:cNvSpPr/>
          <p:nvPr/>
        </p:nvSpPr>
        <p:spPr>
          <a:xfrm>
            <a:off x="5508720" y="4941720"/>
            <a:ext cx="316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 точках, не являющихся узл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250920" y="5373720"/>
            <a:ext cx="273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етки, - интерполирова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СТАНОВКА ЗАДАЧИ ИНТЕРПОЛЯЦИИ И АППРОКСИМАЦИИ ФУНК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"/>
          <p:cNvSpPr/>
          <p:nvPr/>
        </p:nvSpPr>
        <p:spPr>
          <a:xfrm>
            <a:off x="611280" y="1123920"/>
            <a:ext cx="1512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На отрез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179280" y="1484280"/>
            <a:ext cx="2880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и значения некоторой фун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6560" y="2205000"/>
            <a:ext cx="4610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Необходимо построить интерполирующую функц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250920" y="2492280"/>
            <a:ext cx="597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и принимающую в узлах интерполяции заданные значения (25), т.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250920" y="3141720"/>
            <a:ext cx="475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Геометрически это означает, что нужно найти криву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250920" y="3429000"/>
            <a:ext cx="208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через заданные точ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250920" y="3716280"/>
            <a:ext cx="1296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ной фун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50920" y="4437000"/>
            <a:ext cx="381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лученную интерполяционную функц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4788000" y="4437000"/>
            <a:ext cx="4176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используют для приближенного вычис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50920" y="4797360"/>
            <a:ext cx="23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значений данной фун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50920" y="5157720"/>
            <a:ext cx="388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называется интерполированием функ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1660680" y="1146240"/>
          <a:ext cx="39024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1146240"/>
                    <a:ext cx="3902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1" name=""/>
          <p:cNvGraphicFramePr/>
          <p:nvPr/>
        </p:nvGraphicFramePr>
        <p:xfrm>
          <a:off x="2843280" y="1146240"/>
          <a:ext cx="49536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1146240"/>
                    <a:ext cx="495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3" name=""/>
          <p:cNvSpPr/>
          <p:nvPr/>
        </p:nvSpPr>
        <p:spPr>
          <a:xfrm>
            <a:off x="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4" name=""/>
          <p:cNvGraphicFramePr/>
          <p:nvPr/>
        </p:nvGraphicFramePr>
        <p:xfrm>
          <a:off x="3995640" y="1125360"/>
          <a:ext cx="809640" cy="2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1125360"/>
                    <a:ext cx="8096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6" name=""/>
          <p:cNvSpPr/>
          <p:nvPr/>
        </p:nvSpPr>
        <p:spPr>
          <a:xfrm>
            <a:off x="2050920" y="112536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задан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3348000" y="1125360"/>
            <a:ext cx="79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точ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859280" y="1125360"/>
            <a:ext cx="410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которые называются узлами интерполяци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0" name=""/>
          <p:cNvGraphicFramePr/>
          <p:nvPr/>
        </p:nvGraphicFramePr>
        <p:xfrm>
          <a:off x="2928960" y="1506600"/>
          <a:ext cx="41904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28960" y="1506600"/>
                    <a:ext cx="419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2" name=""/>
          <p:cNvSpPr/>
          <p:nvPr/>
        </p:nvSpPr>
        <p:spPr>
          <a:xfrm>
            <a:off x="3419640" y="1484280"/>
            <a:ext cx="1439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 этих точках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0" y="31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4" name=""/>
          <p:cNvGraphicFramePr/>
          <p:nvPr/>
        </p:nvGraphicFramePr>
        <p:xfrm>
          <a:off x="3119400" y="1844640"/>
          <a:ext cx="267660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19400" y="1844640"/>
                    <a:ext cx="2676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6" name=""/>
          <p:cNvSpPr/>
          <p:nvPr/>
        </p:nvSpPr>
        <p:spPr>
          <a:xfrm>
            <a:off x="5940360" y="177336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25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4944960" y="2225520"/>
          <a:ext cx="41904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5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44960" y="2225520"/>
                    <a:ext cx="419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0" name=""/>
          <p:cNvSpPr/>
          <p:nvPr/>
        </p:nvSpPr>
        <p:spPr>
          <a:xfrm>
            <a:off x="5435640" y="2205000"/>
            <a:ext cx="3457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принадлежащую некоторому класс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0" y="313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3132000" y="2779560"/>
          <a:ext cx="1333800" cy="2955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132000" y="2779560"/>
                    <a:ext cx="133380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"/>
          <p:cNvSpPr/>
          <p:nvPr/>
        </p:nvSpPr>
        <p:spPr>
          <a:xfrm>
            <a:off x="4643280" y="277956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2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6" name=""/>
          <p:cNvGraphicFramePr/>
          <p:nvPr/>
        </p:nvGraphicFramePr>
        <p:xfrm>
          <a:off x="4884840" y="3162240"/>
          <a:ext cx="695160" cy="266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84840" y="3162240"/>
                    <a:ext cx="6951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8" name=""/>
          <p:cNvSpPr/>
          <p:nvPr/>
        </p:nvSpPr>
        <p:spPr>
          <a:xfrm>
            <a:off x="5651640" y="3141720"/>
            <a:ext cx="3241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пределенного типа, проходящу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0" name=""/>
          <p:cNvGraphicFramePr/>
          <p:nvPr/>
        </p:nvGraphicFramePr>
        <p:xfrm>
          <a:off x="2268360" y="3449520"/>
          <a:ext cx="762120" cy="266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7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268360" y="3449520"/>
                    <a:ext cx="7621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2" name=""/>
          <p:cNvSpPr/>
          <p:nvPr/>
        </p:nvSpPr>
        <p:spPr>
          <a:xfrm>
            <a:off x="3132000" y="3429000"/>
            <a:ext cx="583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. Данная задача является однозначной, если вместо произволь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4" name=""/>
          <p:cNvGraphicFramePr/>
          <p:nvPr/>
        </p:nvGraphicFramePr>
        <p:xfrm>
          <a:off x="1415880" y="3738600"/>
          <a:ext cx="419400" cy="266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1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15880" y="3738600"/>
                    <a:ext cx="419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77" name=""/>
          <p:cNvGraphicFramePr/>
          <p:nvPr/>
        </p:nvGraphicFramePr>
        <p:xfrm>
          <a:off x="3348000" y="3738600"/>
          <a:ext cx="4572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178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48000" y="3738600"/>
                    <a:ext cx="4572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9" name=""/>
          <p:cNvSpPr/>
          <p:nvPr/>
        </p:nvSpPr>
        <p:spPr>
          <a:xfrm>
            <a:off x="1906560" y="3716280"/>
            <a:ext cx="1584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искать полин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3851280" y="3716280"/>
            <a:ext cx="1728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тепени не мене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5506920" y="3789360"/>
          <a:ext cx="142920" cy="1522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06920" y="3789360"/>
                    <a:ext cx="14292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5796000" y="3716280"/>
            <a:ext cx="334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удовлетворяющий условиям (26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6" name=""/>
          <p:cNvGraphicFramePr/>
          <p:nvPr/>
        </p:nvGraphicFramePr>
        <p:xfrm>
          <a:off x="2771640" y="4076640"/>
          <a:ext cx="2829240" cy="266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18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771640" y="4076640"/>
                    <a:ext cx="28292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9" name=""/>
          <p:cNvGraphicFramePr/>
          <p:nvPr/>
        </p:nvGraphicFramePr>
        <p:xfrm>
          <a:off x="3948120" y="4457880"/>
          <a:ext cx="695160" cy="2664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19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948120" y="4457880"/>
                    <a:ext cx="69516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92" name=""/>
          <p:cNvGraphicFramePr/>
          <p:nvPr/>
        </p:nvGraphicFramePr>
        <p:xfrm>
          <a:off x="2568600" y="4818240"/>
          <a:ext cx="419040" cy="2664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9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68600" y="4818240"/>
                    <a:ext cx="41904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4" name=""/>
          <p:cNvSpPr/>
          <p:nvPr/>
        </p:nvSpPr>
        <p:spPr>
          <a:xfrm>
            <a:off x="3059280" y="4797360"/>
            <a:ext cx="53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 точках, отличных от узлов интерполяции. Такая опера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НЕЧНЫЕ РАЗНОСТИ. ОБОБЩЕННАЯ СТЕПЕ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7" name=""/>
          <p:cNvSpPr/>
          <p:nvPr/>
        </p:nvSpPr>
        <p:spPr>
          <a:xfrm>
            <a:off x="179280" y="1403280"/>
            <a:ext cx="439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иращения аргумента (шаг). Тогда выраж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79280" y="1833480"/>
            <a:ext cx="266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конечной разностью фун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79280" y="2265480"/>
            <a:ext cx="302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рядков, которые обозначаю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79280" y="2708280"/>
            <a:ext cx="936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имво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179280" y="3141720"/>
            <a:ext cx="324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сновные свойства оператора       :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79280" y="4940280"/>
            <a:ext cx="100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лучи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38200" y="981000"/>
            <a:ext cx="21621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усть задана функ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2590920" y="1003320"/>
          <a:ext cx="68580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00332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7" name=""/>
          <p:cNvSpPr/>
          <p:nvPr/>
        </p:nvSpPr>
        <p:spPr>
          <a:xfrm>
            <a:off x="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274920" y="981000"/>
            <a:ext cx="410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Обозначим через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0" y="39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0" name=""/>
          <p:cNvGraphicFramePr/>
          <p:nvPr/>
        </p:nvGraphicFramePr>
        <p:xfrm>
          <a:off x="5003640" y="1052640"/>
          <a:ext cx="505080" cy="1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1052640"/>
                    <a:ext cx="5050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2" name=""/>
          <p:cNvSpPr/>
          <p:nvPr/>
        </p:nvSpPr>
        <p:spPr>
          <a:xfrm>
            <a:off x="5580000" y="981000"/>
            <a:ext cx="338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фиксированную величин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4" name=""/>
          <p:cNvGraphicFramePr/>
          <p:nvPr/>
        </p:nvGraphicFramePr>
        <p:xfrm>
          <a:off x="4363920" y="1403280"/>
          <a:ext cx="229572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3920" y="1403280"/>
                    <a:ext cx="22957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6" name=""/>
          <p:cNvSpPr/>
          <p:nvPr/>
        </p:nvSpPr>
        <p:spPr>
          <a:xfrm>
            <a:off x="6732720" y="1403280"/>
            <a:ext cx="223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называется перв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8" name=""/>
          <p:cNvGraphicFramePr/>
          <p:nvPr/>
        </p:nvGraphicFramePr>
        <p:xfrm>
          <a:off x="2806560" y="1854360"/>
          <a:ext cx="685800" cy="26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6560" y="1854360"/>
                    <a:ext cx="68580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0" name=""/>
          <p:cNvSpPr/>
          <p:nvPr/>
        </p:nvSpPr>
        <p:spPr>
          <a:xfrm>
            <a:off x="3564000" y="1833480"/>
            <a:ext cx="540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Аналогично определяются конечные разности высш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0" y="378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2" name=""/>
          <p:cNvGraphicFramePr/>
          <p:nvPr/>
        </p:nvGraphicFramePr>
        <p:xfrm>
          <a:off x="3132000" y="2265480"/>
          <a:ext cx="1943280" cy="37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2000" y="2265480"/>
                    <a:ext cx="19432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4" name=""/>
          <p:cNvSpPr/>
          <p:nvPr/>
        </p:nvSpPr>
        <p:spPr>
          <a:xfrm>
            <a:off x="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1025640" y="2743200"/>
          <a:ext cx="161640" cy="1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2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25640" y="2743200"/>
                    <a:ext cx="1616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7" name=""/>
          <p:cNvSpPr/>
          <p:nvPr/>
        </p:nvSpPr>
        <p:spPr>
          <a:xfrm>
            <a:off x="1332000" y="2708280"/>
            <a:ext cx="41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ператор ставящий в соответствие фун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5254560" y="2708280"/>
          <a:ext cx="685800" cy="2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3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4560" y="270828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1" name=""/>
          <p:cNvSpPr/>
          <p:nvPr/>
        </p:nvSpPr>
        <p:spPr>
          <a:xfrm>
            <a:off x="6012000" y="2708280"/>
            <a:ext cx="93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функц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0" y="38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6999120" y="2708280"/>
          <a:ext cx="1676520" cy="266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3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99120" y="2708280"/>
                    <a:ext cx="16765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5" name=""/>
          <p:cNvGraphicFramePr/>
          <p:nvPr/>
        </p:nvGraphicFramePr>
        <p:xfrm>
          <a:off x="2916360" y="3213000"/>
          <a:ext cx="161640" cy="181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3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16360" y="3213000"/>
                    <a:ext cx="1616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7" name=""/>
          <p:cNvSpPr/>
          <p:nvPr/>
        </p:nvSpPr>
        <p:spPr>
          <a:xfrm>
            <a:off x="250920" y="357336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23880" y="3594240"/>
          <a:ext cx="1571760" cy="266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3880" y="3594240"/>
                    <a:ext cx="157176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1" name=""/>
          <p:cNvSpPr/>
          <p:nvPr/>
        </p:nvSpPr>
        <p:spPr>
          <a:xfrm>
            <a:off x="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2" name=""/>
          <p:cNvGraphicFramePr/>
          <p:nvPr/>
        </p:nvGraphicFramePr>
        <p:xfrm>
          <a:off x="611280" y="4025880"/>
          <a:ext cx="193356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24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1280" y="4025880"/>
                    <a:ext cx="1933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4" name=""/>
          <p:cNvSpPr/>
          <p:nvPr/>
        </p:nvSpPr>
        <p:spPr>
          <a:xfrm>
            <a:off x="250920" y="400536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50920" y="443700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0" y="381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7" name=""/>
          <p:cNvGraphicFramePr/>
          <p:nvPr/>
        </p:nvGraphicFramePr>
        <p:xfrm>
          <a:off x="611280" y="4425840"/>
          <a:ext cx="1361880" cy="371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24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11280" y="4425840"/>
                    <a:ext cx="136188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9" name=""/>
          <p:cNvSpPr/>
          <p:nvPr/>
        </p:nvSpPr>
        <p:spPr>
          <a:xfrm>
            <a:off x="0" y="38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0" name=""/>
          <p:cNvGraphicFramePr/>
          <p:nvPr/>
        </p:nvGraphicFramePr>
        <p:xfrm>
          <a:off x="2556000" y="4459320"/>
          <a:ext cx="695160" cy="266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25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556000" y="4459320"/>
                    <a:ext cx="6951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2" name=""/>
          <p:cNvSpPr/>
          <p:nvPr/>
        </p:nvSpPr>
        <p:spPr>
          <a:xfrm>
            <a:off x="2050920" y="4437000"/>
            <a:ext cx="5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г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348000" y="4437000"/>
            <a:ext cx="396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целые неотрицательные числа), приче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38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7058160" y="4449600"/>
          <a:ext cx="609480" cy="27648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7058160" y="4449600"/>
                    <a:ext cx="60948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7" name=""/>
          <p:cNvSpPr/>
          <p:nvPr/>
        </p:nvSpPr>
        <p:spPr>
          <a:xfrm>
            <a:off x="0" y="38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8" name=""/>
          <p:cNvGraphicFramePr/>
          <p:nvPr/>
        </p:nvGraphicFramePr>
        <p:xfrm>
          <a:off x="1406520" y="4915080"/>
          <a:ext cx="2085840" cy="3142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25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1406520" y="4915080"/>
                    <a:ext cx="20858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КРУГЛЕНИЕ ЧИС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360" y="1628640"/>
            <a:ext cx="9144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 этом, если первая из отброшенных циф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. Меньше 5, то оставшиеся десятичные знаки сохраняются без изме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. Больше 5, то к последней оставшейся цифре прибавляется единиц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. Равна 5 и среди остальных отброшенных есть неравные нулю, то последняя оставшаяся цифра увеличивается на единиц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. Равна 5 и все остальные отброшенные цифры равны нулю, то последняя оставшаяся цифра остается неизменной, если она четная, и увеличивается на единицу, если она нечетная (правило четной цифры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836640"/>
            <a:ext cx="4392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Чтобы округлить приближенное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1268280"/>
            <a:ext cx="3600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се цифры, стоящие справа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00720" y="907920"/>
                <a:ext cx="14256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643280" y="836640"/>
            <a:ext cx="503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5148360" y="907920"/>
                <a:ext cx="14292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5219640" y="836640"/>
            <a:ext cx="385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начащих цифр, отбрасыв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708360" y="1341360"/>
                <a:ext cx="14292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3851280" y="1270080"/>
            <a:ext cx="52927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й значащей цифры, или заменяют их нуля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4760" y="3716280"/>
            <a:ext cx="8229600" cy="5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ГРЕШНОСТЬ АЛГЕБРАИЧЕСКОЙ СУМ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29264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Теорема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Абсолютная погрешность алгебраической суммы нескольких приближенных чисел не превышает суммы абсолютных погрешностей этих чис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08464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Следств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Предельная абсолютная погрешность алгебраической сумм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635280" y="5529240"/>
                <a:ext cx="189540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НЕЧНЫЕ РАЗНОСТИ. ОБОБЩЕННАЯ СТЕПЕ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"/>
          <p:cNvSpPr/>
          <p:nvPr/>
        </p:nvSpPr>
        <p:spPr>
          <a:xfrm>
            <a:off x="538200" y="981000"/>
            <a:ext cx="266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Определение.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бобщен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7524720" y="1052640"/>
          <a:ext cx="14292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1052640"/>
                    <a:ext cx="14292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3132000" y="1052640"/>
          <a:ext cx="142920" cy="15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1052640"/>
                    <a:ext cx="14292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0" name=""/>
          <p:cNvGraphicFramePr/>
          <p:nvPr/>
        </p:nvGraphicFramePr>
        <p:xfrm>
          <a:off x="3780000" y="1413000"/>
          <a:ext cx="142560" cy="15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1413000"/>
                    <a:ext cx="14256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3" name=""/>
          <p:cNvGraphicFramePr/>
          <p:nvPr/>
        </p:nvGraphicFramePr>
        <p:xfrm>
          <a:off x="5076720" y="1044720"/>
          <a:ext cx="142920" cy="15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1044720"/>
                    <a:ext cx="14292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5" name=""/>
          <p:cNvSpPr/>
          <p:nvPr/>
        </p:nvSpPr>
        <p:spPr>
          <a:xfrm>
            <a:off x="3348000" y="979560"/>
            <a:ext cx="1800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й степенью числ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219640" y="979560"/>
            <a:ext cx="244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называется произвед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79280" y="1341360"/>
            <a:ext cx="374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омножителей, первый из которых равен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4067280" y="1341360"/>
            <a:ext cx="244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а каждый следующий 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0" name=""/>
          <p:cNvGraphicFramePr/>
          <p:nvPr/>
        </p:nvGraphicFramePr>
        <p:xfrm>
          <a:off x="6445080" y="1413000"/>
          <a:ext cx="142920" cy="19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45080" y="1413000"/>
                    <a:ext cx="14292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2" name=""/>
          <p:cNvSpPr/>
          <p:nvPr/>
        </p:nvSpPr>
        <p:spPr>
          <a:xfrm>
            <a:off x="6694560" y="1341360"/>
            <a:ext cx="21985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меньше предыдущего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4" name=""/>
          <p:cNvGraphicFramePr/>
          <p:nvPr/>
        </p:nvGraphicFramePr>
        <p:xfrm>
          <a:off x="2843280" y="1727280"/>
          <a:ext cx="2781360" cy="33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843280" y="1727280"/>
                    <a:ext cx="27813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6" name=""/>
          <p:cNvSpPr/>
          <p:nvPr/>
        </p:nvSpPr>
        <p:spPr>
          <a:xfrm>
            <a:off x="250920" y="2133720"/>
            <a:ext cx="1368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где              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8" name=""/>
          <p:cNvGraphicFramePr/>
          <p:nvPr/>
        </p:nvGraphicFramePr>
        <p:xfrm>
          <a:off x="646200" y="2205000"/>
          <a:ext cx="685800" cy="19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46200" y="2205000"/>
                    <a:ext cx="6858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0" name=""/>
          <p:cNvSpPr/>
          <p:nvPr/>
        </p:nvSpPr>
        <p:spPr>
          <a:xfrm>
            <a:off x="1547640" y="213372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лагают, чт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2" name=""/>
          <p:cNvGraphicFramePr/>
          <p:nvPr/>
        </p:nvGraphicFramePr>
        <p:xfrm>
          <a:off x="2916360" y="2133720"/>
          <a:ext cx="533160" cy="266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9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16360" y="2133720"/>
                    <a:ext cx="5331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4" name=""/>
          <p:cNvSpPr/>
          <p:nvPr/>
        </p:nvSpPr>
        <p:spPr>
          <a:xfrm>
            <a:off x="3564000" y="2133720"/>
            <a:ext cx="7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Пр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6" name=""/>
          <p:cNvGraphicFramePr/>
          <p:nvPr/>
        </p:nvGraphicFramePr>
        <p:xfrm>
          <a:off x="4181400" y="2205000"/>
          <a:ext cx="390600" cy="190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97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81400" y="2205000"/>
                    <a:ext cx="3906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8" name=""/>
          <p:cNvSpPr/>
          <p:nvPr/>
        </p:nvSpPr>
        <p:spPr>
          <a:xfrm>
            <a:off x="4716360" y="2133720"/>
            <a:ext cx="424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бобщенная степень совпадает с обычной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0" name=""/>
          <p:cNvGraphicFramePr/>
          <p:nvPr/>
        </p:nvGraphicFramePr>
        <p:xfrm>
          <a:off x="333360" y="2514600"/>
          <a:ext cx="638280" cy="266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3360" y="2514600"/>
                    <a:ext cx="6382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2" name=""/>
          <p:cNvSpPr/>
          <p:nvPr/>
        </p:nvSpPr>
        <p:spPr>
          <a:xfrm>
            <a:off x="250920" y="2924280"/>
            <a:ext cx="5761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ычислим конечные разности для обобщенной степени, полаг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4" name=""/>
          <p:cNvGraphicFramePr/>
          <p:nvPr/>
        </p:nvGraphicFramePr>
        <p:xfrm>
          <a:off x="5867280" y="2951280"/>
          <a:ext cx="505080" cy="190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0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67280" y="2951280"/>
                    <a:ext cx="5050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6" name=""/>
          <p:cNvSpPr/>
          <p:nvPr/>
        </p:nvSpPr>
        <p:spPr>
          <a:xfrm>
            <a:off x="250920" y="3357720"/>
            <a:ext cx="2520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ервая конечная разнос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8" name=""/>
          <p:cNvGraphicFramePr/>
          <p:nvPr/>
        </p:nvGraphicFramePr>
        <p:xfrm>
          <a:off x="2743200" y="3357720"/>
          <a:ext cx="1324080" cy="2664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09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743200" y="3357720"/>
                    <a:ext cx="132408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0" name=""/>
          <p:cNvSpPr/>
          <p:nvPr/>
        </p:nvSpPr>
        <p:spPr>
          <a:xfrm>
            <a:off x="250920" y="3789360"/>
            <a:ext cx="25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торая конечная разнос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2" name=""/>
          <p:cNvGraphicFramePr/>
          <p:nvPr/>
        </p:nvGraphicFramePr>
        <p:xfrm>
          <a:off x="2781360" y="3762360"/>
          <a:ext cx="1790640" cy="314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13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781360" y="3762360"/>
                    <a:ext cx="17906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4" name=""/>
          <p:cNvSpPr/>
          <p:nvPr/>
        </p:nvSpPr>
        <p:spPr>
          <a:xfrm>
            <a:off x="250920" y="4221000"/>
            <a:ext cx="2520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кончательно получи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6" name=""/>
          <p:cNvGraphicFramePr/>
          <p:nvPr/>
        </p:nvGraphicFramePr>
        <p:xfrm>
          <a:off x="2587680" y="4535640"/>
          <a:ext cx="3352680" cy="333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17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587680" y="4535640"/>
                    <a:ext cx="33526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9" name=""/>
          <p:cNvGraphicFramePr/>
          <p:nvPr/>
        </p:nvGraphicFramePr>
        <p:xfrm>
          <a:off x="2595600" y="4962600"/>
          <a:ext cx="752400" cy="2667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2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595600" y="4962600"/>
                    <a:ext cx="752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1" name=""/>
          <p:cNvSpPr/>
          <p:nvPr/>
        </p:nvSpPr>
        <p:spPr>
          <a:xfrm>
            <a:off x="3419640" y="4941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ес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3" name=""/>
          <p:cNvGraphicFramePr/>
          <p:nvPr/>
        </p:nvGraphicFramePr>
        <p:xfrm>
          <a:off x="4091040" y="5013360"/>
          <a:ext cx="409680" cy="19044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1324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4091040" y="5013360"/>
                    <a:ext cx="4096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ПЕРВАЯ ИНТЕРПОЛЯЦИОННАЯ ФОРМУЛА НЬЮТОН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7" name=""/>
          <p:cNvSpPr/>
          <p:nvPr/>
        </p:nvSpPr>
        <p:spPr>
          <a:xfrm>
            <a:off x="395280" y="907920"/>
            <a:ext cx="1873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усть для фун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556000" y="1700280"/>
            <a:ext cx="172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тепени, не выш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79280" y="3645000"/>
            <a:ext cx="734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Используя понятие обобщенной степени, запишем выражение (28) в виде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79280" y="4437000"/>
            <a:ext cx="2521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пределим коэффициен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2" name=""/>
          <p:cNvGraphicFramePr/>
          <p:nvPr/>
        </p:nvGraphicFramePr>
        <p:xfrm>
          <a:off x="2157480" y="930240"/>
          <a:ext cx="68580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93024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4" name=""/>
          <p:cNvSpPr/>
          <p:nvPr/>
        </p:nvSpPr>
        <p:spPr>
          <a:xfrm>
            <a:off x="2916360" y="907920"/>
            <a:ext cx="1873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заданы знач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6" name=""/>
          <p:cNvGraphicFramePr/>
          <p:nvPr/>
        </p:nvGraphicFramePr>
        <p:xfrm>
          <a:off x="4500720" y="907920"/>
          <a:ext cx="79056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907920"/>
                    <a:ext cx="790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8" name=""/>
          <p:cNvSpPr/>
          <p:nvPr/>
        </p:nvSpPr>
        <p:spPr>
          <a:xfrm>
            <a:off x="5364000" y="907920"/>
            <a:ext cx="36007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для равноотстоящих значе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179280" y="1268280"/>
            <a:ext cx="338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значений независимой перемен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1" name=""/>
          <p:cNvGraphicFramePr/>
          <p:nvPr/>
        </p:nvGraphicFramePr>
        <p:xfrm>
          <a:off x="3354480" y="1268280"/>
          <a:ext cx="1361880" cy="27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4480" y="1268280"/>
                    <a:ext cx="136188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3" name=""/>
          <p:cNvSpPr/>
          <p:nvPr/>
        </p:nvSpPr>
        <p:spPr>
          <a:xfrm>
            <a:off x="4788000" y="126828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г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5" name=""/>
          <p:cNvGraphicFramePr/>
          <p:nvPr/>
        </p:nvGraphicFramePr>
        <p:xfrm>
          <a:off x="5219640" y="1341360"/>
          <a:ext cx="142920" cy="19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19640" y="1341360"/>
                    <a:ext cx="14292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7" name=""/>
          <p:cNvSpPr/>
          <p:nvPr/>
        </p:nvSpPr>
        <p:spPr>
          <a:xfrm>
            <a:off x="5508720" y="1268280"/>
            <a:ext cx="345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шаг интерполяции. Требуе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79280" y="1700280"/>
            <a:ext cx="18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добрать полин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0" name=""/>
          <p:cNvGraphicFramePr/>
          <p:nvPr/>
        </p:nvGraphicFramePr>
        <p:xfrm>
          <a:off x="2027160" y="1722600"/>
          <a:ext cx="457200" cy="26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27160" y="1722600"/>
                    <a:ext cx="45720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3" name=""/>
          <p:cNvGraphicFramePr/>
          <p:nvPr/>
        </p:nvGraphicFramePr>
        <p:xfrm>
          <a:off x="4211640" y="1773360"/>
          <a:ext cx="142920" cy="152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11640" y="1773360"/>
                    <a:ext cx="14292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6" name=""/>
          <p:cNvGraphicFramePr/>
          <p:nvPr/>
        </p:nvGraphicFramePr>
        <p:xfrm>
          <a:off x="6786720" y="1751040"/>
          <a:ext cx="161640" cy="23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5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86720" y="1751040"/>
                    <a:ext cx="1616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8" name=""/>
          <p:cNvSpPr/>
          <p:nvPr/>
        </p:nvSpPr>
        <p:spPr>
          <a:xfrm>
            <a:off x="4500720" y="1700280"/>
            <a:ext cx="2232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принимающей в точк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7056360" y="1700280"/>
            <a:ext cx="111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знач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1" name=""/>
          <p:cNvGraphicFramePr/>
          <p:nvPr/>
        </p:nvGraphicFramePr>
        <p:xfrm>
          <a:off x="3714840" y="2133720"/>
          <a:ext cx="1361880" cy="29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6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14840" y="2133720"/>
                    <a:ext cx="13618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3" name=""/>
          <p:cNvSpPr/>
          <p:nvPr/>
        </p:nvSpPr>
        <p:spPr>
          <a:xfrm>
            <a:off x="250920" y="2565360"/>
            <a:ext cx="280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Будем искать полином в ви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5" name=""/>
          <p:cNvGraphicFramePr/>
          <p:nvPr/>
        </p:nvGraphicFramePr>
        <p:xfrm>
          <a:off x="2098800" y="2924280"/>
          <a:ext cx="3552840" cy="571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098800" y="2924280"/>
                    <a:ext cx="35528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7" name=""/>
          <p:cNvSpPr/>
          <p:nvPr/>
        </p:nvSpPr>
        <p:spPr>
          <a:xfrm>
            <a:off x="5940360" y="306864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2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9" name=""/>
          <p:cNvGraphicFramePr/>
          <p:nvPr/>
        </p:nvGraphicFramePr>
        <p:xfrm>
          <a:off x="1638360" y="3959280"/>
          <a:ext cx="4228920" cy="333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37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38360" y="3959280"/>
                    <a:ext cx="422892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1" name=""/>
          <p:cNvSpPr/>
          <p:nvPr/>
        </p:nvSpPr>
        <p:spPr>
          <a:xfrm>
            <a:off x="6443640" y="3933720"/>
            <a:ext cx="576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2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3" name=""/>
          <p:cNvGraphicFramePr/>
          <p:nvPr/>
        </p:nvGraphicFramePr>
        <p:xfrm>
          <a:off x="2627280" y="4437000"/>
          <a:ext cx="723960" cy="276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37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627280" y="4437000"/>
                    <a:ext cx="7239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5" name=""/>
          <p:cNvSpPr/>
          <p:nvPr/>
        </p:nvSpPr>
        <p:spPr>
          <a:xfrm>
            <a:off x="3419640" y="4437000"/>
            <a:ext cx="115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Полаг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7" name=""/>
          <p:cNvGraphicFramePr/>
          <p:nvPr/>
        </p:nvGraphicFramePr>
        <p:xfrm>
          <a:off x="4402080" y="4437000"/>
          <a:ext cx="457200" cy="238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7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02080" y="4437000"/>
                    <a:ext cx="4572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9" name=""/>
          <p:cNvSpPr/>
          <p:nvPr/>
        </p:nvSpPr>
        <p:spPr>
          <a:xfrm>
            <a:off x="5003640" y="4437000"/>
            <a:ext cx="244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 выражении (29) получи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1" name=""/>
          <p:cNvGraphicFramePr/>
          <p:nvPr/>
        </p:nvGraphicFramePr>
        <p:xfrm>
          <a:off x="3506760" y="4797360"/>
          <a:ext cx="1209600" cy="2667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38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506760" y="4797360"/>
                    <a:ext cx="1209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3" name=""/>
          <p:cNvSpPr/>
          <p:nvPr/>
        </p:nvSpPr>
        <p:spPr>
          <a:xfrm>
            <a:off x="179280" y="5229360"/>
            <a:ext cx="252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Чтобы найти коэффици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5" name=""/>
          <p:cNvGraphicFramePr/>
          <p:nvPr/>
        </p:nvGraphicFramePr>
        <p:xfrm>
          <a:off x="2627280" y="5278320"/>
          <a:ext cx="181080" cy="2383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38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627280" y="5278320"/>
                    <a:ext cx="18108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7" name=""/>
          <p:cNvSpPr/>
          <p:nvPr/>
        </p:nvSpPr>
        <p:spPr>
          <a:xfrm>
            <a:off x="2916360" y="5229360"/>
            <a:ext cx="40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составим первую конечную разность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9" name=""/>
          <p:cNvGraphicFramePr/>
          <p:nvPr/>
        </p:nvGraphicFramePr>
        <p:xfrm>
          <a:off x="2340000" y="5589720"/>
          <a:ext cx="3819600" cy="333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90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340000" y="5589720"/>
                    <a:ext cx="38196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ПЕРВАЯ ИНТЕРПОЛЯЦИОННАЯ ФОРМУЛА НЬЮТОН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3" name=""/>
          <p:cNvSpPr/>
          <p:nvPr/>
        </p:nvSpPr>
        <p:spPr>
          <a:xfrm>
            <a:off x="395280" y="907920"/>
            <a:ext cx="100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лаг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908000" y="907920"/>
            <a:ext cx="9352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лучи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5" name=""/>
          <p:cNvGraphicFramePr/>
          <p:nvPr/>
        </p:nvGraphicFramePr>
        <p:xfrm>
          <a:off x="1306440" y="958680"/>
          <a:ext cx="457200" cy="2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6440" y="958680"/>
                    <a:ext cx="4572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7" name=""/>
          <p:cNvGraphicFramePr/>
          <p:nvPr/>
        </p:nvGraphicFramePr>
        <p:xfrm>
          <a:off x="2843280" y="907920"/>
          <a:ext cx="147636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43280" y="907920"/>
                    <a:ext cx="1476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9" name=""/>
          <p:cNvSpPr/>
          <p:nvPr/>
        </p:nvSpPr>
        <p:spPr>
          <a:xfrm>
            <a:off x="4500720" y="907920"/>
            <a:ext cx="16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Следователь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0" name=""/>
          <p:cNvGraphicFramePr/>
          <p:nvPr/>
        </p:nvGraphicFramePr>
        <p:xfrm>
          <a:off x="6156360" y="811080"/>
          <a:ext cx="65736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811080"/>
                    <a:ext cx="6573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2" name=""/>
          <p:cNvSpPr/>
          <p:nvPr/>
        </p:nvSpPr>
        <p:spPr>
          <a:xfrm>
            <a:off x="395280" y="1271520"/>
            <a:ext cx="100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лаг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33560" y="1270080"/>
            <a:ext cx="934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лучи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4" name=""/>
          <p:cNvGraphicFramePr/>
          <p:nvPr/>
        </p:nvGraphicFramePr>
        <p:xfrm>
          <a:off x="1332000" y="1320840"/>
          <a:ext cx="457200" cy="23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1320840"/>
                    <a:ext cx="4572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6" name=""/>
          <p:cNvSpPr/>
          <p:nvPr/>
        </p:nvSpPr>
        <p:spPr>
          <a:xfrm>
            <a:off x="0" y="277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2892600" y="1271520"/>
          <a:ext cx="1895400" cy="29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92600" y="1271520"/>
                    <a:ext cx="189540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9" name=""/>
          <p:cNvSpPr/>
          <p:nvPr/>
        </p:nvSpPr>
        <p:spPr>
          <a:xfrm>
            <a:off x="4932360" y="1270080"/>
            <a:ext cx="1655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 Следователь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0" y="26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6877080" y="1125360"/>
          <a:ext cx="771480" cy="505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1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77080" y="1125360"/>
                    <a:ext cx="77148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3" name=""/>
          <p:cNvSpPr/>
          <p:nvPr/>
        </p:nvSpPr>
        <p:spPr>
          <a:xfrm>
            <a:off x="395280" y="1774800"/>
            <a:ext cx="1655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ледовательно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5" name=""/>
          <p:cNvGraphicFramePr/>
          <p:nvPr/>
        </p:nvGraphicFramePr>
        <p:xfrm>
          <a:off x="1979640" y="1630440"/>
          <a:ext cx="138096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1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79640" y="1630440"/>
                    <a:ext cx="13809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7" name=""/>
          <p:cNvSpPr/>
          <p:nvPr/>
        </p:nvSpPr>
        <p:spPr>
          <a:xfrm>
            <a:off x="3606840" y="1773360"/>
            <a:ext cx="1008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, приче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9" name=""/>
          <p:cNvGraphicFramePr/>
          <p:nvPr/>
        </p:nvGraphicFramePr>
        <p:xfrm>
          <a:off x="4829040" y="1773360"/>
          <a:ext cx="1038240" cy="276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829040" y="1773360"/>
                    <a:ext cx="10382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1" name=""/>
          <p:cNvSpPr/>
          <p:nvPr/>
        </p:nvSpPr>
        <p:spPr>
          <a:xfrm>
            <a:off x="468360" y="2205000"/>
            <a:ext cx="43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Интерполяционный полином Ньюто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1547640" y="2494080"/>
          <a:ext cx="4829400" cy="50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2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547640" y="2494080"/>
                    <a:ext cx="48294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5" name=""/>
          <p:cNvSpPr/>
          <p:nvPr/>
        </p:nvSpPr>
        <p:spPr>
          <a:xfrm>
            <a:off x="468360" y="3068640"/>
            <a:ext cx="727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Для практического использования формулы Ньютона введем новую переменную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68360" y="3573360"/>
            <a:ext cx="43909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ервый интерполяционный полином Ньюто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8" name=""/>
          <p:cNvGraphicFramePr/>
          <p:nvPr/>
        </p:nvGraphicFramePr>
        <p:xfrm>
          <a:off x="7697880" y="2997360"/>
          <a:ext cx="761760" cy="457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42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697880" y="2997360"/>
                    <a:ext cx="761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1" name=""/>
          <p:cNvGraphicFramePr/>
          <p:nvPr/>
        </p:nvGraphicFramePr>
        <p:xfrm>
          <a:off x="2079720" y="3879720"/>
          <a:ext cx="4724280" cy="486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43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079720" y="3879720"/>
                    <a:ext cx="472428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3" name=""/>
          <p:cNvSpPr/>
          <p:nvPr/>
        </p:nvSpPr>
        <p:spPr>
          <a:xfrm>
            <a:off x="7236000" y="3933720"/>
            <a:ext cx="57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4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539640" y="45086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6" name=""/>
          <p:cNvGraphicFramePr/>
          <p:nvPr/>
        </p:nvGraphicFramePr>
        <p:xfrm>
          <a:off x="1116000" y="4581360"/>
          <a:ext cx="371520" cy="1908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116000" y="4581360"/>
                    <a:ext cx="37152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8" name=""/>
          <p:cNvSpPr/>
          <p:nvPr/>
        </p:nvSpPr>
        <p:spPr>
          <a:xfrm>
            <a:off x="1547640" y="4508640"/>
            <a:ext cx="4391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лучим формулу линейного интерполирова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0" name=""/>
          <p:cNvGraphicFramePr/>
          <p:nvPr/>
        </p:nvGraphicFramePr>
        <p:xfrm>
          <a:off x="3276720" y="4869000"/>
          <a:ext cx="1323720" cy="2664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44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276720" y="4869000"/>
                    <a:ext cx="132372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2" name=""/>
          <p:cNvSpPr/>
          <p:nvPr/>
        </p:nvSpPr>
        <p:spPr>
          <a:xfrm>
            <a:off x="611280" y="5229360"/>
            <a:ext cx="57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р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619280" y="5229360"/>
            <a:ext cx="475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лучим формулу квадратичного интерполирова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5" name=""/>
          <p:cNvGraphicFramePr/>
          <p:nvPr/>
        </p:nvGraphicFramePr>
        <p:xfrm>
          <a:off x="1116000" y="5300640"/>
          <a:ext cx="390600" cy="190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116000" y="5300640"/>
                    <a:ext cx="3906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48" name=""/>
          <p:cNvGraphicFramePr/>
          <p:nvPr/>
        </p:nvGraphicFramePr>
        <p:xfrm>
          <a:off x="2700360" y="5535720"/>
          <a:ext cx="2448000" cy="4856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700360" y="5535720"/>
                    <a:ext cx="2448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611280" y="6021360"/>
            <a:ext cx="835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ервая интерполяционная формула Ньютона предназначена для интерполирования фун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39640" y="6381720"/>
            <a:ext cx="2952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 окрестности начальной точ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КОНТРОЛЬНЫЕ ВОПРОС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4" name=""/>
          <p:cNvSpPr/>
          <p:nvPr/>
        </p:nvSpPr>
        <p:spPr>
          <a:xfrm>
            <a:off x="395280" y="907920"/>
            <a:ext cx="3600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. Что называется конечной разностью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395280" y="1195560"/>
            <a:ext cx="35290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. Запишите свойства оператора        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7" name=""/>
              <p:cNvSpPr txBox="1"/>
              <p:nvPr/>
            </p:nvSpPr>
            <p:spPr>
              <a:xfrm>
                <a:off x="3330720" y="1268280"/>
                <a:ext cx="1616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8" name=""/>
          <p:cNvSpPr/>
          <p:nvPr/>
        </p:nvSpPr>
        <p:spPr>
          <a:xfrm>
            <a:off x="395280" y="1482840"/>
            <a:ext cx="4464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3. Что называется обобщенной степенью числ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395280" y="1771560"/>
            <a:ext cx="6481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4. Запишите формулу, по которой вычисляется первая конечная разнос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6804000" y="1844640"/>
                <a:ext cx="142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7093080" y="177336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й обобщен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79280" y="2133720"/>
            <a:ext cx="187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тепен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95280" y="2419200"/>
            <a:ext cx="4464000" cy="2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5. Запишите формулы, по которым вычисляютс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6" name=""/>
              <p:cNvSpPr txBox="1"/>
              <p:nvPr/>
            </p:nvSpPr>
            <p:spPr>
              <a:xfrm>
                <a:off x="4645080" y="2492280"/>
                <a:ext cx="142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8" name=""/>
              <p:cNvSpPr txBox="1"/>
              <p:nvPr/>
            </p:nvSpPr>
            <p:spPr>
              <a:xfrm>
                <a:off x="1415880" y="2852640"/>
                <a:ext cx="41940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2208240" y="2852640"/>
                <a:ext cx="41904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1" name=""/>
          <p:cNvSpPr/>
          <p:nvPr/>
        </p:nvSpPr>
        <p:spPr>
          <a:xfrm>
            <a:off x="4859280" y="2421000"/>
            <a:ext cx="4105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е конечные разности для обобщен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79280" y="2781360"/>
            <a:ext cx="3456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тепени, при           и                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95280" y="3141720"/>
            <a:ext cx="44640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6. В чем суть задачи интерполирования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95280" y="3500280"/>
            <a:ext cx="676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7. Что называется интерполированием и экстраполированием функци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95280" y="3860640"/>
            <a:ext cx="7489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8. Какие интерполяционные формулы используются для равноотстоящих узлов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95280" y="4221000"/>
            <a:ext cx="676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9. Запишите первую интерполяционную формулу Ньют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95280" y="4510080"/>
            <a:ext cx="874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0. Для интерполирования в окрестности какой точки используется первая интерполяционн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формула Ньютон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95280" y="5084640"/>
            <a:ext cx="676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1. Чему равна погрешность первой интерполяционной формулы Ньютон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ЕТОДЫ ПРИБЛИЖЕНИЯ ФУНКЦ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вторая  интерполяционная формула Ньютона, интерполяционная формула Лагранжа, задача аппроксимац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fill="hold">
                      <p:stCondLst>
                        <p:cond delay="0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120" dur="2000" fill="hold"/>
                                        <p:tgtEl>
                                          <p:spTgt spid="1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1000" fill="hold"/>
                                        <p:tgtEl>
                                          <p:spTgt spid="1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1000" fill="hold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1000" fill="hold"/>
                                        <p:tgtEl>
                                          <p:spTgt spid="1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34680" cy="5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ТОРАЯ ИНТЕРПОЛЯЦИОННАЯ ФОРМУЛА НЬЮТ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0" y="765000"/>
            <a:ext cx="91440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торая интерполяционная формула Ньютона применяется для интерполирования в окрестности конечного зн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85" name=""/>
          <p:cNvGraphicFramePr/>
          <p:nvPr/>
        </p:nvGraphicFramePr>
        <p:xfrm>
          <a:off x="4211640" y="1030320"/>
          <a:ext cx="200160" cy="23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1640" y="1030320"/>
                    <a:ext cx="20016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7" name=""/>
          <p:cNvSpPr/>
          <p:nvPr/>
        </p:nvSpPr>
        <p:spPr>
          <a:xfrm>
            <a:off x="4500720" y="105264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0" y="1341360"/>
            <a:ext cx="226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усть для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6012000" y="1339920"/>
            <a:ext cx="28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ля равноотстоящ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059280" y="1341360"/>
            <a:ext cx="20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аданы зн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2" name=""/>
          <p:cNvGraphicFramePr/>
          <p:nvPr/>
        </p:nvGraphicFramePr>
        <p:xfrm>
          <a:off x="2268360" y="1341360"/>
          <a:ext cx="6858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68360" y="134136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5" name=""/>
          <p:cNvGraphicFramePr/>
          <p:nvPr/>
        </p:nvGraphicFramePr>
        <p:xfrm>
          <a:off x="5076720" y="1341360"/>
          <a:ext cx="79056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1341360"/>
                    <a:ext cx="790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7" name=""/>
          <p:cNvSpPr/>
          <p:nvPr/>
        </p:nvSpPr>
        <p:spPr>
          <a:xfrm>
            <a:off x="0" y="1700280"/>
            <a:ext cx="406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начений независимой перемен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9" name=""/>
          <p:cNvGraphicFramePr/>
          <p:nvPr/>
        </p:nvGraphicFramePr>
        <p:xfrm>
          <a:off x="4002120" y="1700280"/>
          <a:ext cx="1361880" cy="27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02120" y="1700280"/>
                    <a:ext cx="13618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1" name=""/>
          <p:cNvSpPr/>
          <p:nvPr/>
        </p:nvSpPr>
        <p:spPr>
          <a:xfrm>
            <a:off x="0" y="2060640"/>
            <a:ext cx="50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строим полином следующего ви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3" name=""/>
          <p:cNvGraphicFramePr/>
          <p:nvPr/>
        </p:nvGraphicFramePr>
        <p:xfrm>
          <a:off x="2595600" y="2349360"/>
          <a:ext cx="3705120" cy="571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5600" y="2349360"/>
                    <a:ext cx="37051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5" name=""/>
          <p:cNvSpPr/>
          <p:nvPr/>
        </p:nvSpPr>
        <p:spPr>
          <a:xfrm>
            <a:off x="0" y="2924280"/>
            <a:ext cx="50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спользуя обобщенную степень, получ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7" name=""/>
          <p:cNvGraphicFramePr/>
          <p:nvPr/>
        </p:nvGraphicFramePr>
        <p:xfrm>
          <a:off x="2244600" y="3213000"/>
          <a:ext cx="4343400" cy="333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44600" y="3213000"/>
                    <a:ext cx="43434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9" name=""/>
          <p:cNvSpPr/>
          <p:nvPr/>
        </p:nvSpPr>
        <p:spPr>
          <a:xfrm>
            <a:off x="0" y="3573360"/>
            <a:ext cx="28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йдем коэффици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059280" y="3573360"/>
            <a:ext cx="144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з услов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2" name=""/>
          <p:cNvGraphicFramePr/>
          <p:nvPr/>
        </p:nvGraphicFramePr>
        <p:xfrm>
          <a:off x="2735280" y="3622680"/>
          <a:ext cx="181080" cy="23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1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35280" y="3622680"/>
                    <a:ext cx="18108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2346480" y="3854520"/>
          <a:ext cx="1361880" cy="295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46480" y="3854520"/>
                    <a:ext cx="13618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8" name=""/>
          <p:cNvGraphicFramePr/>
          <p:nvPr/>
        </p:nvGraphicFramePr>
        <p:xfrm>
          <a:off x="4967280" y="3860640"/>
          <a:ext cx="1981080" cy="2955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1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67280" y="3860640"/>
                    <a:ext cx="198108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0" name=""/>
          <p:cNvSpPr/>
          <p:nvPr/>
        </p:nvSpPr>
        <p:spPr>
          <a:xfrm>
            <a:off x="0" y="4149720"/>
            <a:ext cx="6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0" y="4653000"/>
            <a:ext cx="11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ог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3" name=""/>
          <p:cNvGraphicFramePr/>
          <p:nvPr/>
        </p:nvGraphicFramePr>
        <p:xfrm>
          <a:off x="649440" y="4199040"/>
          <a:ext cx="466560" cy="237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2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49440" y="4199040"/>
                    <a:ext cx="46656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6" name=""/>
          <p:cNvGraphicFramePr/>
          <p:nvPr/>
        </p:nvGraphicFramePr>
        <p:xfrm>
          <a:off x="1490760" y="4170240"/>
          <a:ext cx="12096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52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490760" y="4170240"/>
                    <a:ext cx="1209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8" name=""/>
          <p:cNvSpPr/>
          <p:nvPr/>
        </p:nvSpPr>
        <p:spPr>
          <a:xfrm>
            <a:off x="1187280" y="4149720"/>
            <a:ext cx="2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971640" y="4579920"/>
          <a:ext cx="1523880" cy="5047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531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971640" y="4579920"/>
                    <a:ext cx="15238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2" name=""/>
          <p:cNvSpPr/>
          <p:nvPr/>
        </p:nvSpPr>
        <p:spPr>
          <a:xfrm>
            <a:off x="0" y="5157720"/>
            <a:ext cx="550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торая интерполяционная формула Ньюто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2411280" y="5495760"/>
          <a:ext cx="4372200" cy="10288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535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411280" y="5495760"/>
                    <a:ext cx="4372200" cy="10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50752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ТОРАЯ ИНТЕРПОЛЯЦИОННАЯ ФОРМУЛА НЬЮТ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0" y="838080"/>
            <a:ext cx="14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бознач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1" name=""/>
          <p:cNvGraphicFramePr/>
          <p:nvPr/>
        </p:nvGraphicFramePr>
        <p:xfrm>
          <a:off x="1471680" y="765000"/>
          <a:ext cx="7239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765000"/>
                    <a:ext cx="723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3" name=""/>
          <p:cNvSpPr/>
          <p:nvPr/>
        </p:nvSpPr>
        <p:spPr>
          <a:xfrm>
            <a:off x="2268360" y="836640"/>
            <a:ext cx="100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тог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5" name=""/>
          <p:cNvGraphicFramePr/>
          <p:nvPr/>
        </p:nvGraphicFramePr>
        <p:xfrm>
          <a:off x="2771640" y="1125360"/>
          <a:ext cx="305784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125360"/>
                    <a:ext cx="305784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7" name=""/>
          <p:cNvSpPr/>
          <p:nvPr/>
        </p:nvSpPr>
        <p:spPr>
          <a:xfrm>
            <a:off x="0" y="1700280"/>
            <a:ext cx="52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торая интерполяционная формула Ньюто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9" name=""/>
          <p:cNvGraphicFramePr/>
          <p:nvPr/>
        </p:nvGraphicFramePr>
        <p:xfrm>
          <a:off x="2233440" y="1989000"/>
          <a:ext cx="4714920" cy="98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33440" y="1989000"/>
                    <a:ext cx="471492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"/>
          <p:cNvSpPr/>
          <p:nvPr/>
        </p:nvSpPr>
        <p:spPr>
          <a:xfrm>
            <a:off x="0" y="2997360"/>
            <a:ext cx="205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усть на отрезк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451640" y="2997360"/>
            <a:ext cx="151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в которы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4" name=""/>
          <p:cNvGraphicFramePr/>
          <p:nvPr/>
        </p:nvGraphicFramePr>
        <p:xfrm>
          <a:off x="2021040" y="2997360"/>
          <a:ext cx="390240" cy="26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21040" y="2997360"/>
                    <a:ext cx="39024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6" name=""/>
          <p:cNvSpPr/>
          <p:nvPr/>
        </p:nvSpPr>
        <p:spPr>
          <a:xfrm>
            <a:off x="2556000" y="2997360"/>
            <a:ext cx="41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адана произвольная система то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8" name=""/>
          <p:cNvGraphicFramePr/>
          <p:nvPr/>
        </p:nvGraphicFramePr>
        <p:xfrm>
          <a:off x="6727680" y="2997360"/>
          <a:ext cx="723960" cy="27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27680" y="2997360"/>
                    <a:ext cx="7239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0" name=""/>
          <p:cNvSpPr/>
          <p:nvPr/>
        </p:nvSpPr>
        <p:spPr>
          <a:xfrm>
            <a:off x="0" y="3284640"/>
            <a:ext cx="33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звестны значения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2" name=""/>
          <p:cNvGraphicFramePr/>
          <p:nvPr/>
        </p:nvGraphicFramePr>
        <p:xfrm>
          <a:off x="3238560" y="3284640"/>
          <a:ext cx="1333440" cy="29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6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38560" y="3284640"/>
                    <a:ext cx="13334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4" name=""/>
          <p:cNvSpPr/>
          <p:nvPr/>
        </p:nvSpPr>
        <p:spPr>
          <a:xfrm>
            <a:off x="4716360" y="3284640"/>
            <a:ext cx="410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.е. задана следующая таблиц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5" name=""/>
              <p:cNvSpPr txBox="1"/>
              <p:nvPr/>
            </p:nvSpPr>
            <p:spPr>
              <a:xfrm>
                <a:off x="2843280" y="3981600"/>
                <a:ext cx="180000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…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…</m:t>
                          </m:r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566" name=""/>
          <p:cNvSpPr/>
          <p:nvPr/>
        </p:nvSpPr>
        <p:spPr>
          <a:xfrm>
            <a:off x="3922560" y="3621240"/>
            <a:ext cx="865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абл.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0" y="4653000"/>
            <a:ext cx="24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строим многочле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69" name=""/>
          <p:cNvGraphicFramePr/>
          <p:nvPr/>
        </p:nvGraphicFramePr>
        <p:xfrm>
          <a:off x="2484360" y="4675320"/>
          <a:ext cx="457200" cy="266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7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84360" y="4675320"/>
                    <a:ext cx="45720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1" name=""/>
          <p:cNvSpPr/>
          <p:nvPr/>
        </p:nvSpPr>
        <p:spPr>
          <a:xfrm>
            <a:off x="2987640" y="4653000"/>
            <a:ext cx="266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аким образом, что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73" name=""/>
          <p:cNvGraphicFramePr/>
          <p:nvPr/>
        </p:nvGraphicFramePr>
        <p:xfrm>
          <a:off x="3635280" y="4941720"/>
          <a:ext cx="1343160" cy="2955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5280" y="4941720"/>
                    <a:ext cx="134316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50752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ТОРАЯ ИНТЕРПОЛЯЦИОННАЯ ФОРМУЛА НЬЮТ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0" y="838080"/>
            <a:ext cx="550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Лагранж предложил строить многочлен степ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8" name=""/>
          <p:cNvGraphicFramePr/>
          <p:nvPr/>
        </p:nvGraphicFramePr>
        <p:xfrm>
          <a:off x="5389560" y="900000"/>
          <a:ext cx="190440" cy="1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9560" y="900000"/>
                    <a:ext cx="19044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0" name=""/>
          <p:cNvSpPr/>
          <p:nvPr/>
        </p:nvSpPr>
        <p:spPr>
          <a:xfrm>
            <a:off x="5651640" y="836640"/>
            <a:ext cx="115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 вид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2" name=""/>
              <p:cNvSpPr txBox="1"/>
              <p:nvPr/>
            </p:nvSpPr>
            <p:spPr>
              <a:xfrm>
                <a:off x="1771560" y="1268280"/>
                <a:ext cx="52484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…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3" name=""/>
          <p:cNvSpPr/>
          <p:nvPr/>
        </p:nvSpPr>
        <p:spPr>
          <a:xfrm>
            <a:off x="0" y="1557360"/>
            <a:ext cx="38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йдем коэффициенты Лагран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95" name=""/>
          <p:cNvGraphicFramePr/>
          <p:nvPr/>
        </p:nvGraphicFramePr>
        <p:xfrm>
          <a:off x="3848040" y="1557360"/>
          <a:ext cx="72396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8040" y="1557360"/>
                    <a:ext cx="7239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7" name=""/>
          <p:cNvSpPr/>
          <p:nvPr/>
        </p:nvSpPr>
        <p:spPr>
          <a:xfrm>
            <a:off x="4788000" y="1557360"/>
            <a:ext cx="194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з условия (32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0" y="1916280"/>
            <a:ext cx="6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0" name=""/>
          <p:cNvGraphicFramePr/>
          <p:nvPr/>
        </p:nvGraphicFramePr>
        <p:xfrm>
          <a:off x="658800" y="1967040"/>
          <a:ext cx="457200" cy="23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" y="1967040"/>
                    <a:ext cx="4572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2" name=""/>
          <p:cNvSpPr/>
          <p:nvPr/>
        </p:nvSpPr>
        <p:spPr>
          <a:xfrm>
            <a:off x="1187280" y="191628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4" name=""/>
          <p:cNvGraphicFramePr/>
          <p:nvPr/>
        </p:nvGraphicFramePr>
        <p:xfrm>
          <a:off x="1473120" y="1938240"/>
          <a:ext cx="86688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73120" y="1938240"/>
                    <a:ext cx="8668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6" name=""/>
          <p:cNvSpPr/>
          <p:nvPr/>
        </p:nvSpPr>
        <p:spPr>
          <a:xfrm>
            <a:off x="2411280" y="1916280"/>
            <a:ext cx="4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8" name=""/>
          <p:cNvGraphicFramePr/>
          <p:nvPr/>
        </p:nvGraphicFramePr>
        <p:xfrm>
          <a:off x="2581200" y="2276640"/>
          <a:ext cx="3286080" cy="26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81200" y="2276640"/>
                    <a:ext cx="328608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0" name=""/>
          <p:cNvSpPr/>
          <p:nvPr/>
        </p:nvSpPr>
        <p:spPr>
          <a:xfrm>
            <a:off x="0" y="2708280"/>
            <a:ext cx="17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оэффици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2" name=""/>
          <p:cNvGraphicFramePr/>
          <p:nvPr/>
        </p:nvGraphicFramePr>
        <p:xfrm>
          <a:off x="1708200" y="2759040"/>
          <a:ext cx="199800" cy="238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08200" y="2759040"/>
                    <a:ext cx="19980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4" name=""/>
          <p:cNvSpPr/>
          <p:nvPr/>
        </p:nvSpPr>
        <p:spPr>
          <a:xfrm>
            <a:off x="2050920" y="2708280"/>
            <a:ext cx="44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ычисляется по следующей формул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6" name=""/>
          <p:cNvGraphicFramePr/>
          <p:nvPr/>
        </p:nvGraphicFramePr>
        <p:xfrm>
          <a:off x="3059280" y="3068640"/>
          <a:ext cx="243828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59280" y="3068640"/>
                    <a:ext cx="24382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8" name=""/>
          <p:cNvSpPr/>
          <p:nvPr/>
        </p:nvSpPr>
        <p:spPr>
          <a:xfrm>
            <a:off x="0" y="3789360"/>
            <a:ext cx="44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нтерполяционный полином Лагранж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0" name=""/>
              <p:cNvSpPr txBox="1"/>
              <p:nvPr/>
            </p:nvSpPr>
            <p:spPr>
              <a:xfrm>
                <a:off x="1333440" y="4276800"/>
                <a:ext cx="568656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50752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НТЕРПОЛЯЦИОННАЯ ФОРМУЛА ЛАГРАНЖ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0" y="838080"/>
            <a:ext cx="43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Пример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По заданной системе то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5" name=""/>
              <p:cNvSpPr txBox="1"/>
              <p:nvPr/>
            </p:nvSpPr>
            <p:spPr>
              <a:xfrm>
                <a:off x="1994040" y="1569960"/>
                <a:ext cx="3500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6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24</m:t>
                          </m:r>
                        </m:e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85</m:t>
                          </m:r>
                        </m:e>
                        <m:e>
                          <m:f>
                            <m:num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71</m:t>
                          </m:r>
                        </m:e>
                        <m:e/>
                      </m:mr>
                      <m:m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e>
                        <m:e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07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0</m:t>
                          </m:r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626" name=""/>
          <p:cNvSpPr/>
          <p:nvPr/>
        </p:nvSpPr>
        <p:spPr>
          <a:xfrm>
            <a:off x="4427640" y="1268280"/>
            <a:ext cx="86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абл.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0" y="242100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построить интерполяционный полином Лагранжа второго порядка ви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9" name=""/>
          <p:cNvGraphicFramePr/>
          <p:nvPr/>
        </p:nvGraphicFramePr>
        <p:xfrm>
          <a:off x="1758960" y="2781360"/>
          <a:ext cx="482904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8960" y="2781360"/>
                    <a:ext cx="4829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1" name=""/>
          <p:cNvSpPr/>
          <p:nvPr/>
        </p:nvSpPr>
        <p:spPr>
          <a:xfrm>
            <a:off x="0" y="3068640"/>
            <a:ext cx="334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Коэффициенты Лагранж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3" name=""/>
              <p:cNvSpPr txBox="1"/>
              <p:nvPr/>
            </p:nvSpPr>
            <p:spPr>
              <a:xfrm>
                <a:off x="528480" y="3365640"/>
                <a:ext cx="21718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5" name=""/>
              <p:cNvSpPr txBox="1"/>
              <p:nvPr/>
            </p:nvSpPr>
            <p:spPr>
              <a:xfrm>
                <a:off x="3116160" y="3365640"/>
                <a:ext cx="224784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6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7" name=""/>
              <p:cNvSpPr txBox="1"/>
              <p:nvPr/>
            </p:nvSpPr>
            <p:spPr>
              <a:xfrm>
                <a:off x="5856120" y="3365640"/>
                <a:ext cx="217188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8" name=""/>
          <p:cNvSpPr/>
          <p:nvPr/>
        </p:nvSpPr>
        <p:spPr>
          <a:xfrm>
            <a:off x="0" y="4076640"/>
            <a:ext cx="45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Полином Лагранжа второго поряд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40" name=""/>
          <p:cNvGraphicFramePr/>
          <p:nvPr/>
        </p:nvGraphicFramePr>
        <p:xfrm>
          <a:off x="2340000" y="4629240"/>
          <a:ext cx="4000320" cy="6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629240"/>
                    <a:ext cx="400032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50752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НТЕРПОЛЯЦИОННАЯ ФОРМУЛА ЛАГРАНЖ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0" y="838080"/>
            <a:ext cx="896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Если таблица 2, для которой построена формула Лагранжа, задана д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0" y="119700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вноотстоящих узловых то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3" name=""/>
          <p:cNvGraphicFramePr/>
          <p:nvPr/>
        </p:nvGraphicFramePr>
        <p:xfrm>
          <a:off x="3510000" y="1197000"/>
          <a:ext cx="1638360" cy="27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10000" y="1197000"/>
                    <a:ext cx="16383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5" name=""/>
          <p:cNvSpPr/>
          <p:nvPr/>
        </p:nvSpPr>
        <p:spPr>
          <a:xfrm>
            <a:off x="5219640" y="119700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то данная форму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0" y="1557360"/>
            <a:ext cx="363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прощается. Обозначим чере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8" name=""/>
          <p:cNvGraphicFramePr/>
          <p:nvPr/>
        </p:nvGraphicFramePr>
        <p:xfrm>
          <a:off x="3522600" y="1484280"/>
          <a:ext cx="76212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2600" y="1484280"/>
                    <a:ext cx="762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0" name=""/>
          <p:cNvSpPr/>
          <p:nvPr/>
        </p:nvSpPr>
        <p:spPr>
          <a:xfrm>
            <a:off x="4356000" y="155592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Тог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2" name=""/>
          <p:cNvGraphicFramePr/>
          <p:nvPr/>
        </p:nvGraphicFramePr>
        <p:xfrm>
          <a:off x="1041480" y="1844640"/>
          <a:ext cx="2809800" cy="4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1480" y="1844640"/>
                    <a:ext cx="28098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5" name=""/>
          <p:cNvGraphicFramePr/>
          <p:nvPr/>
        </p:nvGraphicFramePr>
        <p:xfrm>
          <a:off x="5318280" y="1844640"/>
          <a:ext cx="14857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18280" y="1844640"/>
                    <a:ext cx="1485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7" name=""/>
          <p:cNvSpPr/>
          <p:nvPr/>
        </p:nvSpPr>
        <p:spPr>
          <a:xfrm>
            <a:off x="0" y="2276640"/>
            <a:ext cx="406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Формула Лагранжа запишется та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9" name=""/>
              <p:cNvSpPr txBox="1"/>
              <p:nvPr/>
            </p:nvSpPr>
            <p:spPr>
              <a:xfrm>
                <a:off x="1263600" y="2565360"/>
                <a:ext cx="5829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r>
                          <m:t xml:space="preserve">q</m:t>
                        </m:r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q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r>
                          <m:t xml:space="preserve">…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0" name=""/>
          <p:cNvSpPr/>
          <p:nvPr/>
        </p:nvSpPr>
        <p:spPr>
          <a:xfrm>
            <a:off x="0" y="2997360"/>
            <a:ext cx="6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600120" y="3068640"/>
          <a:ext cx="371520" cy="19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0120" y="3068640"/>
                    <a:ext cx="37152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4" name=""/>
          <p:cNvSpPr/>
          <p:nvPr/>
        </p:nvSpPr>
        <p:spPr>
          <a:xfrm>
            <a:off x="1042920" y="2997360"/>
            <a:ext cx="489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лучим формулу линейной интерполя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6" name=""/>
          <p:cNvGraphicFramePr/>
          <p:nvPr/>
        </p:nvGraphicFramePr>
        <p:xfrm>
          <a:off x="5940360" y="3017880"/>
          <a:ext cx="129564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7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3017880"/>
                    <a:ext cx="12956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8" name=""/>
          <p:cNvSpPr/>
          <p:nvPr/>
        </p:nvSpPr>
        <p:spPr>
          <a:xfrm>
            <a:off x="0" y="3357720"/>
            <a:ext cx="8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де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0" name=""/>
          <p:cNvGraphicFramePr/>
          <p:nvPr/>
        </p:nvGraphicFramePr>
        <p:xfrm>
          <a:off x="826920" y="3406680"/>
          <a:ext cx="1724040" cy="238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8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26920" y="3406680"/>
                    <a:ext cx="1724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2" name=""/>
          <p:cNvSpPr/>
          <p:nvPr/>
        </p:nvSpPr>
        <p:spPr>
          <a:xfrm>
            <a:off x="2627280" y="335592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абличные разности первого поря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0" y="3645000"/>
            <a:ext cx="6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1116000" y="3645000"/>
            <a:ext cx="540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лучим формулу квадратичной интерполя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6" name=""/>
          <p:cNvGraphicFramePr/>
          <p:nvPr/>
        </p:nvGraphicFramePr>
        <p:xfrm>
          <a:off x="611280" y="3716280"/>
          <a:ext cx="390600" cy="190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1280" y="3716280"/>
                    <a:ext cx="3906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8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9" name=""/>
          <p:cNvGraphicFramePr/>
          <p:nvPr/>
        </p:nvGraphicFramePr>
        <p:xfrm>
          <a:off x="6372360" y="3573360"/>
          <a:ext cx="2447640" cy="466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372360" y="3573360"/>
                    <a:ext cx="244764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1" name=""/>
          <p:cNvSpPr/>
          <p:nvPr/>
        </p:nvSpPr>
        <p:spPr>
          <a:xfrm>
            <a:off x="0" y="3933720"/>
            <a:ext cx="8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де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2987640" y="3932280"/>
            <a:ext cx="43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абличные разности второго поря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4" name=""/>
          <p:cNvGraphicFramePr/>
          <p:nvPr/>
        </p:nvGraphicFramePr>
        <p:xfrm>
          <a:off x="833400" y="3944880"/>
          <a:ext cx="2009880" cy="276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69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3400" y="3944880"/>
                    <a:ext cx="200988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6" name=""/>
          <p:cNvSpPr/>
          <p:nvPr/>
        </p:nvSpPr>
        <p:spPr>
          <a:xfrm>
            <a:off x="0" y="4292640"/>
            <a:ext cx="52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ервая интерполяционная формула Ньюто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8" name=""/>
          <p:cNvGraphicFramePr/>
          <p:nvPr/>
        </p:nvGraphicFramePr>
        <p:xfrm>
          <a:off x="1835280" y="4508640"/>
          <a:ext cx="4924440" cy="5047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9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835280" y="4508640"/>
                    <a:ext cx="49244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0" name=""/>
          <p:cNvSpPr/>
          <p:nvPr/>
        </p:nvSpPr>
        <p:spPr>
          <a:xfrm>
            <a:off x="0" y="5013360"/>
            <a:ext cx="826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1476360" y="5013360"/>
            <a:ext cx="82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3" name=""/>
          <p:cNvGraphicFramePr/>
          <p:nvPr/>
        </p:nvGraphicFramePr>
        <p:xfrm>
          <a:off x="684360" y="4916520"/>
          <a:ext cx="723600" cy="4572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70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84360" y="4916520"/>
                    <a:ext cx="723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6" name=""/>
          <p:cNvGraphicFramePr/>
          <p:nvPr/>
        </p:nvGraphicFramePr>
        <p:xfrm>
          <a:off x="2050920" y="4941720"/>
          <a:ext cx="1600200" cy="457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70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2050920" y="4941720"/>
                    <a:ext cx="1600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8" name=""/>
          <p:cNvSpPr/>
          <p:nvPr/>
        </p:nvSpPr>
        <p:spPr>
          <a:xfrm>
            <a:off x="0" y="5445000"/>
            <a:ext cx="5292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торая интерполяционная формула Ньюто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0" name=""/>
          <p:cNvGraphicFramePr/>
          <p:nvPr/>
        </p:nvGraphicFramePr>
        <p:xfrm>
          <a:off x="1925640" y="5823000"/>
          <a:ext cx="4734000" cy="485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71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1925640" y="5823000"/>
                    <a:ext cx="4734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4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ГРЕШНОСТЬ ПРОИЗВЕ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5280" y="3747960"/>
            <a:ext cx="8229600" cy="5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ГРЕШНОСТЬ СТЕП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2421000"/>
            <a:ext cx="8229600" cy="54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ГРЕШНОСТЬ ЧАСТНО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5189400"/>
            <a:ext cx="82296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ГРЕШНОСТЬ КОРН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73332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Теорема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Относительная погрешность произведения нескольких приближенных чисел, отличных от нуля, не превышает суммы относительных погрешностей этих чис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454040"/>
            <a:ext cx="795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Следствие 1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Предельная относительная погрешность произвед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68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727440" y="1814400"/>
                <a:ext cx="17812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-36360" y="2101680"/>
            <a:ext cx="172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Следствие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7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570040" y="2152800"/>
                <a:ext cx="561960" cy="23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9" name=""/>
          <p:cNvSpPr/>
          <p:nvPr/>
        </p:nvSpPr>
        <p:spPr>
          <a:xfrm>
            <a:off x="0" y="36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738600" y="2124000"/>
                <a:ext cx="76212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k</m:t>
                        </m:r>
                      </m:e>
                    </m:d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34920" y="2925720"/>
            <a:ext cx="9144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Теорема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Относительная погрешность частного не превышает суммы относительных погрешностей делимого и делителя, т.е.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309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160880" y="3479760"/>
                <a:ext cx="77148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0" y="4253040"/>
            <a:ext cx="579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Теорема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Предельная относительная погреш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97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0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11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796000" y="4351320"/>
                <a:ext cx="142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5940360" y="4253040"/>
            <a:ext cx="208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й степени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13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956720" y="4389480"/>
                <a:ext cx="14256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8244000" y="425304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11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605800" y="4325760"/>
                <a:ext cx="14292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34920" y="4613400"/>
            <a:ext cx="831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з больше предельной относительной погрешности самого чис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09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4140360" y="4902120"/>
                <a:ext cx="6379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34920" y="5597640"/>
            <a:ext cx="6481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Теорема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Предельная относительная погрешность корн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443640" y="5621400"/>
                <a:ext cx="142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588000" y="5597640"/>
            <a:ext cx="208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й степени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8604360" y="5692680"/>
                <a:ext cx="142920" cy="1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08000" y="590868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69800" y="5981760"/>
                <a:ext cx="14292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826920" y="5908680"/>
            <a:ext cx="831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з больше предельной относительной погрешности самого чис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0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092480" y="6124680"/>
                <a:ext cx="695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ЕТОД НАИМЕНЬШИХ КВАДРАТОВ (ЗАДАЧА АППРОКСИМАЦ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0" y="907920"/>
            <a:ext cx="91440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По данным эксперимента (таблица 4) необходимо построить приближенно функцию, отображающую зависимость ее от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x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, в виде многочлена с тем расчетом, чтобы </a:t>
            </a:r>
            <a:r>
              <a:rPr b="0" lang="ru-RU" sz="1800" spc="-1" strike="noStrike" u="sng">
                <a:solidFill>
                  <a:srgbClr val="000099"/>
                </a:solidFill>
                <a:uFillTx/>
                <a:latin typeface="Tahoma"/>
              </a:rPr>
              <a:t>сумма квадратов отклонений построенной функции от экспериментальной в узловых точках была бы минимальной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. Будем строить искомую функцию в виде многочл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427640" y="2421000"/>
            <a:ext cx="86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ahoma"/>
              </a:rPr>
              <a:t>Табл.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7" name=""/>
              <p:cNvSpPr txBox="1"/>
              <p:nvPr/>
            </p:nvSpPr>
            <p:spPr>
              <a:xfrm>
                <a:off x="3851280" y="2784600"/>
                <a:ext cx="13716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…</m:t>
                          </m:r>
                        </m:e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r>
                            <m:t xml:space="preserve">…</m:t>
                          </m:r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71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9" name=""/>
          <p:cNvGraphicFramePr/>
          <p:nvPr/>
        </p:nvGraphicFramePr>
        <p:xfrm>
          <a:off x="3235320" y="2060640"/>
          <a:ext cx="2705040" cy="29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35320" y="2060640"/>
                    <a:ext cx="27050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1" name=""/>
          <p:cNvSpPr/>
          <p:nvPr/>
        </p:nvSpPr>
        <p:spPr>
          <a:xfrm>
            <a:off x="0" y="2276640"/>
            <a:ext cx="406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Формула Лагранжа запишется та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0" y="3284640"/>
            <a:ext cx="31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пределим коэффици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3056040" y="3284640"/>
          <a:ext cx="723960" cy="27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6040" y="3284640"/>
                    <a:ext cx="72396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6" name=""/>
          <p:cNvSpPr/>
          <p:nvPr/>
        </p:nvSpPr>
        <p:spPr>
          <a:xfrm>
            <a:off x="3851280" y="3284640"/>
            <a:ext cx="223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Введем функц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8" name=""/>
          <p:cNvGraphicFramePr/>
          <p:nvPr/>
        </p:nvGraphicFramePr>
        <p:xfrm>
          <a:off x="6037200" y="3213000"/>
          <a:ext cx="695520" cy="466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37200" y="3213000"/>
                    <a:ext cx="69552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0" name=""/>
          <p:cNvSpPr/>
          <p:nvPr/>
        </p:nvSpPr>
        <p:spPr>
          <a:xfrm>
            <a:off x="6910560" y="3284640"/>
            <a:ext cx="223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определ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2" name=""/>
          <p:cNvGraphicFramePr/>
          <p:nvPr/>
        </p:nvGraphicFramePr>
        <p:xfrm>
          <a:off x="36360" y="3610080"/>
          <a:ext cx="1295640" cy="466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60" y="3610080"/>
                    <a:ext cx="12956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4" name=""/>
          <p:cNvSpPr/>
          <p:nvPr/>
        </p:nvSpPr>
        <p:spPr>
          <a:xfrm>
            <a:off x="1476360" y="3683160"/>
            <a:ext cx="863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де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6" name=""/>
          <p:cNvGraphicFramePr/>
          <p:nvPr/>
        </p:nvGraphicFramePr>
        <p:xfrm>
          <a:off x="2343240" y="3703680"/>
          <a:ext cx="107640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43240" y="3703680"/>
                    <a:ext cx="1076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8" name=""/>
          <p:cNvSpPr/>
          <p:nvPr/>
        </p:nvSpPr>
        <p:spPr>
          <a:xfrm>
            <a:off x="3564000" y="3683160"/>
            <a:ext cx="5580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тклонение функции от экспериментальной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0" y="4149720"/>
            <a:ext cx="2050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зловых точ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1" name=""/>
          <p:cNvGraphicFramePr/>
          <p:nvPr/>
        </p:nvGraphicFramePr>
        <p:xfrm>
          <a:off x="2081160" y="4160880"/>
          <a:ext cx="762120" cy="276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81160" y="4160880"/>
                    <a:ext cx="7621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3" name=""/>
          <p:cNvSpPr/>
          <p:nvPr/>
        </p:nvSpPr>
        <p:spPr>
          <a:xfrm>
            <a:off x="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4" name=""/>
          <p:cNvGraphicFramePr/>
          <p:nvPr/>
        </p:nvGraphicFramePr>
        <p:xfrm>
          <a:off x="2627280" y="4518000"/>
          <a:ext cx="3733920" cy="1790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4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627280" y="4518000"/>
                    <a:ext cx="373392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6" name=""/>
          <p:cNvSpPr/>
          <p:nvPr/>
        </p:nvSpPr>
        <p:spPr>
          <a:xfrm>
            <a:off x="2987640" y="414972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СЛ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6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ЕТОД НАИМЕНЬШИХ КВАДРАТОВ (ЗАДАЧА АППРОКСИМАЦИ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Пример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По заданной системе точек (таблица 3) из примера 7 постро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0" y="1268280"/>
            <a:ext cx="46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аппроксимационные многочлены перв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3" name=""/>
          <p:cNvGraphicFramePr/>
          <p:nvPr/>
        </p:nvGraphicFramePr>
        <p:xfrm>
          <a:off x="4643280" y="1290600"/>
          <a:ext cx="114300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290600"/>
                    <a:ext cx="1143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5" name=""/>
          <p:cNvSpPr/>
          <p:nvPr/>
        </p:nvSpPr>
        <p:spPr>
          <a:xfrm>
            <a:off x="5867280" y="1268280"/>
            <a:ext cx="327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второго поряд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7" name=""/>
          <p:cNvGraphicFramePr/>
          <p:nvPr/>
        </p:nvGraphicFramePr>
        <p:xfrm>
          <a:off x="0" y="1557360"/>
          <a:ext cx="1676520" cy="29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57360"/>
                    <a:ext cx="1676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9" name=""/>
          <p:cNvSpPr/>
          <p:nvPr/>
        </p:nvSpPr>
        <p:spPr>
          <a:xfrm>
            <a:off x="1692360" y="1557360"/>
            <a:ext cx="381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методом наименьших квадра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0" y="2276640"/>
            <a:ext cx="3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0" y="2708280"/>
            <a:ext cx="3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0" y="3139920"/>
            <a:ext cx="3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0" y="3573360"/>
            <a:ext cx="46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. Искомый многочлен первого поряд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5" name=""/>
          <p:cNvGraphicFramePr/>
          <p:nvPr/>
        </p:nvGraphicFramePr>
        <p:xfrm>
          <a:off x="439560" y="2133720"/>
          <a:ext cx="4419720" cy="46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9560" y="2133720"/>
                    <a:ext cx="44197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7" name="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8" name=""/>
          <p:cNvGraphicFramePr/>
          <p:nvPr/>
        </p:nvGraphicFramePr>
        <p:xfrm>
          <a:off x="468360" y="2637000"/>
          <a:ext cx="1933560" cy="54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2637000"/>
                    <a:ext cx="19335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1" name=""/>
          <p:cNvGraphicFramePr/>
          <p:nvPr/>
        </p:nvGraphicFramePr>
        <p:xfrm>
          <a:off x="468360" y="3191040"/>
          <a:ext cx="1514520" cy="23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360" y="3191040"/>
                    <a:ext cx="151452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4" name=""/>
              <p:cNvSpPr txBox="1"/>
              <p:nvPr/>
            </p:nvSpPr>
            <p:spPr>
              <a:xfrm>
                <a:off x="4471920" y="3645000"/>
                <a:ext cx="13240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5" name=""/>
          <p:cNvSpPr/>
          <p:nvPr/>
        </p:nvSpPr>
        <p:spPr>
          <a:xfrm>
            <a:off x="0" y="1773360"/>
            <a:ext cx="47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строение многочлена первого поря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0" y="3933720"/>
            <a:ext cx="4788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строение многочлена второго поря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0" y="4221000"/>
            <a:ext cx="3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0" y="4869000"/>
            <a:ext cx="3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0" y="5516640"/>
            <a:ext cx="395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1" name=""/>
          <p:cNvGraphicFramePr/>
          <p:nvPr/>
        </p:nvGraphicFramePr>
        <p:xfrm>
          <a:off x="395280" y="4149720"/>
          <a:ext cx="3429000" cy="466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5280" y="4149720"/>
                    <a:ext cx="342900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3" name="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4" name=""/>
          <p:cNvGraphicFramePr/>
          <p:nvPr/>
        </p:nvGraphicFramePr>
        <p:xfrm>
          <a:off x="379440" y="4653000"/>
          <a:ext cx="2752560" cy="828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9440" y="4653000"/>
                    <a:ext cx="27525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7" name=""/>
          <p:cNvGraphicFramePr/>
          <p:nvPr/>
        </p:nvGraphicFramePr>
        <p:xfrm>
          <a:off x="425520" y="5567400"/>
          <a:ext cx="2562120" cy="237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8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25520" y="5567400"/>
                    <a:ext cx="256212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9" name=""/>
          <p:cNvSpPr/>
          <p:nvPr/>
        </p:nvSpPr>
        <p:spPr>
          <a:xfrm>
            <a:off x="0" y="5805360"/>
            <a:ext cx="46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. Искомый многочлен второго поряд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1" name=""/>
          <p:cNvGraphicFramePr/>
          <p:nvPr/>
        </p:nvGraphicFramePr>
        <p:xfrm>
          <a:off x="2930400" y="6093000"/>
          <a:ext cx="2505240" cy="295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7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30400" y="6093000"/>
                    <a:ext cx="25052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КОНТРОЛЬНЫЕ ВОПРОС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179280" y="835200"/>
            <a:ext cx="87854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Для каких узлов используется вторая интерполяционная формула Ньютон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Для интерполирования в окрестности какой точки используется вторая интерполяционная формула Ньютон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Запишите вид полинома, используемого для получения второй интерполяционной формулы Ньютон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Чему равны коэффициенты второй интерполяционной формулы Ньютон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Запишите вторую интерполяционную формулу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Чему равна погрешность второй интерполяционной формулы Ньютон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Для каких узлов используется интерполяционная формула Лагранж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Запишите интерполяционную формулу Лагранж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Чему равна погрешность интерполяционной формулы Лагранж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В каких случаях возникает задача аппроксимаци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1. В чем суть метода наименьших квадратов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2. В каких случаях возникает задача аппроксимации экспоненциальными функциям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ЧИСЛЕННОЕ ДИФФЕРЕНЦИР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формулы численного дифференцирования, основанные на первой интерполяционной формуле Ньютона и на интерполяционной формуле Лагранж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0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136" dur="2000" fill="hold"/>
                                        <p:tgtEl>
                                          <p:spTgt spid="18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1000" fill="hold"/>
                                        <p:tgtEl>
                                          <p:spTgt spid="1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1000" fill="hold"/>
                                        <p:tgtEl>
                                          <p:spTgt spid="1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1000" fill="hold"/>
                                        <p:tgtEl>
                                          <p:spTgt spid="1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1000" fill="hold"/>
                                        <p:tgtEl>
                                          <p:spTgt spid="18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СТАНОВКА ЗАДАЧ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0" y="90792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 решении практических задач часто требуется найти производные различных порядков от функций, заданных таблицей, или функций, имеющих сложный аналитический вид. В этих случаях прибегают к приближенному дифференцирова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>
            <a:off x="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>
            <a:off x="0" y="475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>
            <a:off x="0" y="466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0" y="461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0" y="478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0" y="497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4479840" y="4502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0" y="4781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0" y="475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8" name=""/>
          <p:cNvGraphicFramePr/>
          <p:nvPr/>
        </p:nvGraphicFramePr>
        <p:xfrm>
          <a:off x="3814920" y="2154240"/>
          <a:ext cx="68580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14920" y="215424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0" name=""/>
          <p:cNvSpPr/>
          <p:nvPr/>
        </p:nvSpPr>
        <p:spPr>
          <a:xfrm>
            <a:off x="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1" name=""/>
          <p:cNvGraphicFramePr/>
          <p:nvPr/>
        </p:nvGraphicFramePr>
        <p:xfrm>
          <a:off x="7524720" y="3284640"/>
          <a:ext cx="6858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24720" y="328464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6" name=""/>
          <p:cNvGraphicFramePr/>
          <p:nvPr/>
        </p:nvGraphicFramePr>
        <p:xfrm>
          <a:off x="2340000" y="2154240"/>
          <a:ext cx="39060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0000" y="2154240"/>
                    <a:ext cx="390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8" name=""/>
          <p:cNvSpPr/>
          <p:nvPr/>
        </p:nvSpPr>
        <p:spPr>
          <a:xfrm>
            <a:off x="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9" name=""/>
          <p:cNvGraphicFramePr/>
          <p:nvPr/>
        </p:nvGraphicFramePr>
        <p:xfrm>
          <a:off x="2124000" y="3936960"/>
          <a:ext cx="39060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24000" y="3936960"/>
                    <a:ext cx="390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1" name=""/>
          <p:cNvSpPr/>
          <p:nvPr/>
        </p:nvSpPr>
        <p:spPr>
          <a:xfrm>
            <a:off x="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2" name=""/>
          <p:cNvGraphicFramePr/>
          <p:nvPr/>
        </p:nvGraphicFramePr>
        <p:xfrm>
          <a:off x="49320" y="2728800"/>
          <a:ext cx="41904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9320" y="2728800"/>
                    <a:ext cx="419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4" name=""/>
          <p:cNvSpPr/>
          <p:nvPr/>
        </p:nvSpPr>
        <p:spPr>
          <a:xfrm>
            <a:off x="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5" name=""/>
          <p:cNvGraphicFramePr/>
          <p:nvPr/>
        </p:nvGraphicFramePr>
        <p:xfrm>
          <a:off x="5292720" y="2728800"/>
          <a:ext cx="45720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92720" y="2728800"/>
                    <a:ext cx="4572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7" name=""/>
          <p:cNvSpPr/>
          <p:nvPr/>
        </p:nvSpPr>
        <p:spPr>
          <a:xfrm>
            <a:off x="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8" name=""/>
          <p:cNvGraphicFramePr/>
          <p:nvPr/>
        </p:nvGraphicFramePr>
        <p:xfrm>
          <a:off x="34920" y="3305160"/>
          <a:ext cx="1038240" cy="2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3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920" y="3305160"/>
                    <a:ext cx="10382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0" name=""/>
          <p:cNvSpPr/>
          <p:nvPr/>
        </p:nvSpPr>
        <p:spPr>
          <a:xfrm>
            <a:off x="0" y="498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1" name=""/>
          <p:cNvGraphicFramePr/>
          <p:nvPr/>
        </p:nvGraphicFramePr>
        <p:xfrm>
          <a:off x="1763640" y="3355920"/>
          <a:ext cx="657360" cy="190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763640" y="3355920"/>
                    <a:ext cx="65736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3" name=""/>
          <p:cNvSpPr/>
          <p:nvPr/>
        </p:nvSpPr>
        <p:spPr>
          <a:xfrm>
            <a:off x="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4" name=""/>
          <p:cNvGraphicFramePr/>
          <p:nvPr/>
        </p:nvGraphicFramePr>
        <p:xfrm>
          <a:off x="41400" y="3936960"/>
          <a:ext cx="714240" cy="266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400" y="3936960"/>
                    <a:ext cx="7142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6" name=""/>
          <p:cNvSpPr/>
          <p:nvPr/>
        </p:nvSpPr>
        <p:spPr>
          <a:xfrm>
            <a:off x="0" y="2131920"/>
            <a:ext cx="24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ля этого на отрез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700360" y="2131920"/>
            <a:ext cx="12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функц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4643280" y="2131920"/>
            <a:ext cx="450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аменяют интерполирующей функци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539640" y="2708280"/>
            <a:ext cx="496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чаще всего интерполирующим полином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5796000" y="2708280"/>
            <a:ext cx="230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), затем полаг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187280" y="3284640"/>
            <a:ext cx="64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2556000" y="3284640"/>
            <a:ext cx="5256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Близость друг к другу ординат двух крив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8317080" y="3284640"/>
            <a:ext cx="502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826920" y="391464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 отрез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2627280" y="3914640"/>
            <a:ext cx="651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еще не гарантирует близости на этом отрезке и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0" y="4540320"/>
            <a:ext cx="161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оизвод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0" y="47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8" name=""/>
          <p:cNvGraphicFramePr/>
          <p:nvPr/>
        </p:nvGraphicFramePr>
        <p:xfrm>
          <a:off x="1593720" y="4562640"/>
          <a:ext cx="457200" cy="266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5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593720" y="4562640"/>
                    <a:ext cx="45720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0" name=""/>
          <p:cNvSpPr/>
          <p:nvPr/>
        </p:nvSpPr>
        <p:spPr>
          <a:xfrm>
            <a:off x="2124000" y="454032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2" name=""/>
          <p:cNvGraphicFramePr/>
          <p:nvPr/>
        </p:nvGraphicFramePr>
        <p:xfrm>
          <a:off x="2484360" y="4562640"/>
          <a:ext cx="457200" cy="2664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6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2484360" y="4562640"/>
                    <a:ext cx="45720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4" name=""/>
          <p:cNvSpPr/>
          <p:nvPr/>
        </p:nvSpPr>
        <p:spPr>
          <a:xfrm>
            <a:off x="3059280" y="4540320"/>
            <a:ext cx="5905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т.е. малого расхождения угловых коэффици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0" y="5084640"/>
            <a:ext cx="914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асательных к рассматриваемым кривым при одинаковых значениях аргумен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УЛЫ ПРИБЛИЖЕННОГО ДИФФЕРЕНЦИРОВАНИЯ, ОСНОВАННЫЕ НА ПЕРВОЙ ИНТЕРПОЛЯЦИОННОЙ ФОРМУЛЕ НЬЮТ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0" y="1341360"/>
            <a:ext cx="212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усть на отрез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2" name=""/>
          <p:cNvGraphicFramePr/>
          <p:nvPr/>
        </p:nvGraphicFramePr>
        <p:xfrm>
          <a:off x="1979640" y="1362240"/>
          <a:ext cx="390600" cy="26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362240"/>
                    <a:ext cx="39060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5" name=""/>
              <p:cNvSpPr txBox="1"/>
              <p:nvPr/>
            </p:nvSpPr>
            <p:spPr>
              <a:xfrm>
                <a:off x="6012000" y="1341360"/>
                <a:ext cx="120960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ih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187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7" name=""/>
          <p:cNvGraphicFramePr/>
          <p:nvPr/>
        </p:nvGraphicFramePr>
        <p:xfrm>
          <a:off x="7846920" y="1268280"/>
          <a:ext cx="6858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6920" y="1268280"/>
                    <a:ext cx="685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0" name=""/>
          <p:cNvGraphicFramePr/>
          <p:nvPr/>
        </p:nvGraphicFramePr>
        <p:xfrm>
          <a:off x="4716360" y="1693800"/>
          <a:ext cx="133344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1693800"/>
                    <a:ext cx="13334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3" name=""/>
          <p:cNvGraphicFramePr/>
          <p:nvPr/>
        </p:nvGraphicFramePr>
        <p:xfrm>
          <a:off x="1547640" y="2009880"/>
          <a:ext cx="115272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2009880"/>
                    <a:ext cx="11527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6" name=""/>
          <p:cNvGraphicFramePr/>
          <p:nvPr/>
        </p:nvGraphicFramePr>
        <p:xfrm>
          <a:off x="4067280" y="2009880"/>
          <a:ext cx="39060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67280" y="2009880"/>
                    <a:ext cx="390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8" name="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9" name=""/>
          <p:cNvGraphicFramePr/>
          <p:nvPr/>
        </p:nvGraphicFramePr>
        <p:xfrm>
          <a:off x="1979640" y="2565360"/>
          <a:ext cx="4753080" cy="100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9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2565360"/>
                    <a:ext cx="47530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1" name=""/>
          <p:cNvSpPr/>
          <p:nvPr/>
        </p:nvSpPr>
        <p:spPr>
          <a:xfrm>
            <a:off x="2484360" y="1341360"/>
            <a:ext cx="352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аданы равноотстоящие то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7308720" y="1341360"/>
            <a:ext cx="64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8604360" y="1341360"/>
            <a:ext cx="468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0" y="1700280"/>
            <a:ext cx="478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звестны значения функции в этих точ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6156360" y="1700280"/>
            <a:ext cx="21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Требуется най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0" y="1989000"/>
            <a:ext cx="16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оизво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2771640" y="1989000"/>
            <a:ext cx="136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 отрез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9" name=""/>
          <p:cNvGraphicFramePr/>
          <p:nvPr/>
        </p:nvGraphicFramePr>
        <p:xfrm>
          <a:off x="496800" y="3573360"/>
          <a:ext cx="762120" cy="45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0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6800" y="3573360"/>
                    <a:ext cx="762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2" name=""/>
          <p:cNvGraphicFramePr/>
          <p:nvPr/>
        </p:nvGraphicFramePr>
        <p:xfrm>
          <a:off x="2349360" y="4365720"/>
          <a:ext cx="4238640" cy="571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0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49360" y="4365720"/>
                    <a:ext cx="4238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5" name=""/>
              <p:cNvSpPr txBox="1"/>
              <p:nvPr/>
            </p:nvSpPr>
            <p:spPr>
              <a:xfrm>
                <a:off x="6300720" y="5072040"/>
                <a:ext cx="790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6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7" name=""/>
          <p:cNvGraphicFramePr/>
          <p:nvPr/>
        </p:nvGraphicFramePr>
        <p:xfrm>
          <a:off x="2573280" y="5589720"/>
          <a:ext cx="3438720" cy="495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573280" y="5589720"/>
                    <a:ext cx="34387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9" name=""/>
          <p:cNvSpPr/>
          <p:nvPr/>
        </p:nvSpPr>
        <p:spPr>
          <a:xfrm>
            <a:off x="4500720" y="1989000"/>
            <a:ext cx="28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0" y="2276640"/>
            <a:ext cx="914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Если воспользоваться первой интерполяционной формулой Ньютона, то получ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0" y="3645000"/>
            <a:ext cx="611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1258920" y="3645000"/>
            <a:ext cx="28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0" y="4076640"/>
            <a:ext cx="16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Аналогичн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0" y="5013360"/>
            <a:ext cx="6372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Если подсчитать производные в узлах интерполяции п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7164360" y="5013360"/>
            <a:ext cx="1692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получ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УЛЫ ЧИСЛЕННОГО ДИФФЕРЕНЦИРОВАНИЯ ДЛЯ РАВНООТСТОЯЩИХ ТОЧЕК, ОСНОВАННЫЕ НА  ИНТЕРПОЛЯЦИОННОЙ ФОРМУЛЕ ЛАГРАНЖ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0" y="1341360"/>
            <a:ext cx="39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усть даны равноотстоящие то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2" name=""/>
          <p:cNvGraphicFramePr/>
          <p:nvPr/>
        </p:nvGraphicFramePr>
        <p:xfrm>
          <a:off x="3924360" y="1341360"/>
          <a:ext cx="723960" cy="2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1341360"/>
                    <a:ext cx="72396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5" name=""/>
          <p:cNvGraphicFramePr/>
          <p:nvPr/>
        </p:nvGraphicFramePr>
        <p:xfrm>
          <a:off x="5975280" y="1390680"/>
          <a:ext cx="828720" cy="23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75280" y="1390680"/>
                    <a:ext cx="82872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7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28" name=""/>
          <p:cNvGraphicFramePr/>
          <p:nvPr/>
        </p:nvGraphicFramePr>
        <p:xfrm>
          <a:off x="3708360" y="1838160"/>
          <a:ext cx="1333440" cy="29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1838160"/>
                    <a:ext cx="1333440" cy="2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1" name=""/>
          <p:cNvGraphicFramePr/>
          <p:nvPr/>
        </p:nvGraphicFramePr>
        <p:xfrm>
          <a:off x="108000" y="2297160"/>
          <a:ext cx="79056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3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2297160"/>
                    <a:ext cx="790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3" name="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4" name=""/>
          <p:cNvGraphicFramePr/>
          <p:nvPr/>
        </p:nvGraphicFramePr>
        <p:xfrm>
          <a:off x="2195640" y="2828880"/>
          <a:ext cx="4190760" cy="110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95640" y="2828880"/>
                    <a:ext cx="41907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7" name=""/>
          <p:cNvGraphicFramePr/>
          <p:nvPr/>
        </p:nvGraphicFramePr>
        <p:xfrm>
          <a:off x="539640" y="4241880"/>
          <a:ext cx="275292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4241880"/>
                    <a:ext cx="27529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0" name=""/>
          <p:cNvGraphicFramePr/>
          <p:nvPr/>
        </p:nvGraphicFramePr>
        <p:xfrm>
          <a:off x="611280" y="4960800"/>
          <a:ext cx="466560" cy="2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4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1280" y="4960800"/>
                    <a:ext cx="466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43" name=""/>
          <p:cNvGraphicFramePr/>
          <p:nvPr/>
        </p:nvGraphicFramePr>
        <p:xfrm>
          <a:off x="4319640" y="4960800"/>
          <a:ext cx="828720" cy="266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19640" y="4960800"/>
                    <a:ext cx="8287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5" name=""/>
          <p:cNvSpPr/>
          <p:nvPr/>
        </p:nvSpPr>
        <p:spPr>
          <a:xfrm>
            <a:off x="4716360" y="1341360"/>
            <a:ext cx="129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акие, ч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6877080" y="1341360"/>
            <a:ext cx="172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и извест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0" y="1838160"/>
            <a:ext cx="39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начения функции в этих точка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5076720" y="1838160"/>
            <a:ext cx="3311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Для данной системы уз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971640" y="2276640"/>
            <a:ext cx="568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строим интерполяционный полином Лагранж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0" y="4168800"/>
            <a:ext cx="61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0" y="4940280"/>
            <a:ext cx="61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1187280" y="4940280"/>
            <a:ext cx="316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праведливо соотнош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93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ОРМУЛЫ ЧИСЛЕННОГО ДИФФЕРЕНЦИРОВАНИЯ ДЛЯ РАВНООТСТОЯЩИХ ТОЧЕК, ОСНОВАННЫЕ НА  ИНТЕРПОЛЯЦИОННОЙ ФОРМУЛЕ ЛАГРАНЖ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0" y="1341360"/>
            <a:ext cx="327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ведем новую переменную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7" name=""/>
          <p:cNvGraphicFramePr/>
          <p:nvPr/>
        </p:nvGraphicFramePr>
        <p:xfrm>
          <a:off x="3203640" y="1268280"/>
          <a:ext cx="76176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268280"/>
                    <a:ext cx="7617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9" name="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0" name=""/>
          <p:cNvGraphicFramePr/>
          <p:nvPr/>
        </p:nvGraphicFramePr>
        <p:xfrm>
          <a:off x="2771640" y="1746360"/>
          <a:ext cx="332424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746360"/>
                    <a:ext cx="33242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2" name="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3" name=""/>
          <p:cNvGraphicFramePr/>
          <p:nvPr/>
        </p:nvGraphicFramePr>
        <p:xfrm>
          <a:off x="2387520" y="2133720"/>
          <a:ext cx="4200480" cy="647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87520" y="2133720"/>
                    <a:ext cx="42004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6" name=""/>
          <p:cNvGraphicFramePr/>
          <p:nvPr/>
        </p:nvGraphicFramePr>
        <p:xfrm>
          <a:off x="3276720" y="2924280"/>
          <a:ext cx="2133360" cy="581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924280"/>
                    <a:ext cx="213336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9" name=""/>
          <p:cNvGraphicFramePr/>
          <p:nvPr/>
        </p:nvGraphicFramePr>
        <p:xfrm>
          <a:off x="2124000" y="3666960"/>
          <a:ext cx="39060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3666960"/>
                    <a:ext cx="390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2" name=""/>
          <p:cNvGraphicFramePr/>
          <p:nvPr/>
        </p:nvGraphicFramePr>
        <p:xfrm>
          <a:off x="7236000" y="3666960"/>
          <a:ext cx="46656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98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236000" y="3666960"/>
                    <a:ext cx="466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5" name=""/>
          <p:cNvGraphicFramePr/>
          <p:nvPr/>
        </p:nvGraphicFramePr>
        <p:xfrm>
          <a:off x="1692360" y="4005360"/>
          <a:ext cx="2514600" cy="504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8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92360" y="4005360"/>
                    <a:ext cx="25146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7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8" name=""/>
          <p:cNvGraphicFramePr/>
          <p:nvPr/>
        </p:nvGraphicFramePr>
        <p:xfrm>
          <a:off x="2484360" y="4538520"/>
          <a:ext cx="3238560" cy="619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8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84360" y="4538520"/>
                    <a:ext cx="32385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91" name=""/>
          <p:cNvGraphicFramePr/>
          <p:nvPr/>
        </p:nvGraphicFramePr>
        <p:xfrm>
          <a:off x="2916360" y="5394240"/>
          <a:ext cx="457200" cy="266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16360" y="5394240"/>
                    <a:ext cx="4572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3" name=""/>
          <p:cNvSpPr/>
          <p:nvPr/>
        </p:nvSpPr>
        <p:spPr>
          <a:xfrm>
            <a:off x="4067280" y="1341360"/>
            <a:ext cx="100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тог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0" y="2781360"/>
            <a:ext cx="1258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луч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0" y="3645000"/>
            <a:ext cx="226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аменив функц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2627280" y="3645000"/>
            <a:ext cx="4681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нтерполяционным полиномом Лагранж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7740720" y="3645000"/>
            <a:ext cx="5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0" y="4076640"/>
            <a:ext cx="1763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читывая, ч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4284720" y="4076640"/>
            <a:ext cx="360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з соотношения (35) получ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0" y="5373720"/>
            <a:ext cx="31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Аналогично можно най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3492360" y="5373720"/>
            <a:ext cx="863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т.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КОНТРОЛЬНЫЕ ВОПРОС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179280" y="835200"/>
            <a:ext cx="87854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Когда применяется численное дифференцировани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Какая задача является менее точной: задача интерполирования или задача численного дифференцировани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Какие формулы используются для получения формул численного дифференцировани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Как определяется погрешность производной функц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Запишите формулу численного нахождения первой производной, основанную на первой интерполяционной формуле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Какую погрешность имеет формула численного дифференцирования, полученная из первой интерполяционной формулы Ньютон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Запишите формулу численного нахождения второй производной, основанную на первой интерполяционной формуле Ньют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Для каких узлов применяются формулы численного дифференцирования, основанные на интерполяционной формуле Лагранж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Запишите формулу численного дифференцирования, основанную на интерполяционной формуле Лагранж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Чему равна погрешность формулы численного дифференцирования, основанной на интерполяционной формуле Лагранж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ИСЛЕННОЕ ИНТЕГРИРОВАНИЕ ФУНК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(квадратурная формула Ньютона-Котеса, частные случаи формулы Ньютона-Котеса (формула трапеций, формула Симпсона)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152" dur="2000" fill="hold"/>
                                        <p:tgtEl>
                                          <p:spTgt spid="20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1000" fill="hold"/>
                                        <p:tgtEl>
                                          <p:spTgt spid="2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1000" fill="hold"/>
                                        <p:tgtEl>
                                          <p:spTgt spid="2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1000" fill="hold"/>
                                        <p:tgtEl>
                                          <p:spTgt spid="2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1000" fill="hold"/>
                                        <p:tgtEl>
                                          <p:spTgt spid="2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ОНТРОЛЬНЫЕ ВОПРОС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549360"/>
            <a:ext cx="878544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Какие основные причины возникновения ошибок существуют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Какие погрешности называются погрешностями задач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Что называется погрешностью метод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Что называется остаточной погрешностью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Что называется начальной погрешностью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 чем связана погрешность округления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Когда возникает погрешность действий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Какие погрешности изучаются в курсе «Численные методы»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Что называется приближенным числом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Что называется погрешностью (ошибкой) приближенного числ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1. Что называется абсолютной погрешностью приближенного числ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2. Что называется относительной погрешностью приближенного числ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3. Что называется предельной абсолютной погрешностью приближенного числ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4. Что называется предельной относительной погрешностью приближенного числ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5. Что называется значащей цифрой приближенного числ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6. Какая цифра называется верной цифрой приближенного числ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7. Сформулируйте правило округления чисе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8. Что берется за предельную абсолютную погрешность алгебраической суммы приближенных чисел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9. Чему равна предельная относительная погрешность приближенных чисел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0. Чему равна предельная относительная погрешность частного приближенных чисел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1. Чему равна предельная относительная погрешность корня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-й степени приближенного числ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2. Чему равна предельная относительная погрешность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-й степени приближенного числ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ВАДРАТУРНАЯ ФОРМУЛА НЬЮТОНА-КОТЕ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0" y="836640"/>
            <a:ext cx="356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Формула Ньютона-Лейбниц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0" y="343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0" y="345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0" y="34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0" y="34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0" y="34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0" y="34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0" y="34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0" y="33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0" y="341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0" y="32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0" y="328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0" y="34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0" y="34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0" y="33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0" y="326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0" y="34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0" y="331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5" name=""/>
          <p:cNvGraphicFramePr/>
          <p:nvPr/>
        </p:nvGraphicFramePr>
        <p:xfrm>
          <a:off x="3438360" y="1104840"/>
          <a:ext cx="178128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8360" y="1104840"/>
                    <a:ext cx="17812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7" name=""/>
          <p:cNvSpPr/>
          <p:nvPr/>
        </p:nvSpPr>
        <p:spPr>
          <a:xfrm>
            <a:off x="0" y="34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38" name=""/>
          <p:cNvGraphicFramePr/>
          <p:nvPr/>
        </p:nvGraphicFramePr>
        <p:xfrm>
          <a:off x="4729320" y="1720800"/>
          <a:ext cx="41904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9320" y="1720800"/>
                    <a:ext cx="419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0" name=""/>
          <p:cNvSpPr/>
          <p:nvPr/>
        </p:nvSpPr>
        <p:spPr>
          <a:xfrm>
            <a:off x="0" y="344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2" name=""/>
              <p:cNvSpPr txBox="1"/>
              <p:nvPr/>
            </p:nvSpPr>
            <p:spPr>
              <a:xfrm>
                <a:off x="3780000" y="3387600"/>
                <a:ext cx="107604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043" name=""/>
          <p:cNvSpPr/>
          <p:nvPr/>
        </p:nvSpPr>
        <p:spPr>
          <a:xfrm>
            <a:off x="0" y="1700280"/>
            <a:ext cx="4859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днако, во многих случаях первообраз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5219640" y="1700280"/>
            <a:ext cx="356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е может быть найдена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0" y="213372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мощью элементарных средств или являться слишком сложной; вследствие этого вычисление определенного интеграла по формуле (36) может быть затруднено или быть практически не выполнимым. Поэтому важное значение приобретают численные методы вычисления определенных интегралов, использующих ряд значений подынтегральной функции в точ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0" y="378936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Определение.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Численное вычисление однократного интеграла называется механической квадратурой, двойного интеграла – механической кубатурой. Соответствующие формулы называются квадратурными и кубатурными формул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ВАДРАТУРНАЯ ФОРМУЛА НЬЮТОНА-КОТЕ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0" y="1052640"/>
            <a:ext cx="8317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ссмотрим один из способов вычисления однократных интеграл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3" name=""/>
          <p:cNvGraphicFramePr/>
          <p:nvPr/>
        </p:nvGraphicFramePr>
        <p:xfrm>
          <a:off x="2627280" y="1844640"/>
          <a:ext cx="39528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844640"/>
                    <a:ext cx="39528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6" name=""/>
          <p:cNvGraphicFramePr/>
          <p:nvPr/>
        </p:nvGraphicFramePr>
        <p:xfrm>
          <a:off x="5389560" y="2470320"/>
          <a:ext cx="190440" cy="23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9560" y="2470320"/>
                    <a:ext cx="1904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9" name=""/>
          <p:cNvGraphicFramePr/>
          <p:nvPr/>
        </p:nvGraphicFramePr>
        <p:xfrm>
          <a:off x="2514600" y="2708280"/>
          <a:ext cx="76212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708280"/>
                    <a:ext cx="762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2" name=""/>
          <p:cNvGraphicFramePr/>
          <p:nvPr/>
        </p:nvGraphicFramePr>
        <p:xfrm>
          <a:off x="3492360" y="2781360"/>
          <a:ext cx="1838520" cy="314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2781360"/>
                    <a:ext cx="183852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5" name=""/>
          <p:cNvGraphicFramePr/>
          <p:nvPr/>
        </p:nvGraphicFramePr>
        <p:xfrm>
          <a:off x="3127320" y="3141720"/>
          <a:ext cx="2524320" cy="657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27320" y="3141720"/>
                    <a:ext cx="252432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7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68" name=""/>
          <p:cNvGraphicFramePr/>
          <p:nvPr/>
        </p:nvGraphicFramePr>
        <p:xfrm>
          <a:off x="684360" y="3708360"/>
          <a:ext cx="1838160" cy="657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4360" y="3708360"/>
                    <a:ext cx="18381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0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1" name=""/>
          <p:cNvGraphicFramePr/>
          <p:nvPr/>
        </p:nvGraphicFramePr>
        <p:xfrm>
          <a:off x="2987640" y="4724280"/>
          <a:ext cx="258120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87640" y="4724280"/>
                    <a:ext cx="2581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3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4" name=""/>
          <p:cNvGraphicFramePr/>
          <p:nvPr/>
        </p:nvGraphicFramePr>
        <p:xfrm>
          <a:off x="3635280" y="5805360"/>
          <a:ext cx="1609920" cy="524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7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5280" y="5805360"/>
                    <a:ext cx="160992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6" name=""/>
          <p:cNvSpPr/>
          <p:nvPr/>
        </p:nvSpPr>
        <p:spPr>
          <a:xfrm>
            <a:off x="0" y="1557360"/>
            <a:ext cx="457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ближенная квадратурная форму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0" y="2421000"/>
            <a:ext cx="543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ыведем явные выражения для коэффици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0" y="2781360"/>
            <a:ext cx="262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ведем обознач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3276720" y="2781360"/>
            <a:ext cx="21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5435640" y="2781360"/>
            <a:ext cx="100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Тог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0" y="3860640"/>
            <a:ext cx="826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0" y="4437000"/>
            <a:ext cx="29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оэффициенты Котес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0" y="5445000"/>
            <a:ext cx="47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Квадратурная формула Ньютона-Котес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ЧАСТНЫЕ СЛУЧАИ КВАДРАТУРНОЙ ФОРМУЛЫ НЬЮТОНА-КОТЕ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0" y="1557360"/>
            <a:ext cx="6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0" y="909720"/>
            <a:ext cx="9144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ФОРМУЛА ТРАПЕ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9" name=""/>
          <p:cNvGraphicFramePr/>
          <p:nvPr/>
        </p:nvGraphicFramePr>
        <p:xfrm>
          <a:off x="611280" y="1628640"/>
          <a:ext cx="371520" cy="1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37152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1" name=""/>
          <p:cNvSpPr/>
          <p:nvPr/>
        </p:nvSpPr>
        <p:spPr>
          <a:xfrm>
            <a:off x="1042920" y="155736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3" name=""/>
          <p:cNvGraphicFramePr/>
          <p:nvPr/>
        </p:nvGraphicFramePr>
        <p:xfrm>
          <a:off x="1403280" y="1484280"/>
          <a:ext cx="1571760" cy="52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1484280"/>
                    <a:ext cx="15717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5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6" name=""/>
          <p:cNvGraphicFramePr/>
          <p:nvPr/>
        </p:nvGraphicFramePr>
        <p:xfrm>
          <a:off x="3348000" y="1484280"/>
          <a:ext cx="106668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1484280"/>
                    <a:ext cx="106668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8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09" name=""/>
          <p:cNvGraphicFramePr/>
          <p:nvPr/>
        </p:nvGraphicFramePr>
        <p:xfrm>
          <a:off x="4643280" y="1484280"/>
          <a:ext cx="140040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3280" y="1484280"/>
                    <a:ext cx="14004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2" name=""/>
          <p:cNvGraphicFramePr/>
          <p:nvPr/>
        </p:nvGraphicFramePr>
        <p:xfrm>
          <a:off x="4686480" y="2009880"/>
          <a:ext cx="39024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86480" y="2009880"/>
                    <a:ext cx="3902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6" name=""/>
          <p:cNvGraphicFramePr/>
          <p:nvPr/>
        </p:nvGraphicFramePr>
        <p:xfrm>
          <a:off x="2484360" y="2419200"/>
          <a:ext cx="142920" cy="15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84360" y="2419200"/>
                    <a:ext cx="14292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8" name=""/>
          <p:cNvSpPr/>
          <p:nvPr/>
        </p:nvSpPr>
        <p:spPr>
          <a:xfrm>
            <a:off x="6156360" y="1627200"/>
            <a:ext cx="29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формула трапе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987640" y="162864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4427640" y="1628640"/>
            <a:ext cx="28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0" y="1989000"/>
            <a:ext cx="478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ссмотрим общий случай, когда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0" y="2347920"/>
            <a:ext cx="262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зделим отрезок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771640" y="2347920"/>
            <a:ext cx="20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вных часте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5" name=""/>
          <p:cNvGraphicFramePr/>
          <p:nvPr/>
        </p:nvGraphicFramePr>
        <p:xfrm>
          <a:off x="4552920" y="2349360"/>
          <a:ext cx="523800" cy="2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52920" y="2349360"/>
                    <a:ext cx="523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8" name=""/>
          <p:cNvGraphicFramePr/>
          <p:nvPr/>
        </p:nvGraphicFramePr>
        <p:xfrm>
          <a:off x="5343480" y="2349360"/>
          <a:ext cx="523800" cy="266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2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43480" y="2349360"/>
                    <a:ext cx="523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1" name=""/>
          <p:cNvGraphicFramePr/>
          <p:nvPr/>
        </p:nvGraphicFramePr>
        <p:xfrm>
          <a:off x="6632640" y="2349360"/>
          <a:ext cx="676080" cy="266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3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32640" y="2349360"/>
                    <a:ext cx="6760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3" name=""/>
          <p:cNvSpPr/>
          <p:nvPr/>
        </p:nvSpPr>
        <p:spPr>
          <a:xfrm>
            <a:off x="5076720" y="234936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5796000" y="2276640"/>
            <a:ext cx="720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0" y="2708280"/>
            <a:ext cx="57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к каждому из них применим формулу трапец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5076720" y="1989000"/>
            <a:ext cx="28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оизвольной дли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8" name=""/>
          <p:cNvGraphicFramePr/>
          <p:nvPr/>
        </p:nvGraphicFramePr>
        <p:xfrm>
          <a:off x="2987640" y="3019320"/>
          <a:ext cx="3390840" cy="1562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13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87640" y="3019320"/>
                    <a:ext cx="339084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0" name=""/>
          <p:cNvSpPr/>
          <p:nvPr/>
        </p:nvSpPr>
        <p:spPr>
          <a:xfrm>
            <a:off x="0" y="4653000"/>
            <a:ext cx="68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42" name=""/>
          <p:cNvGraphicFramePr/>
          <p:nvPr/>
        </p:nvGraphicFramePr>
        <p:xfrm>
          <a:off x="539640" y="4581360"/>
          <a:ext cx="685800" cy="457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143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4581360"/>
                    <a:ext cx="6858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4" name=""/>
          <p:cNvSpPr/>
          <p:nvPr/>
        </p:nvSpPr>
        <p:spPr>
          <a:xfrm>
            <a:off x="1440000" y="4653000"/>
            <a:ext cx="6661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Формула (40) называется общей формулой трапеци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0" y="5084640"/>
            <a:ext cx="6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7" name=""/>
              <p:cNvSpPr txBox="1"/>
              <p:nvPr/>
            </p:nvSpPr>
            <p:spPr>
              <a:xfrm>
                <a:off x="684360" y="5157720"/>
                <a:ext cx="35244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8" name=""/>
          <p:cNvSpPr/>
          <p:nvPr/>
        </p:nvSpPr>
        <p:spPr>
          <a:xfrm>
            <a:off x="1116000" y="508464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0" name=""/>
              <p:cNvSpPr txBox="1"/>
              <p:nvPr/>
            </p:nvSpPr>
            <p:spPr>
              <a:xfrm>
                <a:off x="1403280" y="5054760"/>
                <a:ext cx="157176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1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2" name=""/>
              <p:cNvSpPr txBox="1"/>
              <p:nvPr/>
            </p:nvSpPr>
            <p:spPr>
              <a:xfrm>
                <a:off x="2195640" y="5540400"/>
                <a:ext cx="17240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53" name=""/>
          <p:cNvSpPr/>
          <p:nvPr/>
        </p:nvSpPr>
        <p:spPr>
          <a:xfrm>
            <a:off x="4064040" y="5589720"/>
            <a:ext cx="49006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формула Симпсона (формула парабо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КОНТРОЛЬНЫЕ ВОПРОС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6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179280" y="836640"/>
            <a:ext cx="878544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 Что называется механической квадратуро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Что называется механической кубатуро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 Как называются формулы для приближенного вычисления однократных интегралов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 Запишите коэффициенты Коте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. Запишите квадратурную формулу Ньютона-Коте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6. Сформулируйте свойства коэффициентов Коте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7. Назовите основные частные случаи формулы Ньютона-Коте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8. Запишите формулу трапе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9. Запишите квадратурную формулу Симпс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0. Запишите общую формулу трапец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1. Чему равна погрешность формулы трапец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2. Чему равна погрешность квадратурной формулы Симпсон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1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ЧИСЛЕННОЕ ДИФФЕРЕНЦИРОВАНИЕ ФУНКЦ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квадратурная формула Гаусс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0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168" dur="2000" fill="hold"/>
                                        <p:tgtEl>
                                          <p:spTgt spid="2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1000" fill="hold"/>
                                        <p:tgtEl>
                                          <p:spTgt spid="2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1000" fill="hold"/>
                                        <p:tgtEl>
                                          <p:spTgt spid="2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1000" fill="hold"/>
                                        <p:tgtEl>
                                          <p:spTgt spid="2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1000" fill="hold"/>
                                        <p:tgtEl>
                                          <p:spTgt spid="2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0" y="1268280"/>
            <a:ext cx="3708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Полиномы в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0" y="260280"/>
            <a:ext cx="914400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ВАДРАТУРНАЯ ФОРМУЛА ГАУ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0" y="30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0" name=""/>
          <p:cNvGraphicFramePr/>
          <p:nvPr/>
        </p:nvGraphicFramePr>
        <p:xfrm>
          <a:off x="2863800" y="1555920"/>
          <a:ext cx="30765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3800" y="1555920"/>
                    <a:ext cx="30765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2" name=""/>
          <p:cNvSpPr/>
          <p:nvPr/>
        </p:nvSpPr>
        <p:spPr>
          <a:xfrm>
            <a:off x="0" y="31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3" name=""/>
          <p:cNvGraphicFramePr/>
          <p:nvPr/>
        </p:nvGraphicFramePr>
        <p:xfrm>
          <a:off x="395280" y="3257640"/>
          <a:ext cx="2705040" cy="31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3257640"/>
                    <a:ext cx="2705040" cy="3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5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6" name=""/>
          <p:cNvGraphicFramePr/>
          <p:nvPr/>
        </p:nvGraphicFramePr>
        <p:xfrm>
          <a:off x="395280" y="3787920"/>
          <a:ext cx="1590840" cy="504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3787920"/>
                    <a:ext cx="15908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8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79" name=""/>
          <p:cNvGraphicFramePr/>
          <p:nvPr/>
        </p:nvGraphicFramePr>
        <p:xfrm>
          <a:off x="2771640" y="3881520"/>
          <a:ext cx="49536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3881520"/>
                    <a:ext cx="495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1" name=""/>
          <p:cNvSpPr/>
          <p:nvPr/>
        </p:nvSpPr>
        <p:spPr>
          <a:xfrm>
            <a:off x="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2" name=""/>
          <p:cNvGraphicFramePr/>
          <p:nvPr/>
        </p:nvGraphicFramePr>
        <p:xfrm>
          <a:off x="6516720" y="3932280"/>
          <a:ext cx="142920" cy="19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16720" y="3932280"/>
                    <a:ext cx="14292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4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5" name=""/>
          <p:cNvGraphicFramePr/>
          <p:nvPr/>
        </p:nvGraphicFramePr>
        <p:xfrm>
          <a:off x="8101080" y="3932280"/>
          <a:ext cx="142920" cy="1522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01080" y="3932280"/>
                    <a:ext cx="14292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7" name=""/>
          <p:cNvSpPr/>
          <p:nvPr/>
        </p:nvSpPr>
        <p:spPr>
          <a:xfrm>
            <a:off x="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88" name=""/>
          <p:cNvGraphicFramePr/>
          <p:nvPr/>
        </p:nvGraphicFramePr>
        <p:xfrm>
          <a:off x="4211640" y="4506840"/>
          <a:ext cx="142920" cy="15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8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11640" y="4506840"/>
                    <a:ext cx="14292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0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1" name=""/>
          <p:cNvGraphicFramePr/>
          <p:nvPr/>
        </p:nvGraphicFramePr>
        <p:xfrm>
          <a:off x="2843280" y="4435560"/>
          <a:ext cx="457200" cy="266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9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43280" y="4435560"/>
                    <a:ext cx="4572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3" name=""/>
          <p:cNvSpPr/>
          <p:nvPr/>
        </p:nvSpPr>
        <p:spPr>
          <a:xfrm>
            <a:off x="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4" name=""/>
          <p:cNvGraphicFramePr/>
          <p:nvPr/>
        </p:nvGraphicFramePr>
        <p:xfrm>
          <a:off x="5364000" y="5083200"/>
          <a:ext cx="486000" cy="266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64000" y="5083200"/>
                    <a:ext cx="486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6" name=""/>
          <p:cNvSpPr/>
          <p:nvPr/>
        </p:nvSpPr>
        <p:spPr>
          <a:xfrm>
            <a:off x="0" y="2131920"/>
            <a:ext cx="457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зываются полиномами Лежанд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0" y="2708280"/>
            <a:ext cx="71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линомы Лежандра обладают следующими свойств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0" y="3257640"/>
            <a:ext cx="53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0" y="3859200"/>
            <a:ext cx="539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0" y="4435560"/>
            <a:ext cx="53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3276720" y="3257640"/>
            <a:ext cx="53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8280360" y="3859200"/>
            <a:ext cx="539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5940360" y="5083200"/>
            <a:ext cx="539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2050920" y="3859200"/>
            <a:ext cx="7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3348000" y="3859200"/>
            <a:ext cx="32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любой полином степ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6732720" y="3859200"/>
            <a:ext cx="1439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меньш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431640" y="4435560"/>
            <a:ext cx="24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лином Лежа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348000" y="4435560"/>
            <a:ext cx="93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ме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500720" y="4435560"/>
            <a:ext cx="4392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зличных и действитель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0" y="5083200"/>
            <a:ext cx="543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орней, которые расположены на интерва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0" y="5659560"/>
            <a:ext cx="838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войство 2 называется свойством ортогональности полиномов Лежанд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0" y="981000"/>
            <a:ext cx="255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ссмотрим функц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ВАДРАТУРНАЯ ФОРМУЛА ГАУ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8" name=""/>
          <p:cNvGraphicFramePr/>
          <p:nvPr/>
        </p:nvGraphicFramePr>
        <p:xfrm>
          <a:off x="2556000" y="1001880"/>
          <a:ext cx="685800" cy="26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1001880"/>
                    <a:ext cx="68580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1" name=""/>
          <p:cNvGraphicFramePr/>
          <p:nvPr/>
        </p:nvGraphicFramePr>
        <p:xfrm>
          <a:off x="5867280" y="1001880"/>
          <a:ext cx="457200" cy="26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001880"/>
                    <a:ext cx="45720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4" name=""/>
          <p:cNvGraphicFramePr/>
          <p:nvPr/>
        </p:nvGraphicFramePr>
        <p:xfrm>
          <a:off x="3059280" y="1390680"/>
          <a:ext cx="685800" cy="23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1390680"/>
                    <a:ext cx="6858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7" name=""/>
          <p:cNvGraphicFramePr/>
          <p:nvPr/>
        </p:nvGraphicFramePr>
        <p:xfrm>
          <a:off x="5867280" y="1390680"/>
          <a:ext cx="876600" cy="23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1390680"/>
                    <a:ext cx="8766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9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0" name=""/>
          <p:cNvGraphicFramePr/>
          <p:nvPr/>
        </p:nvGraphicFramePr>
        <p:xfrm>
          <a:off x="3564000" y="1989000"/>
          <a:ext cx="1571400" cy="505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64000" y="1989000"/>
                    <a:ext cx="157140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3" name=""/>
          <p:cNvGraphicFramePr/>
          <p:nvPr/>
        </p:nvGraphicFramePr>
        <p:xfrm>
          <a:off x="3851280" y="2657520"/>
          <a:ext cx="38088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51280" y="2657520"/>
                    <a:ext cx="3808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6" name=""/>
          <p:cNvGraphicFramePr/>
          <p:nvPr/>
        </p:nvGraphicFramePr>
        <p:xfrm>
          <a:off x="7885080" y="2708280"/>
          <a:ext cx="190440" cy="19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3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885080" y="2708280"/>
                    <a:ext cx="19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8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9" name=""/>
          <p:cNvGraphicFramePr/>
          <p:nvPr/>
        </p:nvGraphicFramePr>
        <p:xfrm>
          <a:off x="3708360" y="3068640"/>
          <a:ext cx="228600" cy="190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4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708360" y="3068640"/>
                    <a:ext cx="2286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2" name=""/>
          <p:cNvGraphicFramePr/>
          <p:nvPr/>
        </p:nvGraphicFramePr>
        <p:xfrm>
          <a:off x="5456160" y="3068640"/>
          <a:ext cx="123840" cy="23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4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456160" y="3068640"/>
                    <a:ext cx="1238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4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5" name=""/>
          <p:cNvGraphicFramePr/>
          <p:nvPr/>
        </p:nvGraphicFramePr>
        <p:xfrm>
          <a:off x="6084720" y="3068640"/>
          <a:ext cx="714600" cy="276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4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084720" y="3068640"/>
                    <a:ext cx="7146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8" name=""/>
          <p:cNvGraphicFramePr/>
          <p:nvPr/>
        </p:nvGraphicFramePr>
        <p:xfrm>
          <a:off x="1028880" y="3573360"/>
          <a:ext cx="447480" cy="1904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4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1028880" y="3573360"/>
                    <a:ext cx="44748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0" name=""/>
          <p:cNvSpPr/>
          <p:nvPr/>
        </p:nvSpPr>
        <p:spPr>
          <a:xfrm>
            <a:off x="3276720" y="981000"/>
            <a:ext cx="27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заданную на отрез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6372360" y="981000"/>
            <a:ext cx="255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Поставим задач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0" y="1341360"/>
            <a:ext cx="3203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ак нужно подобрать точ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3851280" y="1341360"/>
            <a:ext cx="20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коэффици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6804000" y="1341360"/>
            <a:ext cx="1081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что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0" y="1773360"/>
            <a:ext cx="284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вадратурная форму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0" y="2637000"/>
            <a:ext cx="3995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была точной для всех полином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4284720" y="2637000"/>
            <a:ext cx="3816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ивысшей возможной степ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8172360" y="263700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0" y="3068640"/>
            <a:ext cx="399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ак как в распоряжении име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995640" y="3068640"/>
            <a:ext cx="151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стоян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5724360" y="306864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6877080" y="3068640"/>
            <a:ext cx="151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а поли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0" y="3500280"/>
            <a:ext cx="1042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теп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1547640" y="3500280"/>
            <a:ext cx="172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преде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5" name=""/>
          <p:cNvGraphicFramePr/>
          <p:nvPr/>
        </p:nvGraphicFramePr>
        <p:xfrm>
          <a:off x="3276720" y="3573360"/>
          <a:ext cx="228600" cy="190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6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276720" y="3573360"/>
                    <a:ext cx="2286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7" name=""/>
          <p:cNvSpPr/>
          <p:nvPr/>
        </p:nvSpPr>
        <p:spPr>
          <a:xfrm>
            <a:off x="3564000" y="3500280"/>
            <a:ext cx="3995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оэффициентами. Полагая, ч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9" name=""/>
          <p:cNvGraphicFramePr/>
          <p:nvPr/>
        </p:nvGraphicFramePr>
        <p:xfrm>
          <a:off x="3276720" y="3787920"/>
          <a:ext cx="2009520" cy="5047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27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276720" y="3787920"/>
                    <a:ext cx="20095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1" name=""/>
          <p:cNvSpPr/>
          <p:nvPr/>
        </p:nvSpPr>
        <p:spPr>
          <a:xfrm>
            <a:off x="2556000" y="4221000"/>
            <a:ext cx="4321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                                                 (4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3" name=""/>
          <p:cNvGraphicFramePr/>
          <p:nvPr/>
        </p:nvGraphicFramePr>
        <p:xfrm>
          <a:off x="3635280" y="4402080"/>
          <a:ext cx="1152720" cy="466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27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635280" y="4402080"/>
                    <a:ext cx="115272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5" name=""/>
          <p:cNvSpPr/>
          <p:nvPr/>
        </p:nvSpPr>
        <p:spPr>
          <a:xfrm>
            <a:off x="0" y="5013360"/>
            <a:ext cx="183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будем иметь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7" name=""/>
          <p:cNvGraphicFramePr/>
          <p:nvPr/>
        </p:nvGraphicFramePr>
        <p:xfrm>
          <a:off x="2124000" y="5373720"/>
          <a:ext cx="5219640" cy="100008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278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2124000" y="5373720"/>
                    <a:ext cx="52196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9" name=""/>
          <p:cNvSpPr/>
          <p:nvPr/>
        </p:nvSpPr>
        <p:spPr>
          <a:xfrm>
            <a:off x="4859280" y="450864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0" y="765000"/>
            <a:ext cx="29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читывая соотнош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0" y="18900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ВАДРАТУРНАЯ ФОРМУЛА ГАУ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6" name=""/>
              <p:cNvSpPr txBox="1"/>
              <p:nvPr/>
            </p:nvSpPr>
            <p:spPr>
              <a:xfrm>
                <a:off x="3203640" y="836640"/>
                <a:ext cx="33051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k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k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den>
                              </m:f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если</m:t>
                              </m:r>
                              <m:r>
                                <m:t xml:space="preserve"> </m:t>
                              </m:r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четное</m:t>
                              </m:r>
                              <m:r>
                                <m:t xml:space="preserve">;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если</m:t>
                              </m:r>
                              <m:r>
                                <m:t xml:space="preserve"> </m:t>
                              </m:r>
                              <m:r>
                                <m:t xml:space="preserve">k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нечетное</m:t>
                              </m:r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7" name="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8" name=""/>
          <p:cNvGraphicFramePr/>
          <p:nvPr/>
        </p:nvGraphicFramePr>
        <p:xfrm>
          <a:off x="6804000" y="1630440"/>
          <a:ext cx="123840" cy="23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04000" y="1630440"/>
                    <a:ext cx="1238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0" name=""/>
          <p:cNvSpPr/>
          <p:nvPr/>
        </p:nvSpPr>
        <p:spPr>
          <a:xfrm>
            <a:off x="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1" name=""/>
          <p:cNvGraphicFramePr/>
          <p:nvPr/>
        </p:nvGraphicFramePr>
        <p:xfrm>
          <a:off x="7380360" y="1630440"/>
          <a:ext cx="190440" cy="23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1630440"/>
                    <a:ext cx="1904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3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4" name=""/>
          <p:cNvGraphicFramePr/>
          <p:nvPr/>
        </p:nvGraphicFramePr>
        <p:xfrm>
          <a:off x="1116000" y="1917720"/>
          <a:ext cx="228600" cy="19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1917720"/>
                    <a:ext cx="2286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6" name=""/>
          <p:cNvSpPr/>
          <p:nvPr/>
        </p:nvSpPr>
        <p:spPr>
          <a:xfrm>
            <a:off x="0" y="177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7" name=""/>
          <p:cNvGraphicFramePr/>
          <p:nvPr/>
        </p:nvGraphicFramePr>
        <p:xfrm>
          <a:off x="3301920" y="2133720"/>
          <a:ext cx="1486080" cy="2295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9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01920" y="2133720"/>
                    <a:ext cx="148608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9" name=""/>
          <p:cNvSpPr/>
          <p:nvPr/>
        </p:nvSpPr>
        <p:spPr>
          <a:xfrm>
            <a:off x="0" y="1557360"/>
            <a:ext cx="6877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аключаем, что для решения задачи достаточно определ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7020000" y="155736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7667640" y="1557360"/>
            <a:ext cx="1297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0" y="1917720"/>
            <a:ext cx="118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исте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1476360" y="1917720"/>
            <a:ext cx="14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равн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5219640" y="306864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0" y="4510080"/>
            <a:ext cx="4859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истема (42) – нелинейная, состоящая 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6" name=""/>
          <p:cNvGraphicFramePr/>
          <p:nvPr/>
        </p:nvGraphicFramePr>
        <p:xfrm>
          <a:off x="4788000" y="4581360"/>
          <a:ext cx="228600" cy="19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88000" y="4581360"/>
                    <a:ext cx="22860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8" name=""/>
          <p:cNvSpPr/>
          <p:nvPr/>
        </p:nvSpPr>
        <p:spPr>
          <a:xfrm>
            <a:off x="5076720" y="4510080"/>
            <a:ext cx="1582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равнений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9" name=""/>
          <p:cNvGraphicFramePr/>
          <p:nvPr/>
        </p:nvGraphicFramePr>
        <p:xfrm>
          <a:off x="6588000" y="4581360"/>
          <a:ext cx="228600" cy="190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4581360"/>
                    <a:ext cx="22860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1" name=""/>
          <p:cNvSpPr/>
          <p:nvPr/>
        </p:nvSpPr>
        <p:spPr>
          <a:xfrm>
            <a:off x="6877080" y="4510080"/>
            <a:ext cx="179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еизвестны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3" name=""/>
          <p:cNvGraphicFramePr/>
          <p:nvPr/>
        </p:nvGraphicFramePr>
        <p:xfrm>
          <a:off x="8604360" y="4510080"/>
          <a:ext cx="123840" cy="237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1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604360" y="4510080"/>
                    <a:ext cx="1238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5" name=""/>
          <p:cNvSpPr/>
          <p:nvPr/>
        </p:nvSpPr>
        <p:spPr>
          <a:xfrm>
            <a:off x="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6" name=""/>
          <p:cNvGraphicFramePr/>
          <p:nvPr/>
        </p:nvGraphicFramePr>
        <p:xfrm>
          <a:off x="324000" y="4881600"/>
          <a:ext cx="714240" cy="276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1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4000" y="4881600"/>
                    <a:ext cx="7142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8" name="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9" name=""/>
          <p:cNvGraphicFramePr/>
          <p:nvPr/>
        </p:nvGraphicFramePr>
        <p:xfrm>
          <a:off x="3824280" y="5160960"/>
          <a:ext cx="1324080" cy="428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2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24280" y="5160960"/>
                    <a:ext cx="132408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1" name=""/>
          <p:cNvSpPr/>
          <p:nvPr/>
        </p:nvSpPr>
        <p:spPr>
          <a:xfrm>
            <a:off x="0" y="486900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1116000" y="486900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1332000" y="4869000"/>
            <a:ext cx="781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Определитель этой системы является определителем Вандермон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0" y="5518080"/>
            <a:ext cx="2268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Формула (41), 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5" name=""/>
          <p:cNvGraphicFramePr/>
          <p:nvPr/>
        </p:nvGraphicFramePr>
        <p:xfrm>
          <a:off x="2124000" y="5589720"/>
          <a:ext cx="123840" cy="237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32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124000" y="5589720"/>
                    <a:ext cx="1238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7" name=""/>
          <p:cNvSpPr/>
          <p:nvPr/>
        </p:nvSpPr>
        <p:spPr>
          <a:xfrm>
            <a:off x="2340000" y="5516640"/>
            <a:ext cx="3384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нули полиномов Лежанд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29" name=""/>
          <p:cNvGraphicFramePr/>
          <p:nvPr/>
        </p:nvGraphicFramePr>
        <p:xfrm>
          <a:off x="5580000" y="5516640"/>
          <a:ext cx="41904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33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580000" y="5516640"/>
                    <a:ext cx="419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1" name=""/>
          <p:cNvSpPr/>
          <p:nvPr/>
        </p:nvSpPr>
        <p:spPr>
          <a:xfrm>
            <a:off x="6084720" y="551664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3" name=""/>
          <p:cNvGraphicFramePr/>
          <p:nvPr/>
        </p:nvGraphicFramePr>
        <p:xfrm>
          <a:off x="6372360" y="5529240"/>
          <a:ext cx="714240" cy="276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372360" y="5529240"/>
                    <a:ext cx="7142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5" name=""/>
          <p:cNvSpPr/>
          <p:nvPr/>
        </p:nvSpPr>
        <p:spPr>
          <a:xfrm>
            <a:off x="7164360" y="5516640"/>
            <a:ext cx="180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пределяю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0" y="5877000"/>
            <a:ext cx="896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з системы (42), называется квадратурной формулой Гау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0" y="981000"/>
            <a:ext cx="896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еудобство применения квадратурной формулы Гаусса состоит в том, ч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ВАДРАТУРНАЯ ФОРМУЛА ГАУ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3" name=""/>
          <p:cNvGraphicFramePr/>
          <p:nvPr/>
        </p:nvGraphicFramePr>
        <p:xfrm>
          <a:off x="1855800" y="1533600"/>
          <a:ext cx="123840" cy="23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533600"/>
                    <a:ext cx="1238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6" name=""/>
          <p:cNvGraphicFramePr/>
          <p:nvPr/>
        </p:nvGraphicFramePr>
        <p:xfrm>
          <a:off x="4067280" y="1533600"/>
          <a:ext cx="190440" cy="23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7280" y="1533600"/>
                    <a:ext cx="1904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8" name=""/>
          <p:cNvSpPr/>
          <p:nvPr/>
        </p:nvSpPr>
        <p:spPr>
          <a:xfrm>
            <a:off x="0" y="360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9" name=""/>
          <p:cNvGraphicFramePr/>
          <p:nvPr/>
        </p:nvGraphicFramePr>
        <p:xfrm>
          <a:off x="4643280" y="2716200"/>
          <a:ext cx="695520" cy="523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716200"/>
                    <a:ext cx="6955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1" name=""/>
          <p:cNvSpPr/>
          <p:nvPr/>
        </p:nvSpPr>
        <p:spPr>
          <a:xfrm>
            <a:off x="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2" name=""/>
          <p:cNvGraphicFramePr/>
          <p:nvPr/>
        </p:nvGraphicFramePr>
        <p:xfrm>
          <a:off x="3708360" y="3629160"/>
          <a:ext cx="1295280" cy="447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708360" y="3629160"/>
                    <a:ext cx="129528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4" name=""/>
          <p:cNvSpPr/>
          <p:nvPr/>
        </p:nvSpPr>
        <p:spPr>
          <a:xfrm>
            <a:off x="0" y="35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5" name=""/>
          <p:cNvGraphicFramePr/>
          <p:nvPr/>
        </p:nvGraphicFramePr>
        <p:xfrm>
          <a:off x="1979640" y="4341960"/>
          <a:ext cx="5153040" cy="599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9640" y="4341960"/>
                    <a:ext cx="515304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7" name=""/>
          <p:cNvSpPr/>
          <p:nvPr/>
        </p:nvSpPr>
        <p:spPr>
          <a:xfrm>
            <a:off x="0" y="1484280"/>
            <a:ext cx="190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абсциссы точе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2050920" y="1484280"/>
            <a:ext cx="20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коэффици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4356000" y="1484280"/>
            <a:ext cx="460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в общем случае иррациональ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0" y="1987560"/>
            <a:ext cx="896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числа. Этот недостаток отчасти искупается ее высокой точностью п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0" y="2419200"/>
            <a:ext cx="464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равнительно малом числе ордин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0" y="2860560"/>
            <a:ext cx="464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ля вычисления однократного интегра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5435640" y="2860560"/>
            <a:ext cx="352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 квадратурной форму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0" y="3413160"/>
            <a:ext cx="277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аусса делают замену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0" y="4197240"/>
            <a:ext cx="971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ог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7380360" y="4486320"/>
            <a:ext cx="97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4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8" name=""/>
          <p:cNvGraphicFramePr/>
          <p:nvPr/>
        </p:nvGraphicFramePr>
        <p:xfrm>
          <a:off x="611280" y="5207040"/>
          <a:ext cx="123840" cy="23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1280" y="5207040"/>
                    <a:ext cx="1238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1" name=""/>
          <p:cNvGraphicFramePr/>
          <p:nvPr/>
        </p:nvGraphicFramePr>
        <p:xfrm>
          <a:off x="3924360" y="5156280"/>
          <a:ext cx="466560" cy="2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7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924360" y="5156280"/>
                    <a:ext cx="4665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3" name=""/>
          <p:cNvSpPr/>
          <p:nvPr/>
        </p:nvSpPr>
        <p:spPr>
          <a:xfrm>
            <a:off x="0" y="5156280"/>
            <a:ext cx="611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900000" y="5156280"/>
            <a:ext cx="316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ули полинома Лежандр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4500720" y="5156280"/>
            <a:ext cx="358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0" y="5661000"/>
            <a:ext cx="896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оотношение (43) – квадратурная формула Гаусса для вычис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0" y="6093000"/>
            <a:ext cx="2916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днократного интегр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КОНТРОЛЬНЫЕ ВОПРОС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0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179280" y="836640"/>
            <a:ext cx="87854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Дайте определение полинома Лежанд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Запишите свойства полинома Лежанд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Какое свойство называется свойством ортогональности полинома Лежандр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Запишите квадратурную формулу Гаусс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Для какого отрезка интегрирования применяется квадратурная формула Гаусс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179280" y="2421000"/>
            <a:ext cx="5256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Из какой системы определяются коэффициен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8" name=""/>
              <p:cNvSpPr txBox="1"/>
              <p:nvPr/>
            </p:nvSpPr>
            <p:spPr>
              <a:xfrm>
                <a:off x="5208480" y="2492280"/>
                <a:ext cx="37152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9" name=""/>
          <p:cNvSpPr/>
          <p:nvPr/>
        </p:nvSpPr>
        <p:spPr>
          <a:xfrm>
            <a:off x="5580000" y="2421000"/>
            <a:ext cx="360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179280" y="2781360"/>
            <a:ext cx="878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В чем состоит неудобство применения квадратурной формулы Гаусс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Какая замена делается для вычисления двойного интеграла по квадратурной формуле Гаусса на произвольном отрезк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Запишите квадратурную формулу Гаусса для произвольного интеграл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179280" y="393372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Чем являются коэффициен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3" name=""/>
          <p:cNvGraphicFramePr/>
          <p:nvPr/>
        </p:nvGraphicFramePr>
        <p:xfrm>
          <a:off x="3594240" y="3992400"/>
          <a:ext cx="11412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94240" y="3992400"/>
                    <a:ext cx="11412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5" name=""/>
          <p:cNvSpPr/>
          <p:nvPr/>
        </p:nvSpPr>
        <p:spPr>
          <a:xfrm>
            <a:off x="3851280" y="393372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 квадратурной формуле Гаусс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115640" y="4111200"/>
            <a:ext cx="698508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СНОВНЫЕ ЭТАПЫ РЕШЕНИЯ НЕЛИНЕЙНЫХ УРАВ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67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1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БЛИЖЕННОЕ ИНТЕГРИРОВАНИЕ ФУНКЦ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приближенное вычисление несобственных интеграл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184" dur="2000" fill="hold"/>
                                        <p:tgtEl>
                                          <p:spTgt spid="2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1000" fill="hold"/>
                                        <p:tgtEl>
                                          <p:spTgt spid="2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1000" fill="hold"/>
                                        <p:tgtEl>
                                          <p:spTgt spid="2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1000" fill="hold"/>
                                        <p:tgtEl>
                                          <p:spTgt spid="2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1000" fill="hold"/>
                                        <p:tgtEl>
                                          <p:spTgt spid="2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0" y="1104840"/>
            <a:ext cx="3059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Интег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БЛИЖЕННОЕ ВЫЧИСЛЕНИЕ НЕСОБСТВЕННЫХ ИНТЕГР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4" name=""/>
          <p:cNvGraphicFramePr/>
          <p:nvPr/>
        </p:nvGraphicFramePr>
        <p:xfrm>
          <a:off x="2916360" y="960480"/>
          <a:ext cx="695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960480"/>
                    <a:ext cx="695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7" name=""/>
          <p:cNvGraphicFramePr/>
          <p:nvPr/>
        </p:nvGraphicFramePr>
        <p:xfrm>
          <a:off x="3564000" y="1700280"/>
          <a:ext cx="3906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1700280"/>
                    <a:ext cx="390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9" name=""/>
          <p:cNvGraphicFramePr/>
          <p:nvPr/>
        </p:nvGraphicFramePr>
        <p:xfrm>
          <a:off x="5549760" y="2419200"/>
          <a:ext cx="39060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49760" y="2419200"/>
                    <a:ext cx="3906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2" name=""/>
          <p:cNvGraphicFramePr/>
          <p:nvPr/>
        </p:nvGraphicFramePr>
        <p:xfrm>
          <a:off x="3276720" y="2440080"/>
          <a:ext cx="41904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76720" y="2440080"/>
                    <a:ext cx="419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5" name=""/>
          <p:cNvGraphicFramePr/>
          <p:nvPr/>
        </p:nvGraphicFramePr>
        <p:xfrm>
          <a:off x="4073400" y="3913200"/>
          <a:ext cx="714600" cy="523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73400" y="3913200"/>
                    <a:ext cx="71460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8" name=""/>
          <p:cNvGraphicFramePr/>
          <p:nvPr/>
        </p:nvGraphicFramePr>
        <p:xfrm>
          <a:off x="2124000" y="5210280"/>
          <a:ext cx="95256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1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24000" y="5210280"/>
                    <a:ext cx="952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0" name=""/>
          <p:cNvGraphicFramePr/>
          <p:nvPr/>
        </p:nvGraphicFramePr>
        <p:xfrm>
          <a:off x="4859280" y="5210280"/>
          <a:ext cx="952560" cy="52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59280" y="5210280"/>
                    <a:ext cx="9525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2" name=""/>
          <p:cNvSpPr/>
          <p:nvPr/>
        </p:nvSpPr>
        <p:spPr>
          <a:xfrm>
            <a:off x="3708360" y="1103400"/>
            <a:ext cx="367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зывается собственным, есл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0" y="1700280"/>
            <a:ext cx="367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) Промежуток интегр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4067280" y="1700280"/>
            <a:ext cx="1225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онече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0" y="2419200"/>
            <a:ext cx="34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) Подынтегральная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3708360" y="2419200"/>
            <a:ext cx="1871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епрерывна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6012000" y="241920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0" y="2995560"/>
            <a:ext cx="680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 противном случае, интеграл называется несобствен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0" y="3697200"/>
            <a:ext cx="3203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. Несобственный интегра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5148360" y="3984480"/>
            <a:ext cx="863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4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0" y="4653000"/>
            <a:ext cx="896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Определение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Интеграл (44) называется сходящимся, если существу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0" y="5353200"/>
            <a:ext cx="20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онечный пред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3132000" y="5353200"/>
            <a:ext cx="180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 Если преде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867280" y="5353200"/>
            <a:ext cx="237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не существует,  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0" y="6019920"/>
            <a:ext cx="507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нтеграл (44) называется расходящим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0" y="981000"/>
            <a:ext cx="8388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ычисление сходящегося несобственного интеграла с заданной точ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БЛИЖЕННОЕ ВЫЧИСЛЕНИЕ НЕСОБСТВЕННЫХ ИНТЕГР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2" name=""/>
          <p:cNvGraphicFramePr/>
          <p:nvPr/>
        </p:nvGraphicFramePr>
        <p:xfrm>
          <a:off x="8317080" y="1052640"/>
          <a:ext cx="123480" cy="15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7080" y="1052640"/>
                    <a:ext cx="123480" cy="15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5" name=""/>
          <p:cNvGraphicFramePr/>
          <p:nvPr/>
        </p:nvGraphicFramePr>
        <p:xfrm>
          <a:off x="3203640" y="1268280"/>
          <a:ext cx="2361960" cy="5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1268280"/>
                    <a:ext cx="236196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7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8" name=""/>
          <p:cNvGraphicFramePr/>
          <p:nvPr/>
        </p:nvGraphicFramePr>
        <p:xfrm>
          <a:off x="3635280" y="1916280"/>
          <a:ext cx="128592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35280" y="1916280"/>
                    <a:ext cx="12859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1" name=""/>
          <p:cNvGraphicFramePr/>
          <p:nvPr/>
        </p:nvGraphicFramePr>
        <p:xfrm>
          <a:off x="2916360" y="2637000"/>
          <a:ext cx="390240" cy="26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6360" y="2637000"/>
                    <a:ext cx="39024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6" name=""/>
          <p:cNvGraphicFramePr/>
          <p:nvPr/>
        </p:nvGraphicFramePr>
        <p:xfrm>
          <a:off x="5694480" y="2695680"/>
          <a:ext cx="39024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5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94480" y="2695680"/>
                    <a:ext cx="3902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8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9" name=""/>
          <p:cNvGraphicFramePr/>
          <p:nvPr/>
        </p:nvGraphicFramePr>
        <p:xfrm>
          <a:off x="3780000" y="3132000"/>
          <a:ext cx="123840" cy="15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780000" y="3132000"/>
                    <a:ext cx="12384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1" name="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2" name=""/>
          <p:cNvGraphicFramePr/>
          <p:nvPr/>
        </p:nvGraphicFramePr>
        <p:xfrm>
          <a:off x="2855880" y="3500280"/>
          <a:ext cx="3228840" cy="657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6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55880" y="3500280"/>
                    <a:ext cx="3228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4" name=""/>
          <p:cNvSpPr/>
          <p:nvPr/>
        </p:nvSpPr>
        <p:spPr>
          <a:xfrm>
            <a:off x="5796000" y="134136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4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>
            <a:off x="8532720" y="98100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>
            <a:off x="0" y="1773360"/>
            <a:ext cx="1042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ог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>
            <a:off x="0" y="2637000"/>
            <a:ext cx="298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I.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Допустим, что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3419640" y="2637000"/>
            <a:ext cx="230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онечен, а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6156360" y="2637000"/>
            <a:ext cx="280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меет конечное чис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>
            <a:off x="0" y="3068640"/>
            <a:ext cx="378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очек разрыва на отрезке. 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>
            <a:off x="3924360" y="3068640"/>
            <a:ext cx="504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нутренняя точка отрезка, то полага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>
            <a:off x="6300720" y="3645000"/>
            <a:ext cx="1042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4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>
            <a:off x="0" y="4292640"/>
            <a:ext cx="838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в случае существования этого предела интеграл называют сходящимся, в противном случае – расходящим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 Black"/>
              </a:rPr>
              <a:t>КУБАТУРНЫЕ ФОРМУЛЫ ТИПА СИМПС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3132000" y="1411200"/>
            <a:ext cx="0" cy="32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>
            <a:off x="3132000" y="4651200"/>
            <a:ext cx="424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826560" y="4651200"/>
            <a:ext cx="230508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8" name=""/>
              <p:cNvSpPr txBox="1"/>
              <p:nvPr/>
            </p:nvSpPr>
            <p:spPr>
              <a:xfrm>
                <a:off x="2771640" y="1413000"/>
                <a:ext cx="20340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9" name=""/>
              <p:cNvSpPr txBox="1"/>
              <p:nvPr/>
            </p:nvSpPr>
            <p:spPr>
              <a:xfrm>
                <a:off x="2771640" y="4325760"/>
                <a:ext cx="20340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0" name=""/>
              <p:cNvSpPr txBox="1"/>
              <p:nvPr/>
            </p:nvSpPr>
            <p:spPr>
              <a:xfrm>
                <a:off x="1033560" y="6318360"/>
                <a:ext cx="22392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1" name=""/>
          <p:cNvSpPr/>
          <p:nvPr/>
        </p:nvSpPr>
        <p:spPr>
          <a:xfrm>
            <a:off x="3048120" y="1979640"/>
            <a:ext cx="5052960" cy="681120"/>
          </a:xfrm>
          <a:custGeom>
            <a:avLst/>
            <a:gdLst/>
            <a:ahLst/>
            <a:rect l="l" t="t" r="r" b="b"/>
            <a:pathLst>
              <a:path w="3183" h="429">
                <a:moveTo>
                  <a:pt x="45" y="0"/>
                </a:moveTo>
                <a:cubicBezTo>
                  <a:pt x="49" y="16"/>
                  <a:pt x="0" y="38"/>
                  <a:pt x="67" y="88"/>
                </a:cubicBezTo>
                <a:cubicBezTo>
                  <a:pt x="134" y="138"/>
                  <a:pt x="155" y="248"/>
                  <a:pt x="447" y="301"/>
                </a:cubicBezTo>
                <a:cubicBezTo>
                  <a:pt x="739" y="354"/>
                  <a:pt x="1358" y="386"/>
                  <a:pt x="1814" y="407"/>
                </a:cubicBezTo>
                <a:cubicBezTo>
                  <a:pt x="2270" y="429"/>
                  <a:pt x="2967" y="425"/>
                  <a:pt x="3183" y="429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6524640" y="2660760"/>
            <a:ext cx="1576440" cy="1488960"/>
          </a:xfrm>
          <a:custGeom>
            <a:avLst/>
            <a:gdLst/>
            <a:ahLst/>
            <a:rect l="l" t="t" r="r" b="b"/>
            <a:pathLst>
              <a:path w="681" h="771">
                <a:moveTo>
                  <a:pt x="681" y="0"/>
                </a:moveTo>
                <a:cubicBezTo>
                  <a:pt x="605" y="22"/>
                  <a:pt x="530" y="45"/>
                  <a:pt x="454" y="90"/>
                </a:cubicBezTo>
                <a:cubicBezTo>
                  <a:pt x="378" y="135"/>
                  <a:pt x="288" y="204"/>
                  <a:pt x="227" y="272"/>
                </a:cubicBezTo>
                <a:cubicBezTo>
                  <a:pt x="166" y="340"/>
                  <a:pt x="129" y="416"/>
                  <a:pt x="91" y="499"/>
                </a:cubicBezTo>
                <a:cubicBezTo>
                  <a:pt x="53" y="582"/>
                  <a:pt x="26" y="676"/>
                  <a:pt x="0" y="771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rot="11409600">
            <a:off x="1465200" y="3498480"/>
            <a:ext cx="5192640" cy="150840"/>
          </a:xfrm>
          <a:custGeom>
            <a:avLst/>
            <a:gdLst/>
            <a:ahLst/>
            <a:rect l="l" t="t" r="r" b="b"/>
            <a:pathLst>
              <a:path w="1898" h="998">
                <a:moveTo>
                  <a:pt x="38" y="0"/>
                </a:moveTo>
                <a:cubicBezTo>
                  <a:pt x="19" y="75"/>
                  <a:pt x="0" y="151"/>
                  <a:pt x="38" y="272"/>
                </a:cubicBezTo>
                <a:cubicBezTo>
                  <a:pt x="76" y="393"/>
                  <a:pt x="91" y="612"/>
                  <a:pt x="265" y="725"/>
                </a:cubicBezTo>
                <a:cubicBezTo>
                  <a:pt x="439" y="838"/>
                  <a:pt x="809" y="907"/>
                  <a:pt x="1081" y="952"/>
                </a:cubicBezTo>
                <a:cubicBezTo>
                  <a:pt x="1353" y="997"/>
                  <a:pt x="1769" y="990"/>
                  <a:pt x="1898" y="998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>
            <a:off x="1581120" y="2033640"/>
            <a:ext cx="1517760" cy="1035000"/>
          </a:xfrm>
          <a:custGeom>
            <a:avLst/>
            <a:gdLst/>
            <a:ahLst/>
            <a:rect l="l" t="t" r="r" b="b"/>
            <a:pathLst>
              <a:path w="956" h="652">
                <a:moveTo>
                  <a:pt x="0" y="652"/>
                </a:moveTo>
                <a:cubicBezTo>
                  <a:pt x="111" y="631"/>
                  <a:pt x="220" y="610"/>
                  <a:pt x="331" y="567"/>
                </a:cubicBezTo>
                <a:cubicBezTo>
                  <a:pt x="442" y="525"/>
                  <a:pt x="573" y="460"/>
                  <a:pt x="662" y="396"/>
                </a:cubicBezTo>
                <a:cubicBezTo>
                  <a:pt x="751" y="332"/>
                  <a:pt x="811" y="248"/>
                  <a:pt x="860" y="182"/>
                </a:cubicBezTo>
                <a:cubicBezTo>
                  <a:pt x="909" y="116"/>
                  <a:pt x="936" y="38"/>
                  <a:pt x="956" y="0"/>
                </a:cubicBezTo>
              </a:path>
            </a:pathLst>
          </a:custGeom>
          <a:noFill/>
          <a:ln w="255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>
            <a:off x="4516560" y="2637000"/>
            <a:ext cx="1423800" cy="384120"/>
          </a:xfrm>
          <a:custGeom>
            <a:avLst/>
            <a:gdLst/>
            <a:ahLst/>
            <a:rect l="l" t="t" r="r" b="b"/>
            <a:pathLst>
              <a:path w="1898" h="998">
                <a:moveTo>
                  <a:pt x="38" y="0"/>
                </a:moveTo>
                <a:cubicBezTo>
                  <a:pt x="19" y="75"/>
                  <a:pt x="0" y="151"/>
                  <a:pt x="38" y="272"/>
                </a:cubicBezTo>
                <a:cubicBezTo>
                  <a:pt x="76" y="393"/>
                  <a:pt x="91" y="612"/>
                  <a:pt x="265" y="725"/>
                </a:cubicBezTo>
                <a:cubicBezTo>
                  <a:pt x="439" y="838"/>
                  <a:pt x="809" y="907"/>
                  <a:pt x="1081" y="952"/>
                </a:cubicBezTo>
                <a:cubicBezTo>
                  <a:pt x="1353" y="997"/>
                  <a:pt x="1769" y="990"/>
                  <a:pt x="1898" y="998"/>
                </a:cubicBezTo>
              </a:path>
            </a:pathLst>
          </a:custGeom>
          <a:noFill/>
          <a:ln w="63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>
            <a:off x="5495760" y="3021120"/>
            <a:ext cx="444600" cy="623880"/>
          </a:xfrm>
          <a:custGeom>
            <a:avLst/>
            <a:gdLst/>
            <a:ahLst/>
            <a:rect l="l" t="t" r="r" b="b"/>
            <a:pathLst>
              <a:path w="681" h="771">
                <a:moveTo>
                  <a:pt x="681" y="0"/>
                </a:moveTo>
                <a:cubicBezTo>
                  <a:pt x="605" y="22"/>
                  <a:pt x="530" y="45"/>
                  <a:pt x="454" y="90"/>
                </a:cubicBezTo>
                <a:cubicBezTo>
                  <a:pt x="378" y="135"/>
                  <a:pt x="288" y="204"/>
                  <a:pt x="227" y="272"/>
                </a:cubicBezTo>
                <a:cubicBezTo>
                  <a:pt x="166" y="340"/>
                  <a:pt x="129" y="416"/>
                  <a:pt x="91" y="499"/>
                </a:cubicBezTo>
                <a:cubicBezTo>
                  <a:pt x="53" y="582"/>
                  <a:pt x="26" y="676"/>
                  <a:pt x="0" y="771"/>
                </a:cubicBezTo>
              </a:path>
            </a:pathLst>
          </a:custGeom>
          <a:noFill/>
          <a:ln w="63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rot="11409600">
            <a:off x="3997080" y="3422160"/>
            <a:ext cx="1538280" cy="101880"/>
          </a:xfrm>
          <a:custGeom>
            <a:avLst/>
            <a:gdLst/>
            <a:ahLst/>
            <a:rect l="l" t="t" r="r" b="b"/>
            <a:pathLst>
              <a:path w="1898" h="998">
                <a:moveTo>
                  <a:pt x="38" y="0"/>
                </a:moveTo>
                <a:cubicBezTo>
                  <a:pt x="19" y="75"/>
                  <a:pt x="0" y="151"/>
                  <a:pt x="38" y="272"/>
                </a:cubicBezTo>
                <a:cubicBezTo>
                  <a:pt x="76" y="393"/>
                  <a:pt x="91" y="612"/>
                  <a:pt x="265" y="725"/>
                </a:cubicBezTo>
                <a:cubicBezTo>
                  <a:pt x="439" y="838"/>
                  <a:pt x="809" y="907"/>
                  <a:pt x="1081" y="952"/>
                </a:cubicBezTo>
                <a:cubicBezTo>
                  <a:pt x="1353" y="997"/>
                  <a:pt x="1769" y="990"/>
                  <a:pt x="1898" y="998"/>
                </a:cubicBezTo>
              </a:path>
            </a:pathLst>
          </a:custGeom>
          <a:noFill/>
          <a:ln w="63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rot="10800000">
            <a:off x="3995640" y="2636640"/>
            <a:ext cx="550800" cy="647640"/>
          </a:xfrm>
          <a:custGeom>
            <a:avLst/>
            <a:gdLst/>
            <a:ahLst/>
            <a:rect l="l" t="t" r="r" b="b"/>
            <a:pathLst>
              <a:path w="681" h="771">
                <a:moveTo>
                  <a:pt x="681" y="0"/>
                </a:moveTo>
                <a:cubicBezTo>
                  <a:pt x="605" y="22"/>
                  <a:pt x="530" y="45"/>
                  <a:pt x="454" y="90"/>
                </a:cubicBezTo>
                <a:cubicBezTo>
                  <a:pt x="378" y="135"/>
                  <a:pt x="288" y="204"/>
                  <a:pt x="227" y="272"/>
                </a:cubicBezTo>
                <a:cubicBezTo>
                  <a:pt x="166" y="340"/>
                  <a:pt x="129" y="416"/>
                  <a:pt x="91" y="499"/>
                </a:cubicBezTo>
                <a:cubicBezTo>
                  <a:pt x="53" y="582"/>
                  <a:pt x="26" y="676"/>
                  <a:pt x="0" y="771"/>
                </a:cubicBezTo>
              </a:path>
            </a:pathLst>
          </a:custGeom>
          <a:noFill/>
          <a:ln w="6336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1511280" y="2997360"/>
            <a:ext cx="108000" cy="11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>
            <a:off x="3065400" y="1968480"/>
            <a:ext cx="108000" cy="11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6480000" y="4040280"/>
            <a:ext cx="108000" cy="1108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7993080" y="2597040"/>
            <a:ext cx="108000" cy="1112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133200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4500720" y="5157720"/>
            <a:ext cx="1439640" cy="0"/>
          </a:xfrm>
          <a:prstGeom prst="line">
            <a:avLst/>
          </a:prstGeom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 flipH="1">
            <a:off x="4500360" y="2637000"/>
            <a:ext cx="36360" cy="2520720"/>
          </a:xfrm>
          <a:prstGeom prst="line">
            <a:avLst/>
          </a:prstGeom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 flipH="1">
            <a:off x="5940000" y="2997360"/>
            <a:ext cx="1800" cy="863280"/>
          </a:xfrm>
          <a:prstGeom prst="line">
            <a:avLst/>
          </a:prstGeom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>
            <a:off x="5940360" y="3860640"/>
            <a:ext cx="0" cy="1297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5492880" y="3645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>
            <a:off x="5491080" y="3789360"/>
            <a:ext cx="0" cy="2087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3997440" y="3284640"/>
            <a:ext cx="0" cy="215640"/>
          </a:xfrm>
          <a:prstGeom prst="line">
            <a:avLst/>
          </a:prstGeom>
          <a:ln w="63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3995640" y="3500280"/>
            <a:ext cx="0" cy="237672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H="1">
            <a:off x="5508360" y="5157720"/>
            <a:ext cx="431640" cy="719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3995640" y="5877000"/>
            <a:ext cx="1513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3995640" y="5157720"/>
            <a:ext cx="505080" cy="719280"/>
          </a:xfrm>
          <a:prstGeom prst="line">
            <a:avLst/>
          </a:prstGeom>
          <a:ln w="63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5" name=""/>
              <p:cNvSpPr txBox="1"/>
              <p:nvPr/>
            </p:nvSpPr>
            <p:spPr>
              <a:xfrm>
                <a:off x="4757760" y="5353200"/>
                <a:ext cx="2635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6" name=""/>
          <p:cNvSpPr/>
          <p:nvPr/>
        </p:nvSpPr>
        <p:spPr>
          <a:xfrm flipV="1">
            <a:off x="5508720" y="4581000"/>
            <a:ext cx="79200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7" name=""/>
              <p:cNvSpPr txBox="1"/>
              <p:nvPr/>
            </p:nvSpPr>
            <p:spPr>
              <a:xfrm>
                <a:off x="4859280" y="4292640"/>
                <a:ext cx="20340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8" name=""/>
              <p:cNvSpPr txBox="1"/>
              <p:nvPr/>
            </p:nvSpPr>
            <p:spPr>
              <a:xfrm>
                <a:off x="6208560" y="4273560"/>
                <a:ext cx="2430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9" name=""/>
              <p:cNvSpPr txBox="1"/>
              <p:nvPr/>
            </p:nvSpPr>
            <p:spPr>
              <a:xfrm>
                <a:off x="1022400" y="5568840"/>
                <a:ext cx="244440" cy="2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0" name=""/>
              <p:cNvSpPr txBox="1"/>
              <p:nvPr/>
            </p:nvSpPr>
            <p:spPr>
              <a:xfrm>
                <a:off x="1979640" y="4911840"/>
                <a:ext cx="20304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1" name=""/>
          <p:cNvSpPr/>
          <p:nvPr/>
        </p:nvSpPr>
        <p:spPr>
          <a:xfrm>
            <a:off x="6377040" y="1874880"/>
            <a:ext cx="914400" cy="609480"/>
          </a:xfrm>
          <a:noFill/>
          <a:ln w="9360">
            <a:solidFill>
              <a:srgbClr val="ffffff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2" name=""/>
              <p:cNvSpPr txBox="1"/>
              <p:nvPr/>
            </p:nvSpPr>
            <p:spPr>
              <a:xfrm>
                <a:off x="7245360" y="4816440"/>
                <a:ext cx="20304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13" name=""/>
          <p:cNvSpPr/>
          <p:nvPr/>
        </p:nvSpPr>
        <p:spPr>
          <a:xfrm>
            <a:off x="6084720" y="1557360"/>
            <a:ext cx="1440000" cy="576360"/>
          </a:xfrm>
          <a:prstGeom prst="wedgeRectCallout">
            <a:avLst>
              <a:gd name="adj1" fmla="val -130703"/>
              <a:gd name="adj2" fmla="val 235949"/>
            </a:avLst>
          </a:prstGeom>
          <a:noFill/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4" name=""/>
              <p:cNvSpPr txBox="1"/>
              <p:nvPr/>
            </p:nvSpPr>
            <p:spPr>
              <a:xfrm>
                <a:off x="6372360" y="1744560"/>
                <a:ext cx="792000" cy="2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15" name=""/>
          <p:cNvSpPr/>
          <p:nvPr/>
        </p:nvSpPr>
        <p:spPr>
          <a:xfrm>
            <a:off x="2340000" y="515772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 flipV="1">
            <a:off x="3995640" y="4581000"/>
            <a:ext cx="8636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0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2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2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2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4" dur="500"/>
                                        <p:tgtEl>
                                          <p:spTgt spid="2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7" dur="500"/>
                                        <p:tgtEl>
                                          <p:spTgt spid="2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0" dur="500"/>
                                        <p:tgtEl>
                                          <p:spTgt spid="2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3" dur="500"/>
                                        <p:tgtEl>
                                          <p:spTgt spid="2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2000" fill="hold"/>
                                        <p:tgtEl>
                                          <p:spTgt spid="2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2000" fill="hold"/>
                                        <p:tgtEl>
                                          <p:spTgt spid="2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2000" fill="hold"/>
                                        <p:tgtEl>
                                          <p:spTgt spid="2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2000" fill="hold"/>
                                        <p:tgtEl>
                                          <p:spTgt spid="2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20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2000" fill="hold"/>
                                        <p:tgtEl>
                                          <p:spTgt spid="2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2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2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4" dur="2000"/>
                                        <p:tgtEl>
                                          <p:spTgt spid="2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7" dur="20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0" dur="2000"/>
                                        <p:tgtEl>
                                          <p:spTgt spid="2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3" dur="2000"/>
                                        <p:tgtEl>
                                          <p:spTgt spid="2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7" dur="500"/>
                                        <p:tgtEl>
                                          <p:spTgt spid="2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0" dur="500"/>
                                        <p:tgtEl>
                                          <p:spTgt spid="2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3" dur="500"/>
                                        <p:tgtEl>
                                          <p:spTgt spid="2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6" dur="500"/>
                                        <p:tgtEl>
                                          <p:spTgt spid="2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9" dur="10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3" dur="500"/>
                                        <p:tgtEl>
                                          <p:spTgt spid="2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6500"/>
                            </p:stCondLst>
                            <p:childTnLst>
                              <p:par>
                                <p:cTn id="1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7" dur="500"/>
                                        <p:tgtEl>
                                          <p:spTgt spid="2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1" dur="5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8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5" dur="500"/>
                                        <p:tgtEl>
                                          <p:spTgt spid="2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9" dur="500"/>
                                        <p:tgtEl>
                                          <p:spTgt spid="2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2" dur="5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5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8" dur="5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2000" fill="hold"/>
                                        <p:tgtEl>
                                          <p:spTgt spid="2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2000" fill="hold"/>
                                        <p:tgtEl>
                                          <p:spTgt spid="2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2000" fill="hold"/>
                                        <p:tgtEl>
                                          <p:spTgt spid="2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2000" fill="hold"/>
                                        <p:tgtEl>
                                          <p:spTgt spid="2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2000" fill="hold"/>
                                        <p:tgtEl>
                                          <p:spTgt spid="2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2000" fill="hold"/>
                                        <p:tgtEl>
                                          <p:spTgt spid="2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2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20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9" dur="2000"/>
                                        <p:tgtEl>
                                          <p:spTgt spid="2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2000"/>
                                        <p:tgtEl>
                                          <p:spTgt spid="2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5" dur="2000"/>
                                        <p:tgtEl>
                                          <p:spTgt spid="2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9" dur="2000"/>
                                        <p:tgtEl>
                                          <p:spTgt spid="2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2" dur="2000"/>
                                        <p:tgtEl>
                                          <p:spTgt spid="2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5" dur="20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20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2000"/>
                                        <p:tgtEl>
                                          <p:spTgt spid="2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5" dur="500"/>
                                        <p:tgtEl>
                                          <p:spTgt spid="2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0" y="83664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ак как двойной интеграл вычисляется через повторный, то при приближенном вычислении двойного интеграла можно использовать, например, квадратурную формулу Симпсо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0" y="18900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БЛИЖЕННОЕ ВЫЧИСЛЕНИЕ ДВОЙНЫХ ИНТЕГР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23" name=""/>
          <p:cNvGraphicFramePr/>
          <p:nvPr/>
        </p:nvGraphicFramePr>
        <p:xfrm>
          <a:off x="1692360" y="1628640"/>
          <a:ext cx="106668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106668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26" name=""/>
          <p:cNvGraphicFramePr/>
          <p:nvPr/>
        </p:nvGraphicFramePr>
        <p:xfrm>
          <a:off x="4427640" y="1700280"/>
          <a:ext cx="190440" cy="1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1700280"/>
                    <a:ext cx="1904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29" name=""/>
          <p:cNvGraphicFramePr/>
          <p:nvPr/>
        </p:nvGraphicFramePr>
        <p:xfrm>
          <a:off x="3506760" y="1989000"/>
          <a:ext cx="185724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6760" y="1989000"/>
                    <a:ext cx="18572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2" name=""/>
          <p:cNvGraphicFramePr/>
          <p:nvPr/>
        </p:nvGraphicFramePr>
        <p:xfrm>
          <a:off x="1908000" y="2276640"/>
          <a:ext cx="428760" cy="26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08000" y="2276640"/>
                    <a:ext cx="42876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5" name=""/>
          <p:cNvGraphicFramePr/>
          <p:nvPr/>
        </p:nvGraphicFramePr>
        <p:xfrm>
          <a:off x="2627280" y="2276640"/>
          <a:ext cx="419040" cy="266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2276640"/>
                    <a:ext cx="41904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8" name=""/>
          <p:cNvGraphicFramePr/>
          <p:nvPr/>
        </p:nvGraphicFramePr>
        <p:xfrm>
          <a:off x="3151080" y="2637000"/>
          <a:ext cx="2428920" cy="523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3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51080" y="2637000"/>
                    <a:ext cx="242892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0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41" name=""/>
          <p:cNvGraphicFramePr/>
          <p:nvPr/>
        </p:nvGraphicFramePr>
        <p:xfrm>
          <a:off x="617400" y="3068640"/>
          <a:ext cx="714600" cy="447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4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400" y="3068640"/>
                    <a:ext cx="7146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3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4" name=""/>
              <p:cNvSpPr txBox="1"/>
              <p:nvPr/>
            </p:nvSpPr>
            <p:spPr>
              <a:xfrm>
                <a:off x="1619280" y="3068640"/>
                <a:ext cx="7142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5" name=""/>
          <p:cNvSpPr/>
          <p:nvPr/>
        </p:nvSpPr>
        <p:spPr>
          <a:xfrm>
            <a:off x="0" y="1628640"/>
            <a:ext cx="16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) Вычисл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>
            <a:off x="4716360" y="1628640"/>
            <a:ext cx="30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это прямоугольник ви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2771640" y="1628640"/>
            <a:ext cx="1692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где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0" y="2276640"/>
            <a:ext cx="197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аждый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>
            <a:off x="2411280" y="2276640"/>
            <a:ext cx="289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>
            <a:off x="3203640" y="2276640"/>
            <a:ext cx="3168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зобьем пополам точк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>
            <a:off x="0" y="3139920"/>
            <a:ext cx="61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1403280" y="313992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2411280" y="3139920"/>
            <a:ext cx="28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3573360"/>
            <a:ext cx="8964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списав двойной интеграл через повторный, и применив два раза квадратурную формулу Симпсона, получим кубатурную формулу Симпсо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6" name=""/>
              <p:cNvSpPr txBox="1"/>
              <p:nvPr/>
            </p:nvSpPr>
            <p:spPr>
              <a:xfrm>
                <a:off x="1187280" y="4390920"/>
                <a:ext cx="67438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∬"/>
                            <m:supHide m:val="1"/>
                          </m:naryPr>
                          <m:sub>
                            <m:r>
                              <m:t xml:space="preserve">D</m:t>
                            </m:r>
                          </m:sub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dy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A</m:t>
                                    </m:r>
                                  </m:sup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0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A</m:t>
                                    </m:r>
                                  </m:sup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A</m:t>
                                    </m:r>
                                  </m:sup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x</m:t>
                                    </m:r>
                                  </m:e>
                                </m:nary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k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57" name=""/>
          <p:cNvSpPr/>
          <p:nvPr/>
        </p:nvSpPr>
        <p:spPr>
          <a:xfrm>
            <a:off x="8101080" y="4533840"/>
            <a:ext cx="64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5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>
            <a:off x="0" y="981000"/>
            <a:ext cx="14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)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26028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БЛИЖЕННОЕ ВЫЧИСЛЕНИЕ ДВОЙНЫХ ИНТЕГРА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4" name=""/>
          <p:cNvGraphicFramePr/>
          <p:nvPr/>
        </p:nvGraphicFramePr>
        <p:xfrm>
          <a:off x="1332000" y="981000"/>
          <a:ext cx="42840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981000"/>
                    <a:ext cx="428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7" name=""/>
          <p:cNvGraphicFramePr/>
          <p:nvPr/>
        </p:nvGraphicFramePr>
        <p:xfrm>
          <a:off x="3406680" y="1006560"/>
          <a:ext cx="228600" cy="1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06680" y="1006560"/>
                    <a:ext cx="2286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0" name=""/>
          <p:cNvGraphicFramePr/>
          <p:nvPr/>
        </p:nvGraphicFramePr>
        <p:xfrm>
          <a:off x="6443640" y="981000"/>
          <a:ext cx="41904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981000"/>
                    <a:ext cx="419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2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3" name=""/>
          <p:cNvGraphicFramePr/>
          <p:nvPr/>
        </p:nvGraphicFramePr>
        <p:xfrm>
          <a:off x="7596360" y="1006560"/>
          <a:ext cx="266400" cy="19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6360" y="1006560"/>
                    <a:ext cx="2664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6" name=""/>
          <p:cNvGraphicFramePr/>
          <p:nvPr/>
        </p:nvGraphicFramePr>
        <p:xfrm>
          <a:off x="3425760" y="1243080"/>
          <a:ext cx="71460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5760" y="1243080"/>
                    <a:ext cx="714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9" name=""/>
          <p:cNvGraphicFramePr/>
          <p:nvPr/>
        </p:nvGraphicFramePr>
        <p:xfrm>
          <a:off x="4572000" y="1243080"/>
          <a:ext cx="71424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8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0" y="1243080"/>
                    <a:ext cx="714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1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2" name=""/>
          <p:cNvGraphicFramePr/>
          <p:nvPr/>
        </p:nvGraphicFramePr>
        <p:xfrm>
          <a:off x="2987640" y="2421000"/>
          <a:ext cx="2371680" cy="495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8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987640" y="2421000"/>
                    <a:ext cx="23716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5" name=""/>
          <p:cNvGraphicFramePr/>
          <p:nvPr/>
        </p:nvGraphicFramePr>
        <p:xfrm>
          <a:off x="1042920" y="3068640"/>
          <a:ext cx="190440" cy="181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8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42920" y="3068640"/>
                    <a:ext cx="1904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7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8" name=""/>
          <p:cNvGraphicFramePr/>
          <p:nvPr/>
        </p:nvGraphicFramePr>
        <p:xfrm>
          <a:off x="1789200" y="3444840"/>
          <a:ext cx="190440" cy="2001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789200" y="3444840"/>
                    <a:ext cx="19044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0" name=""/>
          <p:cNvSpPr/>
          <p:nvPr/>
        </p:nvSpPr>
        <p:spPr>
          <a:xfrm>
            <a:off x="1835280" y="981000"/>
            <a:ext cx="1657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зобьем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3708360" y="981000"/>
            <a:ext cx="27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вных частей, отрезо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6948360" y="981000"/>
            <a:ext cx="719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0" y="1341360"/>
            <a:ext cx="356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вных частей. Выбирая ша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4211640" y="134136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5364000" y="1341360"/>
            <a:ext cx="2953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елим прямоугольник 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0" y="1700280"/>
            <a:ext cx="3780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четное число прямоуголь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0" y="2060640"/>
            <a:ext cx="521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бобщенная кубатурная формула Симпсон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0" y="2997360"/>
            <a:ext cx="1042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) 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1332000" y="2997360"/>
            <a:ext cx="7632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является произвольной криволинейной областью, то строи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0" y="3429000"/>
            <a:ext cx="18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ямоуголь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79640" y="3429000"/>
            <a:ext cx="273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одержащий обла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2" name=""/>
          <p:cNvGraphicFramePr/>
          <p:nvPr/>
        </p:nvGraphicFramePr>
        <p:xfrm>
          <a:off x="4427640" y="3500280"/>
          <a:ext cx="190440" cy="181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60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27640" y="3500280"/>
                    <a:ext cx="1904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4" name=""/>
          <p:cNvSpPr/>
          <p:nvPr/>
        </p:nvSpPr>
        <p:spPr>
          <a:xfrm>
            <a:off x="4788000" y="3429000"/>
            <a:ext cx="417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причем стороны прямоуголь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5" name=""/>
          <p:cNvGraphicFramePr/>
          <p:nvPr/>
        </p:nvGraphicFramePr>
        <p:xfrm>
          <a:off x="8675640" y="3500280"/>
          <a:ext cx="190440" cy="2001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0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675640" y="3500280"/>
                    <a:ext cx="190440" cy="2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7" name=""/>
          <p:cNvSpPr/>
          <p:nvPr/>
        </p:nvSpPr>
        <p:spPr>
          <a:xfrm>
            <a:off x="0" y="3789360"/>
            <a:ext cx="356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араллельны осям координ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0" y="4221000"/>
            <a:ext cx="507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ссматривается вспомогательная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9" name=""/>
              <p:cNvSpPr txBox="1"/>
              <p:nvPr/>
            </p:nvSpPr>
            <p:spPr>
              <a:xfrm>
                <a:off x="2770200" y="4594320"/>
                <a:ext cx="30160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f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если</m:t>
                              </m:r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∈</m:t>
                              </m:r>
                              <m:r>
                                <m:t xml:space="preserve">D</m:t>
                              </m:r>
                              <m:r>
                                <m:t xml:space="preserve">;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если</m:t>
                              </m:r>
                              <m:r>
                                <m:t xml:space="preserve"> 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</m:e>
                              </m:d>
                              <m:r>
                                <m:t xml:space="preserve">∈</m:t>
                              </m:r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D</m:t>
                                  </m:r>
                                </m:num>
                                <m:den>
                                  <m:bar>
                                    <m:barPr>
                                      <m:pos m:val="top"/>
                                    </m:barPr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</m:ba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1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1" name=""/>
          <p:cNvGraphicFramePr/>
          <p:nvPr/>
        </p:nvGraphicFramePr>
        <p:xfrm>
          <a:off x="879480" y="5396040"/>
          <a:ext cx="2324160" cy="409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61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79480" y="5396040"/>
                    <a:ext cx="232416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3" name=""/>
          <p:cNvSpPr/>
          <p:nvPr/>
        </p:nvSpPr>
        <p:spPr>
          <a:xfrm>
            <a:off x="0" y="5445000"/>
            <a:ext cx="1042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ог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0" y="5877000"/>
            <a:ext cx="914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, применяя к последнему интегралу обобщенную кубатурную формулу Симпсона, получим приближенное значение двойного интеграла по произвольной криволинейной об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КОНТРОЛЬНЫЕ ВОПРОС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179280" y="692280"/>
            <a:ext cx="878544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. Какой интеграл называется сходящимс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. Дайте определение сходящегося несобственного интеграла с бесконечным интервалом интегрир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3. Как вычисляется несобственный интеграл с бесконечным интервалом интегрировани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4. Дайте определение сходящегося несобственного интеграла, если подынтегральная функция имеет разрыв на конечном отрезке интегрир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5. Как вычисляется несобственный интеграл, если подынтегральная функция имеет разрыв на конечном отрезке интегрирования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6. Как называется формула, применяемая для приближенного вычисления двойного интеграл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7. Как выбирается шаг для приближенного вычисления двойного интеграл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8. Запишите кубатурную формулу Симпс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9. Запишите обобщенную кубатурную формулу Симпсон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10. Запишите кубатурную формулу Симпсона для произвольной криволинейной обл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БЛИЖЕННОЕ ИНТЕГРИРОВАНИЕ ОБЫКНОВЕННЫХ ДИФФЕРЕНЦИАЛЬНЫХ  УРАВНЕНИЙ И СИСТ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методы Эйлера, Рунге-Кутта и Адамс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6" dur="indefinite" restart="never" nodeType="tmRoot">
          <p:childTnLst>
            <p:seq>
              <p:cTn id="1347" dur="indefinite" nodeType="mainSeq">
                <p:childTnLst>
                  <p:par>
                    <p:cTn id="1348" fill="hold">
                      <p:stCondLst>
                        <p:cond delay="0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351" dur="2000" fill="hold"/>
                                        <p:tgtEl>
                                          <p:spTgt spid="2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1000" fill="hold"/>
                                        <p:tgtEl>
                                          <p:spTgt spid="2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1000" fill="hold"/>
                                        <p:tgtEl>
                                          <p:spTgt spid="2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1000" fill="hold"/>
                                        <p:tgtEl>
                                          <p:spTgt spid="2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1000" fill="hold"/>
                                        <p:tgtEl>
                                          <p:spTgt spid="2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0" y="1195560"/>
            <a:ext cx="914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Методы решения обыкновенных дифференциальных уравн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) аналитические метод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) приближенные метод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ешить дифференциальное урав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0" y="260280"/>
            <a:ext cx="9144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БЛИЖЕННОЕ ИНТЕГРИРОВАНИЕ ОБЫКНОВЕННЫХ ДИФФЕРЕНЦИАЛЬНЫХ УРАВНЕНИЙ И СИСТ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0" y="42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3" name=""/>
          <p:cNvGraphicFramePr/>
          <p:nvPr/>
        </p:nvGraphicFramePr>
        <p:xfrm>
          <a:off x="3635280" y="2585880"/>
          <a:ext cx="90504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2585880"/>
                    <a:ext cx="905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5" name=""/>
          <p:cNvSpPr/>
          <p:nvPr/>
        </p:nvSpPr>
        <p:spPr>
          <a:xfrm>
            <a:off x="0" y="419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6" name=""/>
          <p:cNvGraphicFramePr/>
          <p:nvPr/>
        </p:nvGraphicFramePr>
        <p:xfrm>
          <a:off x="112680" y="4054320"/>
          <a:ext cx="1219320" cy="2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2680" y="4054320"/>
                    <a:ext cx="121932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8" name=""/>
          <p:cNvSpPr/>
          <p:nvPr/>
        </p:nvSpPr>
        <p:spPr>
          <a:xfrm>
            <a:off x="4932360" y="251316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5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0" y="42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0" name=""/>
          <p:cNvGraphicFramePr/>
          <p:nvPr/>
        </p:nvGraphicFramePr>
        <p:xfrm>
          <a:off x="2411280" y="4003560"/>
          <a:ext cx="80964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11280" y="4003560"/>
                    <a:ext cx="8096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2" name=""/>
          <p:cNvSpPr/>
          <p:nvPr/>
        </p:nvSpPr>
        <p:spPr>
          <a:xfrm>
            <a:off x="0" y="47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0" y="42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4" name=""/>
          <p:cNvGraphicFramePr/>
          <p:nvPr/>
        </p:nvGraphicFramePr>
        <p:xfrm>
          <a:off x="108000" y="4673520"/>
          <a:ext cx="69516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8000" y="4673520"/>
                    <a:ext cx="6951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6" name=""/>
          <p:cNvSpPr/>
          <p:nvPr/>
        </p:nvSpPr>
        <p:spPr>
          <a:xfrm>
            <a:off x="0" y="47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0" y="42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8" name=""/>
          <p:cNvGraphicFramePr/>
          <p:nvPr/>
        </p:nvGraphicFramePr>
        <p:xfrm>
          <a:off x="3635280" y="4653000"/>
          <a:ext cx="1038240" cy="23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35280" y="4653000"/>
                    <a:ext cx="1038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0" name=""/>
          <p:cNvSpPr/>
          <p:nvPr/>
        </p:nvSpPr>
        <p:spPr>
          <a:xfrm>
            <a:off x="0" y="41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51" name=""/>
          <p:cNvGraphicFramePr/>
          <p:nvPr/>
        </p:nvGraphicFramePr>
        <p:xfrm>
          <a:off x="3348000" y="5365800"/>
          <a:ext cx="2362320" cy="29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5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348000" y="5365800"/>
                    <a:ext cx="23623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3" name=""/>
          <p:cNvSpPr/>
          <p:nvPr/>
        </p:nvSpPr>
        <p:spPr>
          <a:xfrm>
            <a:off x="0" y="3284640"/>
            <a:ext cx="914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численным методом означает, что для заданной последовательности аргумен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1403280" y="3981600"/>
            <a:ext cx="12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чис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3276720" y="3981600"/>
            <a:ext cx="532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не определяя аналитического вида фун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900000" y="4653000"/>
            <a:ext cx="273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нужно найти зн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4788000" y="4653000"/>
            <a:ext cx="360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удовлетворяющие услов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0" y="260280"/>
            <a:ext cx="914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ЕТОД ЭЙЛ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0" y="836640"/>
            <a:ext cx="896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усть дано дифференциальное уравнение (50) с начальным условием (зада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64" name=""/>
          <p:cNvGraphicFramePr/>
          <p:nvPr/>
        </p:nvGraphicFramePr>
        <p:xfrm>
          <a:off x="826920" y="1197000"/>
          <a:ext cx="80964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97000"/>
                    <a:ext cx="8096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6" name=""/>
          <p:cNvSpPr/>
          <p:nvPr/>
        </p:nvSpPr>
        <p:spPr>
          <a:xfrm>
            <a:off x="0" y="35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0" y="1197000"/>
            <a:ext cx="90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ош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1692360" y="1197000"/>
            <a:ext cx="7451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выполняются условия существования и единстве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0" y="1557360"/>
            <a:ext cx="12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еш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1" name=""/>
          <p:cNvGraphicFramePr/>
          <p:nvPr/>
        </p:nvGraphicFramePr>
        <p:xfrm>
          <a:off x="5651640" y="1844640"/>
          <a:ext cx="57132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1640" y="1844640"/>
                    <a:ext cx="5713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4" name=""/>
          <p:cNvGraphicFramePr/>
          <p:nvPr/>
        </p:nvGraphicFramePr>
        <p:xfrm>
          <a:off x="1908000" y="2154240"/>
          <a:ext cx="313380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2154240"/>
                    <a:ext cx="3133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6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7" name=""/>
          <p:cNvGraphicFramePr/>
          <p:nvPr/>
        </p:nvGraphicFramePr>
        <p:xfrm>
          <a:off x="7380360" y="2205000"/>
          <a:ext cx="190440" cy="1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80360" y="2205000"/>
                    <a:ext cx="1904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9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0" name=""/>
          <p:cNvGraphicFramePr/>
          <p:nvPr/>
        </p:nvGraphicFramePr>
        <p:xfrm>
          <a:off x="3102120" y="2846520"/>
          <a:ext cx="2333520" cy="29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02120" y="2846520"/>
                    <a:ext cx="2333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2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83" name=""/>
          <p:cNvGraphicFramePr/>
          <p:nvPr/>
        </p:nvGraphicFramePr>
        <p:xfrm>
          <a:off x="539640" y="3284640"/>
          <a:ext cx="190440" cy="19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3284640"/>
                    <a:ext cx="190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5" name=""/>
          <p:cNvSpPr/>
          <p:nvPr/>
        </p:nvSpPr>
        <p:spPr>
          <a:xfrm>
            <a:off x="0" y="1844640"/>
            <a:ext cx="572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ahoma"/>
              </a:rPr>
              <a:t>Теорема Пиккара.</a:t>
            </a: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 Если в уравнении (50) функц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6300720" y="1844640"/>
            <a:ext cx="2087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епрерывна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0" y="2133720"/>
            <a:ext cx="208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ямоугольн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5148360" y="2133720"/>
            <a:ext cx="2303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удовлетворяет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0" y="2492280"/>
            <a:ext cx="2303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словию Липшиц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0" y="3213000"/>
            <a:ext cx="61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826920" y="3213000"/>
            <a:ext cx="6697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константа Липшица, то существует единственное ре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3" name=""/>
          <p:cNvGraphicFramePr/>
          <p:nvPr/>
        </p:nvGraphicFramePr>
        <p:xfrm>
          <a:off x="7496280" y="3213000"/>
          <a:ext cx="676080" cy="2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6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96280" y="3213000"/>
                    <a:ext cx="6760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5" name=""/>
          <p:cNvSpPr/>
          <p:nvPr/>
        </p:nvSpPr>
        <p:spPr>
          <a:xfrm>
            <a:off x="8244000" y="3213000"/>
            <a:ext cx="610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97" name=""/>
          <p:cNvGraphicFramePr/>
          <p:nvPr/>
        </p:nvGraphicFramePr>
        <p:xfrm>
          <a:off x="100080" y="3551400"/>
          <a:ext cx="1447560" cy="237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69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0080" y="3551400"/>
                    <a:ext cx="144756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9" name=""/>
          <p:cNvSpPr/>
          <p:nvPr/>
        </p:nvSpPr>
        <p:spPr>
          <a:xfrm>
            <a:off x="1619280" y="3500280"/>
            <a:ext cx="496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равнения (50), удовлетворяющее услов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1" name=""/>
          <p:cNvGraphicFramePr/>
          <p:nvPr/>
        </p:nvGraphicFramePr>
        <p:xfrm>
          <a:off x="6580080" y="3522600"/>
          <a:ext cx="800280" cy="266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0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80080" y="3522600"/>
                    <a:ext cx="8002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3" name=""/>
          <p:cNvSpPr/>
          <p:nvPr/>
        </p:nvSpPr>
        <p:spPr>
          <a:xfrm>
            <a:off x="7451640" y="3500280"/>
            <a:ext cx="61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05" name=""/>
          <p:cNvGraphicFramePr/>
          <p:nvPr/>
        </p:nvGraphicFramePr>
        <p:xfrm>
          <a:off x="142920" y="3797280"/>
          <a:ext cx="1476360" cy="495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06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2920" y="3797280"/>
                    <a:ext cx="1476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7" name=""/>
          <p:cNvSpPr/>
          <p:nvPr/>
        </p:nvSpPr>
        <p:spPr>
          <a:xfrm>
            <a:off x="1692360" y="386064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9" name=""/>
              <p:cNvSpPr txBox="1"/>
              <p:nvPr/>
            </p:nvSpPr>
            <p:spPr>
              <a:xfrm>
                <a:off x="1979640" y="3933720"/>
                <a:ext cx="1066680" cy="2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D</m:t>
                        </m:r>
                      </m:lim>
                    </m:limLow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10" name=""/>
          <p:cNvSpPr/>
          <p:nvPr/>
        </p:nvSpPr>
        <p:spPr>
          <a:xfrm>
            <a:off x="3132000" y="3860640"/>
            <a:ext cx="3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0" y="4365720"/>
            <a:ext cx="428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бочая формула метода Эйле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13" name=""/>
          <p:cNvGraphicFramePr/>
          <p:nvPr/>
        </p:nvGraphicFramePr>
        <p:xfrm>
          <a:off x="3348000" y="4646520"/>
          <a:ext cx="2104920" cy="2952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7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348000" y="4646520"/>
                    <a:ext cx="21049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5" name=""/>
          <p:cNvSpPr/>
          <p:nvPr/>
        </p:nvSpPr>
        <p:spPr>
          <a:xfrm>
            <a:off x="5796000" y="4653000"/>
            <a:ext cx="64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5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0" y="5083200"/>
            <a:ext cx="9144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Метод Эйлера может быть применен к решению систем обыкновенных дифференциальных уравн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остоинством метода Эйлера является его простота и высокая скорость поиска решения (одношаговый метод). Недостатками метода Эйлера является малая точность и систематическое накопление ошибо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111560" y="1366920"/>
                <a:ext cx="110808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919080"/>
            <a:ext cx="914400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 1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Нелинейными уравнениями называются уравнения вида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557360"/>
            <a:ext cx="53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11280" y="1628640"/>
                <a:ext cx="4255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042920" y="1557360"/>
            <a:ext cx="649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эт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371760" y="2457360"/>
                <a:ext cx="25686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0" y="2060640"/>
            <a:ext cx="63723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) нелинейная алгебраическая функция (полином) ви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781360"/>
            <a:ext cx="914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) трансцендентная функция (тригонометрические, логарифмические, экспоненциальные, показательные и другие функци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) комбинирование полиномов и трансцендентных функц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 2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Решением нелинейного уравнения (1) является такое зна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08000" y="4098960"/>
                <a:ext cx="2206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24000" y="4076640"/>
            <a:ext cx="8748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при подстановке которого в исходное уравнение последнее обращается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508640"/>
            <a:ext cx="19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ождество, т.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959120" y="4548240"/>
                <a:ext cx="8730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/>
                            </m:sSup>
                          </m:e>
                        </m:d>
                      </m:e>
                    </m:d>
                    <m:r>
                      <m:t xml:space="preserve">≡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4941720"/>
            <a:ext cx="914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99"/>
                </a:solidFill>
                <a:uFillTx/>
                <a:latin typeface="Tahoma"/>
              </a:rPr>
              <a:t>Определение 3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Приближенным решением нелинейного уравнения (1) 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445000"/>
            <a:ext cx="19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акое зна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98560" y="5445000"/>
                <a:ext cx="295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**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2195640" y="5373720"/>
            <a:ext cx="694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при подстановке которого в исходное уравнение последн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5805360"/>
            <a:ext cx="406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ыполняется с заданной точность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067280" y="5927760"/>
                <a:ext cx="16200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>
            <a:off x="4356000" y="5805360"/>
            <a:ext cx="79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т.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5041800" y="5805360"/>
                <a:ext cx="9446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**</m:t>
                                </m:r>
                              </m:sup>
                            </m:sSup>
                          </m:e>
                        </m:d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6012000" y="5805360"/>
            <a:ext cx="57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6588000" y="5916600"/>
                <a:ext cx="16200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6877080" y="5805360"/>
            <a:ext cx="165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- достаточ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6308640"/>
            <a:ext cx="385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малая положительная величи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СНОВНЫЕ ПОНЯТИЯ И ОПРЕД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0" y="260280"/>
            <a:ext cx="914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ЕТОД РУНГЕ-КУТТА ЧЕТВЕРТОГО ПОРЯД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0" y="836640"/>
            <a:ext cx="896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Метод Рунге-Кутта имеет высокую точность, но не высокую скорость поиска решения (многошаговый метод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0" y="304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3" name=""/>
          <p:cNvGraphicFramePr/>
          <p:nvPr/>
        </p:nvGraphicFramePr>
        <p:xfrm>
          <a:off x="3324240" y="2131920"/>
          <a:ext cx="189540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4240" y="2131920"/>
                    <a:ext cx="189540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5" name=""/>
          <p:cNvSpPr/>
          <p:nvPr/>
        </p:nvSpPr>
        <p:spPr>
          <a:xfrm>
            <a:off x="0" y="38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6" name=""/>
          <p:cNvGraphicFramePr/>
          <p:nvPr/>
        </p:nvGraphicFramePr>
        <p:xfrm>
          <a:off x="2987640" y="4772160"/>
          <a:ext cx="25430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4772160"/>
                    <a:ext cx="25430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8" name=""/>
          <p:cNvSpPr/>
          <p:nvPr/>
        </p:nvSpPr>
        <p:spPr>
          <a:xfrm>
            <a:off x="0" y="1628640"/>
            <a:ext cx="226836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ссмотрим числ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0" y="4148280"/>
            <a:ext cx="8893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бочая формула метода Рунге-Кутта четвертого порядка имеет ви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0" y="5516640"/>
            <a:ext cx="896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Метод Рунге-Кутта обладает значительной точностью, и, несмотря на свою трудоемкость, широко используется при численном решении дифференциальный уравнений и сист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0" y="260280"/>
            <a:ext cx="914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МЕТОД АДАМ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0" y="836640"/>
            <a:ext cx="4427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Экстраполяционная формула Адамс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7" name=""/>
          <p:cNvGraphicFramePr/>
          <p:nvPr/>
        </p:nvGraphicFramePr>
        <p:xfrm>
          <a:off x="2484360" y="1197000"/>
          <a:ext cx="402912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197000"/>
                    <a:ext cx="4029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0" name=""/>
          <p:cNvGraphicFramePr/>
          <p:nvPr/>
        </p:nvGraphicFramePr>
        <p:xfrm>
          <a:off x="7812000" y="1700280"/>
          <a:ext cx="876240" cy="23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0" y="1700280"/>
                    <a:ext cx="876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3" name=""/>
          <p:cNvGraphicFramePr/>
          <p:nvPr/>
        </p:nvGraphicFramePr>
        <p:xfrm>
          <a:off x="2556000" y="2111400"/>
          <a:ext cx="876240" cy="23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2111400"/>
                    <a:ext cx="876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5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6" name=""/>
          <p:cNvGraphicFramePr/>
          <p:nvPr/>
        </p:nvGraphicFramePr>
        <p:xfrm>
          <a:off x="2411280" y="2557440"/>
          <a:ext cx="3800520" cy="29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4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11280" y="2557440"/>
                    <a:ext cx="3800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8" name="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49" name=""/>
          <p:cNvGraphicFramePr/>
          <p:nvPr/>
        </p:nvGraphicFramePr>
        <p:xfrm>
          <a:off x="3117960" y="3357720"/>
          <a:ext cx="2390760" cy="87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17960" y="3357720"/>
                    <a:ext cx="239076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1" name=""/>
          <p:cNvSpPr/>
          <p:nvPr/>
        </p:nvSpPr>
        <p:spPr>
          <a:xfrm>
            <a:off x="0" y="30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52" name=""/>
          <p:cNvGraphicFramePr/>
          <p:nvPr/>
        </p:nvGraphicFramePr>
        <p:xfrm>
          <a:off x="2771640" y="4292640"/>
          <a:ext cx="3343320" cy="723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71640" y="4292640"/>
                    <a:ext cx="33433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4" name=""/>
          <p:cNvSpPr/>
          <p:nvPr/>
        </p:nvSpPr>
        <p:spPr>
          <a:xfrm>
            <a:off x="0" y="1700280"/>
            <a:ext cx="795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ля начала итерационного процесса нужно знать начальные зн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>
            <a:off x="0" y="2060640"/>
            <a:ext cx="270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ная которые наход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8785080" y="1700280"/>
            <a:ext cx="32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>
            <a:off x="3492360" y="2060640"/>
            <a:ext cx="5400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составляют таблицу конечных разносте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0" y="2924280"/>
            <a:ext cx="896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ля работы на ЭВМ формулу Адамса применяют в раскрытом виде. Так ка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>
            <a:off x="0" y="4365720"/>
            <a:ext cx="53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0" y="515628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Метод Адамса легко распространяется на системы дифференциальных уравнений. Погрешность метода Адамса имеет тот же порядок, что и метод Рунге-Кут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КОНТРОЛЬНЫЕ ВОПРОС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3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"/>
          <p:cNvSpPr/>
          <p:nvPr/>
        </p:nvSpPr>
        <p:spPr>
          <a:xfrm>
            <a:off x="179280" y="692280"/>
            <a:ext cx="87854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1. Какие уравнения называются обыкновенными дифференциальными уравнениями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2. Когда возникает задача приближенного решения обыкновенных дифференциальных уравнений и систем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3. Какие методы приближенного решения обыкновенных дифференциальных уравнений Вы знаете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4. Сформулируйте постановку задачи для метода Эйлер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5. Как выбирается шаг в методе Эйлера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6. Запишите формулу Эйлер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7. Какую погрешность имеет метод Эйлера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8. Назовите достоинства и недостатки метода Эйлер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9. Сформулируйте постановку задачи для метода Рунге-Кутта четвертого порядка точност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10. Запишите итерационную формулу метода Рунге-Кутта четвертого порядка точност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11. Какую погрешность имеет формула Рунге-Кутта четвертого порядка точности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12. Запишите итерационную формулу метода Рунге-Кутта второго порядка точности. Какова ее погрешность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13. Как определяется правильность выбора шага в методе Рунге-Кутта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14. Назовите достоинства и недостатки метода Рунге-Кутт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15. Запишите экстраполляционную формулу Адамс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16. Как выбирается шаг в методе Адамса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17. Какую погрешность имеет метод Адамса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685800" y="22384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ЛЕКЦИЯ 1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 type="subTitle"/>
          </p:nvPr>
        </p:nvSpPr>
        <p:spPr>
          <a:xfrm>
            <a:off x="179280" y="364464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РАЕВЫЕ ЗАДАЧИ ДЛЯ ДИФФЕРЕНЦИАЛЬНЫХ УРАВНЕНИЙ ВТОРОГО ПОРЯ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метод прогон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with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5 -0.046 -0.16651 -0.113 -0.17184 C -0.177 -0.1785 -0.237 -0.11856 -0.241 -0.03197 C -0.246 0.04796 -0.204 0.12255 -0.144 0.12788 C -0.089 0.13188 -0.037 0.08259 -0.033 0.00799 C -0.029 -0.05994 -0.064 -0.12389 -0.115 -0.12921 C -0.162 -0.13321 -0.206 -0.09191 -0.209 -0.02931 C -0.212 0.02664 -0.184 0.08126 -0.142 0.08392 C -0.104 0.08792 -0.068 0.05595 -0.065 0.00533 C -0.063 -0.03996 -0.084 -0.08392 -0.117 -0.08659 C -0.146 -0.08925 -0.175 -0.06527 -0.177 -0.02664 C -0.179 0.00666 -0.164 0.03863 -0.14 0.0413 C -0.12 0.04396 -0.099 0.02931 -0.098 0.00266 C -0.096 -0.01865 -0.104 -0.0413 -0.119 -0.04396 C -0.131 -0.04396 -0.143 -0.03863 -0.145 -0.02398 C -0.146 -0.01465 -0.144 -0.00533 -0.138 -0.00133 C -0.135 0 -0.133 0 -0.13 -0.00133 E">
                                      <p:cBhvr>
                                        <p:cTn id="1368" dur="2000" fill="hold"/>
                                        <p:tgtEl>
                                          <p:spTgt spid="2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1000" fill="hold"/>
                                        <p:tgtEl>
                                          <p:spTgt spid="2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2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1000" fill="hold"/>
                                        <p:tgtEl>
                                          <p:spTgt spid="2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1000" fill="hold"/>
                                        <p:tgtEl>
                                          <p:spTgt spid="2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"/>
          <p:cNvSpPr/>
          <p:nvPr/>
        </p:nvSpPr>
        <p:spPr>
          <a:xfrm>
            <a:off x="0" y="260280"/>
            <a:ext cx="914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СТАНОВКА ЗА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"/>
          <p:cNvSpPr/>
          <p:nvPr/>
        </p:nvSpPr>
        <p:spPr>
          <a:xfrm>
            <a:off x="0" y="836640"/>
            <a:ext cx="7524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Рассмотрим простейшую двухточечную краевую задач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9" name=""/>
          <p:cNvGraphicFramePr/>
          <p:nvPr/>
        </p:nvGraphicFramePr>
        <p:xfrm>
          <a:off x="2916360" y="1197000"/>
          <a:ext cx="67608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197000"/>
                    <a:ext cx="6760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2" name=""/>
          <p:cNvGraphicFramePr/>
          <p:nvPr/>
        </p:nvGraphicFramePr>
        <p:xfrm>
          <a:off x="3683160" y="1916280"/>
          <a:ext cx="1104840" cy="26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83160" y="1916280"/>
                    <a:ext cx="110484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88" name=""/>
          <p:cNvGraphicFramePr/>
          <p:nvPr/>
        </p:nvGraphicFramePr>
        <p:xfrm>
          <a:off x="6156360" y="2225520"/>
          <a:ext cx="138096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56360" y="2225520"/>
                    <a:ext cx="13809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1" name=""/>
          <p:cNvGraphicFramePr/>
          <p:nvPr/>
        </p:nvGraphicFramePr>
        <p:xfrm>
          <a:off x="3635280" y="2585880"/>
          <a:ext cx="67644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35280" y="2585880"/>
                    <a:ext cx="6764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4" name=""/>
          <p:cNvGraphicFramePr/>
          <p:nvPr/>
        </p:nvGraphicFramePr>
        <p:xfrm>
          <a:off x="5219640" y="2924280"/>
          <a:ext cx="155268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2924280"/>
                    <a:ext cx="15526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97" name=""/>
          <p:cNvGraphicFramePr/>
          <p:nvPr/>
        </p:nvGraphicFramePr>
        <p:xfrm>
          <a:off x="3527280" y="4076640"/>
          <a:ext cx="147636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27280" y="4076640"/>
                    <a:ext cx="1476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00" name=""/>
          <p:cNvGraphicFramePr/>
          <p:nvPr/>
        </p:nvGraphicFramePr>
        <p:xfrm>
          <a:off x="3564000" y="5013360"/>
          <a:ext cx="1485720" cy="2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0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64000" y="5013360"/>
                    <a:ext cx="14857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2" name=""/>
          <p:cNvSpPr/>
          <p:nvPr/>
        </p:nvSpPr>
        <p:spPr>
          <a:xfrm>
            <a:off x="0" y="1197000"/>
            <a:ext cx="3059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Пример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Найти функц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3635280" y="1197000"/>
            <a:ext cx="5508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довлетворяющую дифференциально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"/>
          <p:cNvSpPr/>
          <p:nvPr/>
        </p:nvSpPr>
        <p:spPr>
          <a:xfrm>
            <a:off x="0" y="1557360"/>
            <a:ext cx="385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равнению второго порядка вид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4859280" y="1844640"/>
            <a:ext cx="6494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5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"/>
          <p:cNvSpPr/>
          <p:nvPr/>
        </p:nvSpPr>
        <p:spPr>
          <a:xfrm>
            <a:off x="0" y="2205000"/>
            <a:ext cx="24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принимающую п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8" name=""/>
              <p:cNvSpPr txBox="1"/>
              <p:nvPr/>
            </p:nvSpPr>
            <p:spPr>
              <a:xfrm>
                <a:off x="2451240" y="2273400"/>
                <a:ext cx="125712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и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09" name=""/>
          <p:cNvSpPr/>
          <p:nvPr/>
        </p:nvSpPr>
        <p:spPr>
          <a:xfrm>
            <a:off x="3851280" y="2205000"/>
            <a:ext cx="248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аданные зн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"/>
          <p:cNvSpPr/>
          <p:nvPr/>
        </p:nvSpPr>
        <p:spPr>
          <a:xfrm>
            <a:off x="0" y="2565360"/>
            <a:ext cx="36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Пример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Найти такое реш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"/>
          <p:cNvSpPr/>
          <p:nvPr/>
        </p:nvSpPr>
        <p:spPr>
          <a:xfrm>
            <a:off x="4356000" y="2565360"/>
            <a:ext cx="4788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ифференциального уравнения (5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0" y="2924280"/>
            <a:ext cx="536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чтобы производные имели заданное зна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"/>
          <p:cNvSpPr/>
          <p:nvPr/>
        </p:nvSpPr>
        <p:spPr>
          <a:xfrm>
            <a:off x="7596360" y="2205000"/>
            <a:ext cx="64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"/>
          <p:cNvSpPr/>
          <p:nvPr/>
        </p:nvSpPr>
        <p:spPr>
          <a:xfrm>
            <a:off x="6877080" y="2924280"/>
            <a:ext cx="649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"/>
          <p:cNvSpPr/>
          <p:nvPr/>
        </p:nvSpPr>
        <p:spPr>
          <a:xfrm>
            <a:off x="0" y="3284640"/>
            <a:ext cx="914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Пример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Найти решение дифференциального уравнения (57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0" y="3645000"/>
            <a:ext cx="341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довлетворяющего услов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"/>
          <p:cNvSpPr/>
          <p:nvPr/>
        </p:nvSpPr>
        <p:spPr>
          <a:xfrm>
            <a:off x="5076720" y="4005360"/>
            <a:ext cx="649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"/>
          <p:cNvSpPr/>
          <p:nvPr/>
        </p:nvSpPr>
        <p:spPr>
          <a:xfrm>
            <a:off x="0" y="4365720"/>
            <a:ext cx="914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Пример.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 Найти решение дифференциального уравнения (57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"/>
          <p:cNvSpPr/>
          <p:nvPr/>
        </p:nvSpPr>
        <p:spPr>
          <a:xfrm>
            <a:off x="0" y="4653000"/>
            <a:ext cx="341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довлетворяющего условия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"/>
          <p:cNvSpPr/>
          <p:nvPr/>
        </p:nvSpPr>
        <p:spPr>
          <a:xfrm>
            <a:off x="5148360" y="4941720"/>
            <a:ext cx="649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4" name=""/>
          <p:cNvSpPr/>
          <p:nvPr/>
        </p:nvSpPr>
        <p:spPr>
          <a:xfrm>
            <a:off x="0" y="260280"/>
            <a:ext cx="914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НЕЧНО-РАЗНОСТНАЯ СХ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"/>
          <p:cNvSpPr/>
          <p:nvPr/>
        </p:nvSpPr>
        <p:spPr>
          <a:xfrm>
            <a:off x="0" y="836640"/>
            <a:ext cx="802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Дано дифференциальное уравнение (57) с краевыми услови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7" name=""/>
          <p:cNvGraphicFramePr/>
          <p:nvPr/>
        </p:nvGraphicFramePr>
        <p:xfrm>
          <a:off x="3424320" y="1197000"/>
          <a:ext cx="172404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4320" y="1197000"/>
                    <a:ext cx="172404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9" name=""/>
          <p:cNvSpPr/>
          <p:nvPr/>
        </p:nvSpPr>
        <p:spPr>
          <a:xfrm>
            <a:off x="0" y="2276640"/>
            <a:ext cx="478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Линейное дифференциальное уравн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1" name=""/>
          <p:cNvGraphicFramePr/>
          <p:nvPr/>
        </p:nvGraphicFramePr>
        <p:xfrm>
          <a:off x="3306600" y="3068640"/>
          <a:ext cx="205740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06600" y="3068640"/>
                    <a:ext cx="20574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3" name=""/>
          <p:cNvSpPr/>
          <p:nvPr/>
        </p:nvSpPr>
        <p:spPr>
          <a:xfrm>
            <a:off x="5580000" y="3068640"/>
            <a:ext cx="72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58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"/>
          <p:cNvSpPr/>
          <p:nvPr/>
        </p:nvSpPr>
        <p:spPr>
          <a:xfrm>
            <a:off x="0" y="3909960"/>
            <a:ext cx="284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с краевыми услови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36" name=""/>
          <p:cNvGraphicFramePr/>
          <p:nvPr/>
        </p:nvGraphicFramePr>
        <p:xfrm>
          <a:off x="3495600" y="4341960"/>
          <a:ext cx="1724040" cy="59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5600" y="4341960"/>
                    <a:ext cx="172404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8" name=""/>
          <p:cNvSpPr/>
          <p:nvPr/>
        </p:nvSpPr>
        <p:spPr>
          <a:xfrm>
            <a:off x="5867280" y="4486320"/>
            <a:ext cx="720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5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9" name=""/>
          <p:cNvSpPr/>
          <p:nvPr/>
        </p:nvSpPr>
        <p:spPr>
          <a:xfrm>
            <a:off x="0" y="5516640"/>
            <a:ext cx="611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0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41" name=""/>
          <p:cNvGraphicFramePr/>
          <p:nvPr/>
        </p:nvGraphicFramePr>
        <p:xfrm>
          <a:off x="687240" y="5529240"/>
          <a:ext cx="1724040" cy="276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4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240" y="5529240"/>
                    <a:ext cx="172404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3" name=""/>
          <p:cNvSpPr/>
          <p:nvPr/>
        </p:nvSpPr>
        <p:spPr>
          <a:xfrm>
            <a:off x="2556000" y="5516640"/>
            <a:ext cx="720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7" name=""/>
          <p:cNvSpPr/>
          <p:nvPr/>
        </p:nvSpPr>
        <p:spPr>
          <a:xfrm>
            <a:off x="0" y="260280"/>
            <a:ext cx="914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НЕЧНО-РАЗНОСТНАЯ СХ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8" name=""/>
          <p:cNvSpPr/>
          <p:nvPr/>
        </p:nvSpPr>
        <p:spPr>
          <a:xfrm>
            <a:off x="0" y="836640"/>
            <a:ext cx="802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Уравнение (58) заменим конечно-разностными уравнения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0" name=""/>
          <p:cNvSpPr/>
          <p:nvPr/>
        </p:nvSpPr>
        <p:spPr>
          <a:xfrm>
            <a:off x="0" y="1773360"/>
            <a:ext cx="4788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Конечно-разностные уравнен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2" name=""/>
          <p:cNvSpPr/>
          <p:nvPr/>
        </p:nvSpPr>
        <p:spPr>
          <a:xfrm>
            <a:off x="0" y="3284640"/>
            <a:ext cx="5364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Запишем систему (58) в канонической форм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"/>
          <p:cNvSpPr/>
          <p:nvPr/>
        </p:nvSpPr>
        <p:spPr>
          <a:xfrm>
            <a:off x="0" y="4890960"/>
            <a:ext cx="2627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ведем обознач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5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6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57" name=""/>
          <p:cNvGraphicFramePr/>
          <p:nvPr/>
        </p:nvGraphicFramePr>
        <p:xfrm>
          <a:off x="1913040" y="1197000"/>
          <a:ext cx="301932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3040" y="1197000"/>
                    <a:ext cx="301932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9" name=""/>
          <p:cNvSpPr/>
          <p:nvPr/>
        </p:nvSpPr>
        <p:spPr>
          <a:xfrm>
            <a:off x="5076720" y="1268280"/>
            <a:ext cx="3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61" name=""/>
          <p:cNvGraphicFramePr/>
          <p:nvPr/>
        </p:nvGraphicFramePr>
        <p:xfrm>
          <a:off x="5435640" y="1290600"/>
          <a:ext cx="695160" cy="26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1290600"/>
                    <a:ext cx="6951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3" name=""/>
          <p:cNvSpPr/>
          <p:nvPr/>
        </p:nvSpPr>
        <p:spPr>
          <a:xfrm>
            <a:off x="6300720" y="1268280"/>
            <a:ext cx="72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6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65" name=""/>
          <p:cNvGraphicFramePr/>
          <p:nvPr/>
        </p:nvGraphicFramePr>
        <p:xfrm>
          <a:off x="3564000" y="2133720"/>
          <a:ext cx="1714320" cy="923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4000" y="2133720"/>
                    <a:ext cx="17143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68" name=""/>
          <p:cNvGraphicFramePr/>
          <p:nvPr/>
        </p:nvGraphicFramePr>
        <p:xfrm>
          <a:off x="1803240" y="3656160"/>
          <a:ext cx="3705480" cy="37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3240" y="3656160"/>
                    <a:ext cx="370548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1" name=""/>
          <p:cNvGraphicFramePr/>
          <p:nvPr/>
        </p:nvGraphicFramePr>
        <p:xfrm>
          <a:off x="5964120" y="3666960"/>
          <a:ext cx="695520" cy="266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64120" y="3666960"/>
                    <a:ext cx="6955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3" name=""/>
          <p:cNvSpPr/>
          <p:nvPr/>
        </p:nvSpPr>
        <p:spPr>
          <a:xfrm>
            <a:off x="5580000" y="3666960"/>
            <a:ext cx="3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5" name=""/>
          <p:cNvGraphicFramePr/>
          <p:nvPr/>
        </p:nvGraphicFramePr>
        <p:xfrm>
          <a:off x="1763640" y="4027320"/>
          <a:ext cx="298152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7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63640" y="4027320"/>
                    <a:ext cx="29815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7" name=""/>
          <p:cNvGraphicFramePr/>
          <p:nvPr/>
        </p:nvGraphicFramePr>
        <p:xfrm>
          <a:off x="5219640" y="4076640"/>
          <a:ext cx="695520" cy="2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7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19640" y="4076640"/>
                    <a:ext cx="6955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9" name=""/>
          <p:cNvSpPr/>
          <p:nvPr/>
        </p:nvSpPr>
        <p:spPr>
          <a:xfrm>
            <a:off x="4859280" y="4076640"/>
            <a:ext cx="3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1" name=""/>
          <p:cNvGraphicFramePr/>
          <p:nvPr/>
        </p:nvGraphicFramePr>
        <p:xfrm>
          <a:off x="2862360" y="4791240"/>
          <a:ext cx="2933640" cy="533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8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862360" y="4791240"/>
                    <a:ext cx="293364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3" name=""/>
          <p:cNvSpPr/>
          <p:nvPr/>
        </p:nvSpPr>
        <p:spPr>
          <a:xfrm>
            <a:off x="0" y="5661000"/>
            <a:ext cx="13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луч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85" name=""/>
          <p:cNvGraphicFramePr/>
          <p:nvPr/>
        </p:nvGraphicFramePr>
        <p:xfrm>
          <a:off x="1258920" y="5661000"/>
          <a:ext cx="1647720" cy="23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58920" y="5661000"/>
                    <a:ext cx="164772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7" name=""/>
          <p:cNvGraphicFramePr/>
          <p:nvPr/>
        </p:nvGraphicFramePr>
        <p:xfrm>
          <a:off x="3492360" y="5661000"/>
          <a:ext cx="695520" cy="2667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8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92360" y="5661000"/>
                    <a:ext cx="6955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9" name=""/>
          <p:cNvSpPr/>
          <p:nvPr/>
        </p:nvSpPr>
        <p:spPr>
          <a:xfrm>
            <a:off x="2987640" y="5661000"/>
            <a:ext cx="3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0" name=""/>
          <p:cNvSpPr/>
          <p:nvPr/>
        </p:nvSpPr>
        <p:spPr>
          <a:xfrm>
            <a:off x="4356000" y="5661000"/>
            <a:ext cx="3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>
            <a:off x="0" y="260280"/>
            <a:ext cx="914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НЕЧНО-РАЗНОСТНАЯ СХ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>
            <a:off x="0" y="836640"/>
            <a:ext cx="183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Будем иск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97" name=""/>
          <p:cNvGraphicFramePr/>
          <p:nvPr/>
        </p:nvGraphicFramePr>
        <p:xfrm>
          <a:off x="1619280" y="887400"/>
          <a:ext cx="181080" cy="23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887400"/>
                    <a:ext cx="18108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9" name=""/>
          <p:cNvSpPr/>
          <p:nvPr/>
        </p:nvSpPr>
        <p:spPr>
          <a:xfrm>
            <a:off x="1979640" y="836640"/>
            <a:ext cx="1079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 вид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1" name=""/>
          <p:cNvGraphicFramePr/>
          <p:nvPr/>
        </p:nvGraphicFramePr>
        <p:xfrm>
          <a:off x="3290760" y="1268280"/>
          <a:ext cx="1209960" cy="2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90760" y="1268280"/>
                    <a:ext cx="120996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3" name=""/>
          <p:cNvSpPr/>
          <p:nvPr/>
        </p:nvSpPr>
        <p:spPr>
          <a:xfrm>
            <a:off x="4643280" y="1197000"/>
            <a:ext cx="72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(6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"/>
          <p:cNvSpPr/>
          <p:nvPr/>
        </p:nvSpPr>
        <p:spPr>
          <a:xfrm>
            <a:off x="0" y="1557360"/>
            <a:ext cx="23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где коэффици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6" name=""/>
          <p:cNvGraphicFramePr/>
          <p:nvPr/>
        </p:nvGraphicFramePr>
        <p:xfrm>
          <a:off x="2246400" y="1606680"/>
          <a:ext cx="380880" cy="23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6400" y="1606680"/>
                    <a:ext cx="38088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9" name=""/>
          <p:cNvGraphicFramePr/>
          <p:nvPr/>
        </p:nvGraphicFramePr>
        <p:xfrm>
          <a:off x="6516720" y="1557360"/>
          <a:ext cx="1476360" cy="26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16720" y="1557360"/>
                    <a:ext cx="14763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2" name=""/>
          <p:cNvGraphicFramePr/>
          <p:nvPr/>
        </p:nvGraphicFramePr>
        <p:xfrm>
          <a:off x="3059280" y="2470320"/>
          <a:ext cx="2323800" cy="23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2470320"/>
                    <a:ext cx="23238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5" name=""/>
          <p:cNvGraphicFramePr/>
          <p:nvPr/>
        </p:nvGraphicFramePr>
        <p:xfrm>
          <a:off x="2281320" y="3294000"/>
          <a:ext cx="4162320" cy="49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1320" y="3294000"/>
                    <a:ext cx="416232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7" name=""/>
          <p:cNvSpPr/>
          <p:nvPr/>
        </p:nvSpPr>
        <p:spPr>
          <a:xfrm>
            <a:off x="2771640" y="1557360"/>
            <a:ext cx="374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ребуется определить. Выраз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0" y="1989000"/>
            <a:ext cx="457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подставим в исходную систему (54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20" name=""/>
          <p:cNvGraphicFramePr/>
          <p:nvPr/>
        </p:nvGraphicFramePr>
        <p:xfrm>
          <a:off x="4319640" y="2852640"/>
          <a:ext cx="181080" cy="238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2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319640" y="2852640"/>
                    <a:ext cx="18108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2" name=""/>
          <p:cNvSpPr/>
          <p:nvPr/>
        </p:nvSpPr>
        <p:spPr>
          <a:xfrm>
            <a:off x="0" y="2852640"/>
            <a:ext cx="457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Выразим из последнего соотно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4643280" y="2852640"/>
            <a:ext cx="72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0" y="3933720"/>
            <a:ext cx="9716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Тог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26" name=""/>
          <p:cNvGraphicFramePr/>
          <p:nvPr/>
        </p:nvGraphicFramePr>
        <p:xfrm>
          <a:off x="2138400" y="4229280"/>
          <a:ext cx="2362320" cy="495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2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138400" y="4229280"/>
                    <a:ext cx="23623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8" name=""/>
          <p:cNvSpPr/>
          <p:nvPr/>
        </p:nvSpPr>
        <p:spPr>
          <a:xfrm>
            <a:off x="4572000" y="436572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0" name=""/>
          <p:cNvGraphicFramePr/>
          <p:nvPr/>
        </p:nvGraphicFramePr>
        <p:xfrm>
          <a:off x="5076720" y="4292640"/>
          <a:ext cx="695520" cy="2667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3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076720" y="4292640"/>
                    <a:ext cx="69552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2" name=""/>
          <p:cNvSpPr/>
          <p:nvPr/>
        </p:nvSpPr>
        <p:spPr>
          <a:xfrm>
            <a:off x="0" y="4797360"/>
            <a:ext cx="1116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4" name=""/>
          <p:cNvGraphicFramePr/>
          <p:nvPr/>
        </p:nvGraphicFramePr>
        <p:xfrm>
          <a:off x="1128600" y="4846680"/>
          <a:ext cx="419040" cy="2379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93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128600" y="4846680"/>
                    <a:ext cx="4190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6" name=""/>
          <p:cNvSpPr/>
          <p:nvPr/>
        </p:nvSpPr>
        <p:spPr>
          <a:xfrm>
            <a:off x="1692360" y="4797360"/>
            <a:ext cx="457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з первого краевого условия. Выраж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8" name=""/>
          <p:cNvGraphicFramePr/>
          <p:nvPr/>
        </p:nvGraphicFramePr>
        <p:xfrm>
          <a:off x="6156360" y="4662360"/>
          <a:ext cx="1133280" cy="495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939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156360" y="4662360"/>
                    <a:ext cx="1133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0" name=""/>
          <p:cNvSpPr/>
          <p:nvPr/>
        </p:nvSpPr>
        <p:spPr>
          <a:xfrm>
            <a:off x="1440000" y="5157720"/>
            <a:ext cx="1403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 получим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>
            <a:off x="7308720" y="4797360"/>
            <a:ext cx="18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сравнивая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3" name=""/>
          <p:cNvGraphicFramePr/>
          <p:nvPr/>
        </p:nvGraphicFramePr>
        <p:xfrm>
          <a:off x="106200" y="5229360"/>
          <a:ext cx="1152720" cy="237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94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106200" y="5229360"/>
                    <a:ext cx="115272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5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46" name=""/>
          <p:cNvGraphicFramePr/>
          <p:nvPr/>
        </p:nvGraphicFramePr>
        <p:xfrm>
          <a:off x="3048120" y="5597640"/>
          <a:ext cx="1019160" cy="495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947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048120" y="5597640"/>
                    <a:ext cx="10191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8" name=""/>
          <p:cNvSpPr/>
          <p:nvPr/>
        </p:nvSpPr>
        <p:spPr>
          <a:xfrm>
            <a:off x="4140360" y="5661000"/>
            <a:ext cx="36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50" name=""/>
          <p:cNvGraphicFramePr/>
          <p:nvPr/>
        </p:nvGraphicFramePr>
        <p:xfrm>
          <a:off x="0" y="3181320"/>
          <a:ext cx="638280" cy="4953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95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0" y="3181320"/>
                    <a:ext cx="6382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2" name=""/>
          <p:cNvGraphicFramePr/>
          <p:nvPr/>
        </p:nvGraphicFramePr>
        <p:xfrm>
          <a:off x="4500720" y="5589720"/>
          <a:ext cx="637920" cy="495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953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500720" y="5589720"/>
                    <a:ext cx="637920" cy="49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4" name=""/>
          <p:cNvSpPr/>
          <p:nvPr/>
        </p:nvSpPr>
        <p:spPr>
          <a:xfrm>
            <a:off x="5219640" y="5734080"/>
            <a:ext cx="360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>
            <a:off x="0" y="260280"/>
            <a:ext cx="914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НЕЧНО-РАЗНОСТНАЯ СХ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0" y="836640"/>
            <a:ext cx="2916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рямой ход вычисл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0" y="1197000"/>
            <a:ext cx="291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. Вычисляют зн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2" name=""/>
          <p:cNvGraphicFramePr/>
          <p:nvPr/>
        </p:nvGraphicFramePr>
        <p:xfrm>
          <a:off x="2762280" y="1197000"/>
          <a:ext cx="1305000" cy="27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2280" y="1197000"/>
                    <a:ext cx="130500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4" name=""/>
          <p:cNvSpPr/>
          <p:nvPr/>
        </p:nvSpPr>
        <p:spPr>
          <a:xfrm>
            <a:off x="0" y="1628640"/>
            <a:ext cx="147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. Наход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66" name=""/>
          <p:cNvGraphicFramePr/>
          <p:nvPr/>
        </p:nvGraphicFramePr>
        <p:xfrm>
          <a:off x="1476360" y="1677960"/>
          <a:ext cx="419040" cy="2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76360" y="1677960"/>
                    <a:ext cx="41904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8" name=""/>
          <p:cNvSpPr/>
          <p:nvPr/>
        </p:nvSpPr>
        <p:spPr>
          <a:xfrm>
            <a:off x="0" y="2060640"/>
            <a:ext cx="183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. Вычисля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0" name=""/>
          <p:cNvGraphicFramePr/>
          <p:nvPr/>
        </p:nvGraphicFramePr>
        <p:xfrm>
          <a:off x="1752480" y="2111400"/>
          <a:ext cx="371520" cy="23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2111400"/>
                    <a:ext cx="37152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2" name=""/>
          <p:cNvSpPr/>
          <p:nvPr/>
        </p:nvSpPr>
        <p:spPr>
          <a:xfrm>
            <a:off x="2268360" y="2060640"/>
            <a:ext cx="358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4" name=""/>
          <p:cNvGraphicFramePr/>
          <p:nvPr/>
        </p:nvGraphicFramePr>
        <p:xfrm>
          <a:off x="2581200" y="2082960"/>
          <a:ext cx="695520" cy="266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81200" y="2082960"/>
                    <a:ext cx="69552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6" name=""/>
          <p:cNvSpPr/>
          <p:nvPr/>
        </p:nvSpPr>
        <p:spPr>
          <a:xfrm>
            <a:off x="0" y="2421000"/>
            <a:ext cx="327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Обратный ход вычислений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7" name=""/>
          <p:cNvSpPr/>
          <p:nvPr/>
        </p:nvSpPr>
        <p:spPr>
          <a:xfrm>
            <a:off x="0" y="2781360"/>
            <a:ext cx="5867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. Решают систему из двух уравнений относите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9" name=""/>
          <p:cNvGraphicFramePr/>
          <p:nvPr/>
        </p:nvGraphicFramePr>
        <p:xfrm>
          <a:off x="5937120" y="2830680"/>
          <a:ext cx="219240" cy="23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37120" y="2830680"/>
                    <a:ext cx="21924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1" name=""/>
          <p:cNvSpPr/>
          <p:nvPr/>
        </p:nvSpPr>
        <p:spPr>
          <a:xfrm>
            <a:off x="6227640" y="2781360"/>
            <a:ext cx="358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3" name=""/>
          <p:cNvGraphicFramePr/>
          <p:nvPr/>
        </p:nvGraphicFramePr>
        <p:xfrm>
          <a:off x="6659640" y="2830680"/>
          <a:ext cx="333360" cy="237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659640" y="2830680"/>
                    <a:ext cx="33336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5" name=""/>
          <p:cNvSpPr/>
          <p:nvPr/>
        </p:nvSpPr>
        <p:spPr>
          <a:xfrm>
            <a:off x="7020000" y="2781360"/>
            <a:ext cx="358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87" name=""/>
          <p:cNvGraphicFramePr/>
          <p:nvPr/>
        </p:nvGraphicFramePr>
        <p:xfrm>
          <a:off x="3332160" y="3213000"/>
          <a:ext cx="1600200" cy="26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32160" y="3213000"/>
                    <a:ext cx="16002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0" name=""/>
          <p:cNvGraphicFramePr/>
          <p:nvPr/>
        </p:nvGraphicFramePr>
        <p:xfrm>
          <a:off x="2935440" y="3548160"/>
          <a:ext cx="242856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9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935440" y="3548160"/>
                    <a:ext cx="24285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2" name=""/>
          <p:cNvSpPr/>
          <p:nvPr/>
        </p:nvSpPr>
        <p:spPr>
          <a:xfrm>
            <a:off x="0" y="4149720"/>
            <a:ext cx="1476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получа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3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4" name=""/>
          <p:cNvGraphicFramePr/>
          <p:nvPr/>
        </p:nvGraphicFramePr>
        <p:xfrm>
          <a:off x="1628640" y="4076640"/>
          <a:ext cx="1648080" cy="5047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99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28640" y="4076640"/>
                    <a:ext cx="16480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6" name=""/>
          <p:cNvSpPr/>
          <p:nvPr/>
        </p:nvSpPr>
        <p:spPr>
          <a:xfrm>
            <a:off x="3348000" y="4149720"/>
            <a:ext cx="3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7" name=""/>
          <p:cNvSpPr/>
          <p:nvPr/>
        </p:nvSpPr>
        <p:spPr>
          <a:xfrm>
            <a:off x="0" y="4653000"/>
            <a:ext cx="1835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. Вычисляю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99" name=""/>
          <p:cNvGraphicFramePr/>
          <p:nvPr/>
        </p:nvGraphicFramePr>
        <p:xfrm>
          <a:off x="1692360" y="4646520"/>
          <a:ext cx="2009520" cy="2952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00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92360" y="4646520"/>
                    <a:ext cx="20095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1" name=""/>
          <p:cNvSpPr/>
          <p:nvPr/>
        </p:nvSpPr>
        <p:spPr>
          <a:xfrm>
            <a:off x="3780000" y="4653000"/>
            <a:ext cx="1476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начиная 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2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3" name=""/>
          <p:cNvGraphicFramePr/>
          <p:nvPr/>
        </p:nvGraphicFramePr>
        <p:xfrm>
          <a:off x="5102280" y="4703760"/>
          <a:ext cx="333360" cy="237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00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102280" y="4703760"/>
                    <a:ext cx="33336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5" name=""/>
          <p:cNvSpPr/>
          <p:nvPr/>
        </p:nvSpPr>
        <p:spPr>
          <a:xfrm>
            <a:off x="5580000" y="4653000"/>
            <a:ext cx="1476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 далее д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7" name=""/>
          <p:cNvGraphicFramePr/>
          <p:nvPr/>
        </p:nvGraphicFramePr>
        <p:xfrm>
          <a:off x="7020000" y="4703760"/>
          <a:ext cx="199800" cy="237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00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020000" y="4703760"/>
                    <a:ext cx="1998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9" name=""/>
          <p:cNvSpPr/>
          <p:nvPr/>
        </p:nvSpPr>
        <p:spPr>
          <a:xfrm>
            <a:off x="7308720" y="4653000"/>
            <a:ext cx="358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0" name=""/>
          <p:cNvSpPr/>
          <p:nvPr/>
        </p:nvSpPr>
        <p:spPr>
          <a:xfrm>
            <a:off x="4140360" y="1197000"/>
            <a:ext cx="3585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1" name=""/>
          <p:cNvSpPr/>
          <p:nvPr/>
        </p:nvSpPr>
        <p:spPr>
          <a:xfrm>
            <a:off x="1979640" y="1628640"/>
            <a:ext cx="3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2" name=""/>
          <p:cNvSpPr/>
          <p:nvPr/>
        </p:nvSpPr>
        <p:spPr>
          <a:xfrm>
            <a:off x="3348000" y="2060640"/>
            <a:ext cx="358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3" name=""/>
          <p:cNvSpPr/>
          <p:nvPr/>
        </p:nvSpPr>
        <p:spPr>
          <a:xfrm>
            <a:off x="0" y="5084640"/>
            <a:ext cx="5364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. Сравнивают полученное в п.2 со значени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4" name="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5" name=""/>
          <p:cNvGraphicFramePr/>
          <p:nvPr/>
        </p:nvGraphicFramePr>
        <p:xfrm>
          <a:off x="5292720" y="5013360"/>
          <a:ext cx="1133640" cy="4953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016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292720" y="5013360"/>
                    <a:ext cx="113364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7" name=""/>
          <p:cNvSpPr/>
          <p:nvPr/>
        </p:nvSpPr>
        <p:spPr>
          <a:xfrm>
            <a:off x="6516720" y="5084640"/>
            <a:ext cx="358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8" name=""/>
          <p:cNvSpPr/>
          <p:nvPr/>
        </p:nvSpPr>
        <p:spPr>
          <a:xfrm>
            <a:off x="0" y="5589720"/>
            <a:ext cx="2268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Получим зна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0" name=""/>
          <p:cNvGraphicFramePr/>
          <p:nvPr/>
        </p:nvGraphicFramePr>
        <p:xfrm>
          <a:off x="2297160" y="5589720"/>
          <a:ext cx="619200" cy="2379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021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297160" y="5589720"/>
                    <a:ext cx="61920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2" name=""/>
          <p:cNvSpPr/>
          <p:nvPr/>
        </p:nvSpPr>
        <p:spPr>
          <a:xfrm>
            <a:off x="2987640" y="5589720"/>
            <a:ext cx="4176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искомой функции в узловых точк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24" name=""/>
          <p:cNvGraphicFramePr/>
          <p:nvPr/>
        </p:nvGraphicFramePr>
        <p:xfrm>
          <a:off x="0" y="3309840"/>
          <a:ext cx="609480" cy="23832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02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0" y="3309840"/>
                    <a:ext cx="60948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6" name=""/>
          <p:cNvGraphicFramePr/>
          <p:nvPr/>
        </p:nvGraphicFramePr>
        <p:xfrm>
          <a:off x="7020000" y="5589720"/>
          <a:ext cx="609480" cy="237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02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7020000" y="5589720"/>
                    <a:ext cx="609480" cy="23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8" name=""/>
          <p:cNvSpPr/>
          <p:nvPr/>
        </p:nvSpPr>
        <p:spPr>
          <a:xfrm>
            <a:off x="7740720" y="5589720"/>
            <a:ext cx="358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КОНТРОЛЬНЫЕ ВОПРОС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1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3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4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5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6" name=""/>
          <p:cNvSpPr/>
          <p:nvPr/>
        </p:nvSpPr>
        <p:spPr>
          <a:xfrm>
            <a:off x="179280" y="692280"/>
            <a:ext cx="87854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1. Сформулируйте краевую задачу для дифференциальных уравнений второго порядк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2. К решению какой системы сводится краевая задача для дифференциального уравнения второго порядка?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3. Какие методы применяются для приближенного решения краевой задачи для дифференциального уравнения второго порядка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4. Запишите конечно-разностное уравнение для дифференциального уравнения второго порядка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5. Из скольких частей состоит метод прогонки и как они называются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6. Для чего служит прямой ход метода прогонки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7. Для чего служит обратный ход метода прогонки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7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9" name=""/>
          <p:cNvSpPr/>
          <p:nvPr/>
        </p:nvSpPr>
        <p:spPr>
          <a:xfrm>
            <a:off x="179280" y="3357720"/>
            <a:ext cx="532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8. Из какого краевого условия находят коэффициенты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1" name=""/>
          <p:cNvGraphicFramePr/>
          <p:nvPr/>
        </p:nvGraphicFramePr>
        <p:xfrm>
          <a:off x="5372280" y="3416400"/>
          <a:ext cx="390240" cy="22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72280" y="3416400"/>
                    <a:ext cx="39024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3" name=""/>
          <p:cNvSpPr/>
          <p:nvPr/>
        </p:nvSpPr>
        <p:spPr>
          <a:xfrm>
            <a:off x="5834160" y="335772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4" name=""/>
          <p:cNvSpPr/>
          <p:nvPr/>
        </p:nvSpPr>
        <p:spPr>
          <a:xfrm>
            <a:off x="179280" y="3789360"/>
            <a:ext cx="511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9. Из какого краевого условия находят коэффициенты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6" name=""/>
          <p:cNvGraphicFramePr/>
          <p:nvPr/>
        </p:nvGraphicFramePr>
        <p:xfrm>
          <a:off x="5364000" y="3848040"/>
          <a:ext cx="181080" cy="228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848040"/>
                    <a:ext cx="18108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8" name=""/>
          <p:cNvSpPr/>
          <p:nvPr/>
        </p:nvSpPr>
        <p:spPr>
          <a:xfrm>
            <a:off x="5651640" y="378936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9" name=""/>
          <p:cNvSpPr/>
          <p:nvPr/>
        </p:nvSpPr>
        <p:spPr>
          <a:xfrm>
            <a:off x="108000" y="4149720"/>
            <a:ext cx="6264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10. Запишите формулу оценки погрешности метода прогонк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06:01:22Z</dcterms:created>
  <dc:creator>copm</dc:creator>
  <dc:description/>
  <dc:language>en-US</dc:language>
  <cp:lastModifiedBy>q</cp:lastModifiedBy>
  <dcterms:modified xsi:type="dcterms:W3CDTF">2009-07-17T09:00:38Z</dcterms:modified>
  <cp:revision>1206</cp:revision>
  <dc:subject/>
  <dc:title>Слайд 1</dc:title>
</cp:coreProperties>
</file>