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306-86DE-4AB0-8671-0A07A3F1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335E-5992-473F-A496-6255CEFE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6BA-5921-4939-BB5A-C37E6A3D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266D-7925-4452-9188-BA492E8D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86FD8-2400-435F-8C13-D9CA08FB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CE7E7-9CE1-4720-800B-CFAD83FD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292A8-3093-4D8C-99A2-831BF1E5B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65D91-ECD0-4C97-A524-752F1E98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96B18-9B04-4695-88F6-B8C96011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4F1A4-E316-4379-A316-5E200910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22475-5D0C-4BF9-8BD8-34263F55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769-066B-4016-8314-A494EAD4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9D28C-47A9-4512-B3BF-F29BD65E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C82BA-7BD5-42F2-A363-D4DBB1A5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895B2-B93B-4D42-A9F5-0220F718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6C33D-8432-483E-A05B-AD341BB8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F0831-B6C0-4C32-BCD8-4FFC1677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434-7358-42C0-9576-D0C48842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38C6-F509-4508-91E6-B08C66A3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ABC-1A9D-41A4-A6E3-DD1DA3227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104-6443-4D18-8C61-F1AA98DA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20D7-DA6B-4F96-B972-E6C4F331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ECF-77B4-4A6D-9F8B-B910DEA5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F83-AB11-4EAF-AB2F-FE575ED2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D8BE-56AB-4CBD-819F-DB0A70E196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6636-3703-4A77-B6B6-4066E24B15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.wmf"/><Relationship Id="rId19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ЛАБОРАТОРНАЯ РАБОТА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№1-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4111200"/>
            <a:ext cx="87854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ТЕРАЦИОННЫЕ МЕТОДЫ РЕШЕНИЯ НЕЛИНЕЙНЫХ УРАВН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981000"/>
            <a:ext cx="45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мер программы на язык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665360"/>
            <a:ext cx="8353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#include &lt;stdio.h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#include &lt;math.h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#include &lt;conio.h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 n=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loat x,y,z,x0=-1,c=-0.1,eps=0.001;d=0.0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=x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rscr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=x+c*(exp(x)+x);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=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intf(“%d %.4f %.4f %.4f %.4f\n”,n++,x,y,fabs(y-x),fabs(exp(y)+y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=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ile(fabs(z-x)&gt;e || fabs(exp(x)+x)&gt;d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tch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2556000" y="981000"/>
            <a:ext cx="45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рядок выполнения работ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9280" y="1484280"/>
            <a:ext cx="87854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Определить количество корней исходного нелинейного уравнения 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графическим методом и построить граф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Доказать аналитическим методом единственность корня уравнения (1)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резке (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Записать итерационные формулы, реализующие процесс поиска корня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трезке методом простых итераций, методом Ньютона и его модифик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556000" y="981000"/>
            <a:ext cx="45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рядок выполнения работы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1484280"/>
            <a:ext cx="878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Составить программу на любом языке программирования, реализующ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роенные итерационные процессы, используя алгоритм. Печ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зультатов должна осуществляться на каждом шаге итераций в ви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аблиц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284120" y="2903400"/>
                <a:ext cx="609624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n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d>
                            </m:e>
                          </m:d>
                        </m:e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179280" y="4292640"/>
            <a:ext cx="8785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Провести вычислительные эксперимен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 Сделать вы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 Составить отчет о проделанной работе (номер и название работы; цель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 работы; задание на работу; теоретическую часть работы; листи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граммы; таблицы результатов; выводы о проделанной работ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556000" y="981000"/>
            <a:ext cx="45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арианты индивидуальных зад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71640" y="1628640"/>
          <a:ext cx="7704000" cy="4281480"/>
        </p:xfrm>
        <a:graphic>
          <a:graphicData uri="http://schemas.openxmlformats.org/drawingml/2006/table">
            <a:tbl>
              <a:tblPr/>
              <a:tblGrid>
                <a:gridCol w="666720"/>
                <a:gridCol w="2136600"/>
                <a:gridCol w="941400"/>
                <a:gridCol w="666720"/>
                <a:gridCol w="2136960"/>
                <a:gridCol w="115560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линейное урав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ез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линейное уравн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ез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763640" y="2205000"/>
                <a:ext cx="10670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63640" y="2543040"/>
                <a:ext cx="10670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763640" y="2852640"/>
                <a:ext cx="80028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4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763640" y="3213000"/>
                <a:ext cx="10670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58960" y="3513240"/>
                <a:ext cx="12286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727280" y="4640400"/>
                <a:ext cx="1476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727280" y="4280040"/>
                <a:ext cx="1476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727280" y="3921120"/>
                <a:ext cx="1476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814920" y="2263680"/>
                <a:ext cx="828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851280" y="2624040"/>
                <a:ext cx="485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51280" y="2924280"/>
                <a:ext cx="44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27520" y="3284640"/>
                <a:ext cx="60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805200" y="3632040"/>
                <a:ext cx="695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805200" y="3992400"/>
                <a:ext cx="838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824280" y="4280040"/>
                <a:ext cx="676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827520" y="4640400"/>
                <a:ext cx="600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757520" y="5000760"/>
                <a:ext cx="15904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851280" y="5000760"/>
                <a:ext cx="4287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435640" y="2984400"/>
                <a:ext cx="1666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425920" y="2637000"/>
                <a:ext cx="166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1752480" y="5648400"/>
                <a:ext cx="166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752480" y="5361120"/>
                <a:ext cx="166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425920" y="2276640"/>
                <a:ext cx="166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3795840" y="5300640"/>
                <a:ext cx="847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814920" y="5648400"/>
                <a:ext cx="828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596360" y="2276640"/>
                <a:ext cx="695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7596360" y="2565360"/>
          <a:ext cx="6570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2565360"/>
                    <a:ext cx="65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7634160" y="2924280"/>
                <a:ext cx="609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435640" y="3933720"/>
                <a:ext cx="1266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435640" y="3573360"/>
                <a:ext cx="1266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435640" y="3284640"/>
                <a:ext cx="1266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550280" y="3284640"/>
                <a:ext cx="838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7540560" y="3573360"/>
                <a:ext cx="8478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7596360" y="3933720"/>
                <a:ext cx="676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435640" y="5249880"/>
                <a:ext cx="1523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5435640" y="4941720"/>
                <a:ext cx="1523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435640" y="4581360"/>
                <a:ext cx="1523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435640" y="4221000"/>
                <a:ext cx="15238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7524720" y="4221000"/>
                <a:ext cx="1000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7596360" y="4581360"/>
                <a:ext cx="79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7596360" y="4941720"/>
          <a:ext cx="7236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4941720"/>
                    <a:ext cx="723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596360" y="5300640"/>
                <a:ext cx="714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79280" y="763560"/>
            <a:ext cx="8785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 Какое уравнение называется нелинейным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. Что называется решением нелинейного уравнени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. Когда возникает задача приближенного решения нелинейных уравнени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. Что называется приближенным решением нелинейного уравнени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. Назовите основные этапы решения нелинейных уравн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. В чем состоит этап отделения корней нелинейных уравнени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. В чем состоит этап уточнения корней нелинейных уравнени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. В чем состоит графический метод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. В чем состоит аналитический метод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 Сформулируйте теорему о существовании хотя бы одного корня нелинейного уравнения на отрез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. Сформулируйте теорему о существовании единственного корня нелинейного уравнения на отрез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2. Сформулируйте постановку задачи метода простых итер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3. Сформулируйте основную идею метода простых итер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4. Запишите итерационную формулу метода простых итер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. Как выбирается начальное приближение в методе простых итер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6. Приведите геометрическую интерпретацию метода простых итераций (случай «лестница»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7. Приведите геометрическую интерпретацию метода простых итераций (случай «спираль»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8. Приведите геометрическую интерпретацию метода простых итераций в случае расходящегося итерационного процесс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9. Сформулируйте теорему о достаточных условиях сходимости метода простых итер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. Покажите процесс приведения нелинейного уравнения к виду, допускающему сходящиеся итер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763560"/>
            <a:ext cx="8785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1. Запишите условия окончания итерационного процесса по методу простых итер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2. Почему условия окончания итерационного процесса по методу простых итераций должны выполняться одновременн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3. Сформулируйте достоинства и недостатки метода простых итерац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4. Сформулируйте постановку задачи метода Ньют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5. Запишите рабочую формулу метода Ньют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6. В чем состоит геометрический смысл метода Ньюто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7. Сформулируйте теорему о сходимости метода Ньют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8. Запишите достаточное условие сходимости метода Ньют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9. Как выбирается начальное приближение в методе Ньюто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0. В каком случае метод Ньютона является частным случаем метода простых итераци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1. Сформулируйте достоинства и недостатки метода Ньют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2. Сформулируйте постановку задачи модифицированного метода Ньют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3. Запишите рабочую формулу модифицированного метода Ньют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4. В чем состоит геометрический смысл модифицированного Метода Ньюто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5. Запишите условия окончания итерационных процессов по Методу Ньютона и его модифик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ЛАБОРАТОРНАЯ РАБОТА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№3-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79280" y="4111200"/>
            <a:ext cx="87854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ТЕРАЦИОННЫЕ МЕТОДЫ РЕШЕНИЯ СИСТЕМ НЕЛИНЕЙНЫХ УРАВН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7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1555920"/>
            <a:ext cx="835344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Цель работы: научиться решать системы нелинейных уравнен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етодом простых итераций и методом Ньютона с помощью ЭВ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одержание рабо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2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учить метод простых итераций и метод Ньютона для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2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истем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На конкретном примере усвоить порядок решения систем нелинейных уравнений указанными методами на ЭВ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Составить программу на любом языке программирования и с 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мощью решить систему уравнений с точн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4870440"/>
            <a:ext cx="496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Составить отчет о проделанной раб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6615000" y="4508640"/>
                <a:ext cx="90972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2411280" y="1341360"/>
            <a:ext cx="453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дание на лабораторную раб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26920" y="3284640"/>
            <a:ext cx="813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Построить рабочие формулы по методу простых итераций и методу Ньюто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26920" y="1917720"/>
            <a:ext cx="813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Решить аналитически систему нелинейных уравнений второго поряд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3789360"/>
            <a:ext cx="856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ля численного решения системы (1) при начальном приближен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26920" y="4869000"/>
            <a:ext cx="8137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Составить программу на любом языке программирования, реализующу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роенные итерационные процес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58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276720" y="2421000"/>
                <a:ext cx="2049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4" name=""/>
          <p:cNvSpPr/>
          <p:nvPr/>
        </p:nvSpPr>
        <p:spPr>
          <a:xfrm>
            <a:off x="0" y="37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478320" y="4383000"/>
                <a:ext cx="15332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1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1835280" y="141300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Е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95280" y="1989000"/>
            <a:ext cx="8569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МЕТОД ПРОСТЫХ ИТЕР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ид, допускающий сходящиеся итер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924360" y="2708280"/>
          <a:ext cx="102852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708280"/>
                    <a:ext cx="1028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"/>
          <p:cNvSpPr/>
          <p:nvPr/>
        </p:nvSpPr>
        <p:spPr>
          <a:xfrm>
            <a:off x="324000" y="3357720"/>
            <a:ext cx="718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д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3348000" y="3573360"/>
                <a:ext cx="246240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395280" y="4292640"/>
            <a:ext cx="360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остаточные условия сходимост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132000" y="4724280"/>
                <a:ext cx="263844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α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β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δ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3132000" y="5445000"/>
                <a:ext cx="26384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α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β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δ</m:t>
                        </m:r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1125360"/>
            <a:ext cx="835344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Цель работы: научиться решать нелинейные уравнения методом прост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тераций, методом Ньютона и модифицированным методом Ньютона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мощью ЭВ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 рабо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Изучить метод простых итераций, метод Ньютона и модифицирова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тод Ньютона для решения нелинейных уравн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На конкретном примере усвоить порядок решения нелиней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равнений указанными методами на ЭВ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Составить программу на любом языке программирования и с 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мощью решить уравнение (1) с точ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19640" y="4154400"/>
                <a:ext cx="15130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179280" y="4508640"/>
            <a:ext cx="5113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Составить отчет о проделанной раб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4140360" y="2060640"/>
                <a:ext cx="6602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"/>
          <p:cNvSpPr/>
          <p:nvPr/>
        </p:nvSpPr>
        <p:spPr>
          <a:xfrm>
            <a:off x="1835280" y="141300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Е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5280" y="1989000"/>
            <a:ext cx="374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ЛАУ для определения неизвест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3635280" y="2421000"/>
                <a:ext cx="199404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γ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α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7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4508640"/>
            <a:ext cx="43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словия окончания процесса (3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132000" y="5084640"/>
                <a:ext cx="2952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835280" y="141300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ТЕОР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323388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265400" y="3549600"/>
          <a:ext cx="301932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3549600"/>
                    <a:ext cx="30193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324000" y="4960800"/>
            <a:ext cx="43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словия окончания процесса (5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132000" y="5394240"/>
                <a:ext cx="23036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2771640" y="1916280"/>
            <a:ext cx="374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МЕТОД НЬЮТ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2492280"/>
            <a:ext cx="37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терационная формул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3274920" y="2852640"/>
          <a:ext cx="243864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4920" y="2852640"/>
                    <a:ext cx="243864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6012000" y="287352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1835280" y="141300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мер выполнения лабораторн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5280" y="1989000"/>
            <a:ext cx="85694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Аналитическое решение СНУ (1): (2,3) и (3,2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МЕТОД ПРОСТЫХ ИТЕР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Найдем частные производные и вычислим их при начальном приближении (2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397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2674800" y="3591000"/>
                <a:ext cx="31924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;</m:t>
                            </m:r>
                            <m:r>
                              <m:t xml:space="preserve">1</m:t>
                            </m:r>
                          </m:e>
                        </m:d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324000" y="4149720"/>
            <a:ext cx="4895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Решим СЛАУ (4) относительно неизвест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1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5138640" y="4221000"/>
                <a:ext cx="6573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071960" y="4819680"/>
                <a:ext cx="107640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γ</m:t>
                            </m:r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β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1835280" y="141300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мер выполнения лабораторн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95280" y="1989000"/>
            <a:ext cx="13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Получи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797120" y="2048040"/>
                <a:ext cx="5619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2406600" y="2054160"/>
                <a:ext cx="797040" cy="2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322800" y="2060640"/>
                <a:ext cx="53640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95280" y="2565360"/>
            <a:ext cx="32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Итерационные формулы (3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517840" y="3068640"/>
                <a:ext cx="37767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95280" y="3933720"/>
            <a:ext cx="8569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МЕТОД НЬЮТ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Матрица частных производных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348000" y="4776840"/>
          <a:ext cx="2314440" cy="102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776840"/>
                    <a:ext cx="231444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1835280" y="1413000"/>
            <a:ext cx="54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мер выполнения лабораторной рабо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4000" y="2863800"/>
            <a:ext cx="237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Обратная матриц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0920" y="2060640"/>
            <a:ext cx="360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Определитель матриц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635280" y="2421000"/>
          <a:ext cx="14004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421000"/>
                    <a:ext cx="1400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362320" y="3213000"/>
          <a:ext cx="40100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213000"/>
                    <a:ext cx="40100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324000" y="3860640"/>
            <a:ext cx="33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Итерационные формулы (5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3165480" y="4365720"/>
                <a:ext cx="25369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9280" y="1125360"/>
            <a:ext cx="8785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лок-схема итерационных методов решения систем нелинейных уравн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1844640"/>
            <a:ext cx="80740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 Задать параметры метод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95280" y="2565360"/>
            <a:ext cx="828036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. Вычислить очередное приближени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95280" y="3284640"/>
            <a:ext cx="8353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. Проверить условия окончания процесс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4724280"/>
            <a:ext cx="2433600" cy="16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. Обновить начальное приближ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92560" y="5019840"/>
            <a:ext cx="8222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10160" y="22939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610160" y="30099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708360" y="40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796840" y="5234040"/>
            <a:ext cx="53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91200" y="4448160"/>
            <a:ext cx="4953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96000" y="4076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770360" y="4753080"/>
            <a:ext cx="4121280" cy="71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. Распечатать приближенное значение реш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56440" y="54687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89560" y="5754600"/>
            <a:ext cx="16477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. Оста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9280" y="2708280"/>
            <a:ext cx="216000" cy="3168720"/>
          </a:xfrm>
          <a:custGeom>
            <a:avLst/>
            <a:gdLst/>
            <a:ahLst/>
            <a:rect l="l" t="t" r="r" b="b"/>
            <a:pathLst>
              <a:path w="288" h="1872">
                <a:moveTo>
                  <a:pt x="288" y="1872"/>
                </a:moveTo>
                <a:lnTo>
                  <a:pt x="0" y="1872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537000" y="1844640"/>
                <a:ext cx="384336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;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443480" y="2565360"/>
                <a:ext cx="183672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527200" y="3500280"/>
                <a:ext cx="53373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∧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843120" y="5138640"/>
                <a:ext cx="18986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971640" y="6021360"/>
                <a:ext cx="15462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5695920" y="5040360"/>
                <a:ext cx="1971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755640" y="5567400"/>
                <a:ext cx="13683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556000" y="1341360"/>
            <a:ext cx="453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ядок выполнения работы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9280" y="1771560"/>
            <a:ext cx="87854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Составить программу на любом языке программирования, реализующ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роенные итерационные процессы, используя алгоритм. Печ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зультатов должна осуществляться на каждом шаге итераций в ви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таблиц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9280" y="4148280"/>
            <a:ext cx="8785440" cy="20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Провести вычислительные эксперимен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 Сделать выв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 Составить отчет о проделанной работе (номер и название работы; цель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 работы; задание на работу; теоретическую часть работы; листи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граммы; таблицы результатов; выводы о проделанной работ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835280" y="3141720"/>
                <a:ext cx="5484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k</m:t>
                          </m:r>
                        </m:e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sup>
                          </m:sSup>
                        </m:e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d>
                                </m:sup>
                              </m:sSup>
                            </m:e>
                          </m:d>
                        </m:e>
                        <m:e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sup>
                          </m:sSup>
                        </m:e>
                        <m:e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d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2050920" y="836640"/>
            <a:ext cx="5042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арианты индивидуальных зад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250920" y="1268280"/>
          <a:ext cx="8751960" cy="4748400"/>
        </p:xfrm>
        <a:graphic>
          <a:graphicData uri="http://schemas.openxmlformats.org/drawingml/2006/table">
            <a:tbl>
              <a:tblPr/>
              <a:tblGrid>
                <a:gridCol w="666720"/>
                <a:gridCol w="2286000"/>
                <a:gridCol w="1439640"/>
                <a:gridCol w="667080"/>
                <a:gridCol w="2284200"/>
                <a:gridCol w="1408320"/>
              </a:tblGrid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нелинейны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льное прибли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нелинейны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льное прибли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042920" y="2781360"/>
                <a:ext cx="1057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042920" y="3429000"/>
                <a:ext cx="1257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2920" y="4076640"/>
                <a:ext cx="12477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3419640" y="2852640"/>
                <a:ext cx="371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419640" y="3573360"/>
                <a:ext cx="371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419640" y="4208400"/>
                <a:ext cx="342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1042920" y="4724280"/>
                <a:ext cx="1419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3419640" y="4869000"/>
                <a:ext cx="4190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042920" y="5445000"/>
                <a:ext cx="105732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419640" y="5445000"/>
                <a:ext cx="56196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364000" y="2781360"/>
                <a:ext cx="1057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7667640" y="2852640"/>
                <a:ext cx="5428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5364000" y="3429000"/>
                <a:ext cx="1143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667640" y="3500280"/>
                <a:ext cx="304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5435640" y="4149720"/>
                <a:ext cx="9810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7667640" y="4149720"/>
                <a:ext cx="55260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5435640" y="4729320"/>
                <a:ext cx="10764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7667640" y="4797360"/>
                <a:ext cx="304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5364000" y="5373720"/>
                <a:ext cx="1095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7667640" y="5445000"/>
                <a:ext cx="37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АБОРАТОРНАЯ РАБОТА №3-4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НЕЛИНЕЙНЫХ УРАВН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1979640" y="836640"/>
            <a:ext cx="532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арианты индивидуальных зада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50920" y="1268280"/>
          <a:ext cx="8751600" cy="5400360"/>
        </p:xfrm>
        <a:graphic>
          <a:graphicData uri="http://schemas.openxmlformats.org/drawingml/2006/table">
            <a:tbl>
              <a:tblPr/>
              <a:tblGrid>
                <a:gridCol w="666720"/>
                <a:gridCol w="2286000"/>
                <a:gridCol w="1439640"/>
                <a:gridCol w="666720"/>
                <a:gridCol w="2284560"/>
                <a:gridCol w="1407960"/>
              </a:tblGrid>
              <a:tr h="14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нелинейны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льное прибли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нелинейны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чальное приближе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971640" y="2781360"/>
                <a:ext cx="11332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3276720" y="2852640"/>
                <a:ext cx="304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971640" y="3429000"/>
                <a:ext cx="1143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3276720" y="3500280"/>
                <a:ext cx="37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971640" y="4129200"/>
                <a:ext cx="1152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276720" y="4149720"/>
                <a:ext cx="37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971640" y="4724280"/>
                <a:ext cx="13334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3276720" y="4797360"/>
                <a:ext cx="333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971640" y="5445000"/>
                <a:ext cx="15238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3276720" y="5445000"/>
                <a:ext cx="342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971640" y="6021360"/>
                <a:ext cx="1305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3276720" y="6093000"/>
                <a:ext cx="333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5292720" y="2781360"/>
                <a:ext cx="13050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7667640" y="2781360"/>
                <a:ext cx="342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364000" y="3429000"/>
                <a:ext cx="15908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7667640" y="3500280"/>
                <a:ext cx="333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364000" y="4076640"/>
                <a:ext cx="1143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7667640" y="4149720"/>
                <a:ext cx="3715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5364000" y="4724280"/>
                <a:ext cx="10764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7667640" y="4797360"/>
                <a:ext cx="4572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364000" y="5445000"/>
                <a:ext cx="121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667640" y="5445000"/>
                <a:ext cx="304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179280" y="763560"/>
            <a:ext cx="8785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Какие системы называются нелинейны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Запишите постановку задачи для метода простых итер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Запишите итерационные формулы метода простых итер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 Как и из какой области выбирается начальное приближение д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етода простых итерац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 Запишите достаточные условия сходимости для метода прост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тер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 Приведите один из способов приведения системы нелиней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равнений к виду, допускающему сходящиеся ит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 Запишите условия окончания итерационного процесса по метод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стых итер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 Приведите достоинства и недостатки метода простых итер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 В чем заключается трудоемкость метода простых итераций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. Запишите постановку задачи для метода Ньют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1125360"/>
            <a:ext cx="4248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дание на лабораторную раб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724280"/>
            <a:ext cx="8785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Построить рабочие формулы по методу простых итераций, методу Ньютона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модифицированному методу Ньютона, реализующие процесс поиска кор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елинейного уравнения (1) на отрез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Составить программу на любом языке программирования, реализующу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роенные итерационные процес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" y="1773360"/>
            <a:ext cx="88585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Доказать графическим и аналитическим методами существование единствен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орня нелинейного урав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478320" y="3216240"/>
                <a:ext cx="1670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79280" y="357336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 отрез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780000" y="4137120"/>
                <a:ext cx="12729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79280" y="765000"/>
            <a:ext cx="878544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. Как и из какой области выбирается начальное приближение 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тода Ньюто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. Запишите рабочую формулу метода Нью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. Запишите условия окончания итерационного процесса по мето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ью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4. Приведите достоинства и недостатки метода Нью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. В каком случае метод Ньютона является частным случаем мет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стых итераци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. Запишите постановку задачи для модифицированного мет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ью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. Как и из какой области выбирается начальное приближение 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дифицированного метода Ньютон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8. Запишите рабочую формулу модифицированного метода Нью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. Запишите условия окончания итерационного процесса п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дифицированному методу Нью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. Приведите достоинства и недостатки модифицированного мет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Ньют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ЛАБОРАТОРНАЯ РАБОТА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№5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79280" y="4111200"/>
            <a:ext cx="87854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ТЕРАЦИОННЫЕ МЕТОДЫ РЕШЕНИЯ СИСТЕМ ЛИНЕЙНЫХ АЛГЕБРАИЧЕСКИХ УРАВН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28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5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ЛИНЕЙНЫХ АЛГЕБРАИЧЕСКИ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179280" y="1413000"/>
            <a:ext cx="83534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Цель работы: научиться решать системы линейных алгебраических уравн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СЛАУ) методом простых итераций и методом Зейделя с помощью ЭВ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одержание рабо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Изучить метод простых итераций и метод Зейделя для решения СЛА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На конкретном примере усвоить порядок решения СЛАУ указанными методами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ЭВ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Составить программу на любом языке программирования и с ее помощью реши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ЛАУ с точност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9280" y="5157720"/>
            <a:ext cx="453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Составить отчет о проделанной рабо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2222640" y="3552840"/>
                <a:ext cx="9093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3241800" y="3500280"/>
            <a:ext cx="5651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равнить скорости сходимости метода прост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3860640"/>
            <a:ext cx="352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тераций и метода Зейде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9280" y="4292640"/>
            <a:ext cx="1800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Измени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1547640" y="4344840"/>
                <a:ext cx="79704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ε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7" name=""/>
          <p:cNvSpPr/>
          <p:nvPr/>
        </p:nvSpPr>
        <p:spPr>
          <a:xfrm>
            <a:off x="2556000" y="4292640"/>
            <a:ext cx="640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снова решить задачу. Сделать вывод о влиянии точности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0920" y="4726080"/>
            <a:ext cx="244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оличество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5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ЛИНЕЙНЫХ АЛГЕБРАИЧЕСКИ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2556000" y="1341360"/>
            <a:ext cx="424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дание на лабораторную раб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6920" y="3502080"/>
            <a:ext cx="8137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Построить рабочие формулы по методу простых итераций и методу Зейдел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ля численного решения системы (1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26920" y="1773360"/>
            <a:ext cx="813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Решить аналитически СЛАУ третьего поряд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26920" y="4581360"/>
            <a:ext cx="8137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Составить программу на любом языке программирования, реализующу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роенные итерационные процес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8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3614760" y="2349360"/>
                <a:ext cx="1587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y</m:t>
                            </m:r>
                            <m:r>
                              <m:t xml:space="preserve">+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z</m:t>
                            </m:r>
                            <m:r>
                              <m:t xml:space="preserve">=</m:t>
                            </m:r>
                            <m:r>
                              <m:t xml:space="preserve">7</m:t>
                            </m:r>
                            <m:r>
                              <m:t xml:space="preserve">;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АБОРАТОРНАЯ РАБОТА №5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ЛИНЕЙНЫХ АЛГЕБРАИЧЕСКИХ УРАВН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2556000" y="1701720"/>
            <a:ext cx="4537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ядок выполнения работы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79280" y="2276640"/>
            <a:ext cx="87854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Определить аналитическое решение СЛА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Если СЛАУ не является системой с преобладающими диагональ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оэффициентами, то элементарными преобразованиями приведем ее к этому ви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Построить итерационные формулы, реализующие процесс поиска решения СЛАУ (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 методу простых итераций и методу Зейдел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Составить программу на любом языке программирования, реализующу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строенные итерационные процессы. Печать результатов должна осуществлять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 каждом шаге итерации в виде таблиц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042920" y="4869000"/>
                <a:ext cx="655344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k</m:t>
                          </m:r>
                        </m:e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sup>
                          </m:sSup>
                        </m:e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d>
                                </m:sup>
                              </m:sSup>
                            </m:e>
                          </m:d>
                        </m:e>
                        <m:e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sup>
                          </m:sSup>
                        </m:e>
                        <m:e>
                          <m:sSup>
                            <m:e>
                              <m:r>
                                <m:t xml:space="preserve">y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d>
                                </m:sup>
                              </m:sSup>
                            </m:e>
                          </m:d>
                        </m:e>
                        <m:e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</m:e>
                              </m:d>
                            </m:sup>
                          </m:sSup>
                        </m:e>
                        <m:e>
                          <m:sSup>
                            <m:e>
                              <m:r>
                                <m:t xml:space="preserve">z</m:t>
                              </m:r>
                            </m:e>
                            <m:sup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d>
                            </m:sup>
                          </m:sSup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e>
                                  </m:d>
                                </m:sup>
                              </m:sSup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</m:d>
                                </m:sup>
                              </m:sSup>
                            </m:e>
                          </m:d>
                        </m:e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50920" y="5688000"/>
            <a:ext cx="87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Провести вычислительные эксперимен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Составить отчет о проделанной рабо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АБОРАТОРНАЯ РАБОТА №5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ЛИНЕЙНЫХ АЛГЕБРАИЧЕСКИХ УРАВН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826920" y="177336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Аналитическое решение СЛАУ (1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4630680" y="1844640"/>
                <a:ext cx="1235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>
            <a:off x="826920" y="2349360"/>
            <a:ext cx="5616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Итерационные формулы метода простых итерац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627280" y="2781360"/>
          <a:ext cx="26575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2781360"/>
                    <a:ext cx="26575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755640" y="4292640"/>
            <a:ext cx="5616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Итерационные формулы метода Зейдел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2556000" y="4653000"/>
          <a:ext cx="3133440" cy="14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6000" y="4653000"/>
                    <a:ext cx="313344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АБОРАТОРНАЯ РАБОТА №5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ЛИНЕЙНЫХ АЛГЕБРАИЧЕСКИХ УРАВН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826920" y="1773360"/>
            <a:ext cx="381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Выбор начального приближе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52720" y="2349360"/>
                <a:ext cx="2411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91" name=""/>
          <p:cNvSpPr/>
          <p:nvPr/>
        </p:nvSpPr>
        <p:spPr>
          <a:xfrm>
            <a:off x="755640" y="3357720"/>
            <a:ext cx="489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Условия окончания итерационных процесс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"/>
              <p:cNvSpPr txBox="1"/>
              <p:nvPr/>
            </p:nvSpPr>
            <p:spPr>
              <a:xfrm>
                <a:off x="1969920" y="4076640"/>
                <a:ext cx="52754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∧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5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ЛИНЕЙНЫХ АЛГЕБРАИЧЕСКИ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539640" y="1125360"/>
            <a:ext cx="7993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лок-схема итерационных методов решения С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95280" y="1844640"/>
            <a:ext cx="80740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 Задать параметры метод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95280" y="2565360"/>
            <a:ext cx="828036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. Вычислить очередное приближени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280" y="3284640"/>
            <a:ext cx="83534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. Проверить условия окончания процесс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5280" y="4365720"/>
            <a:ext cx="243360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. Обновить начальное приближ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292560" y="5019840"/>
            <a:ext cx="8222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610160" y="22939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610160" y="300996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708360" y="40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96840" y="5234040"/>
            <a:ext cx="531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091200" y="4448160"/>
            <a:ext cx="4953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96000" y="4076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770360" y="4753080"/>
            <a:ext cx="4121280" cy="71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. Распечатать приближенное значение реш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256440" y="546876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89560" y="5754600"/>
            <a:ext cx="16477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. Оста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9280" y="2708280"/>
            <a:ext cx="216000" cy="3168720"/>
          </a:xfrm>
          <a:custGeom>
            <a:avLst/>
            <a:gdLst/>
            <a:ahLst/>
            <a:rect l="l" t="t" r="r" b="b"/>
            <a:pathLst>
              <a:path w="288" h="1872">
                <a:moveTo>
                  <a:pt x="288" y="1872"/>
                </a:moveTo>
                <a:lnTo>
                  <a:pt x="0" y="1872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3095640" y="1844640"/>
                <a:ext cx="507672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;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;</m:t>
                    </m:r>
                    <m:r>
                      <m:t xml:space="preserve">z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;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068720" y="2565360"/>
                <a:ext cx="2554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39640" y="3500280"/>
                <a:ext cx="8120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∧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∧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68360" y="4869000"/>
                <a:ext cx="195588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  <m:r>
                          <m:t xml:space="preserve">;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5281560" y="5013360"/>
                <a:ext cx="28576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АБОРАТОРНАЯ РАБОТА №5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ЛИНЕЙНЫХ АЛГЕБРАИЧЕСКИХ УРАВН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2556000" y="1125360"/>
            <a:ext cx="38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арианты индивидуальных зад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250920" y="1700280"/>
          <a:ext cx="8372520" cy="4681080"/>
        </p:xfrm>
        <a:graphic>
          <a:graphicData uri="http://schemas.openxmlformats.org/drawingml/2006/table">
            <a:tbl>
              <a:tblPr/>
              <a:tblGrid>
                <a:gridCol w="666720"/>
                <a:gridCol w="1709640"/>
                <a:gridCol w="666720"/>
                <a:gridCol w="2286000"/>
                <a:gridCol w="666720"/>
                <a:gridCol w="2376720"/>
              </a:tblGrid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линейных алгебраически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линейных алгебраически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линейных алгебраически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9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971640" y="2708280"/>
          <a:ext cx="1380960" cy="79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708280"/>
                    <a:ext cx="138096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971640" y="3789360"/>
          <a:ext cx="149544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3789360"/>
                    <a:ext cx="149544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971640" y="5229360"/>
          <a:ext cx="1305000" cy="799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5229360"/>
                    <a:ext cx="13050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3419640" y="2708280"/>
          <a:ext cx="1371600" cy="799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19640" y="2708280"/>
                    <a:ext cx="137160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348000" y="3860640"/>
          <a:ext cx="1457280" cy="800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3860640"/>
                    <a:ext cx="14572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3348000" y="5157720"/>
          <a:ext cx="1419120" cy="800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8000" y="5157720"/>
                    <a:ext cx="14191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6300720" y="2708280"/>
          <a:ext cx="1333440" cy="79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00720" y="2708280"/>
                    <a:ext cx="133344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0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6372360" y="3789360"/>
          <a:ext cx="1380960" cy="1228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72360" y="3789360"/>
                    <a:ext cx="138096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6372360" y="5229360"/>
          <a:ext cx="1752480" cy="1028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72360" y="5229360"/>
                    <a:ext cx="17524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АБОРАТОРНАЯ РАБОТА №5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ЛИНЕЙНЫХ АЛГЕБРАИЧЕСКИХ УРАВН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2556000" y="1052640"/>
            <a:ext cx="388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арианты индивидуальных зад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250920" y="1484280"/>
          <a:ext cx="8372520" cy="4824360"/>
        </p:xfrm>
        <a:graphic>
          <a:graphicData uri="http://schemas.openxmlformats.org/drawingml/2006/table">
            <a:tbl>
              <a:tblPr/>
              <a:tblGrid>
                <a:gridCol w="666720"/>
                <a:gridCol w="1709640"/>
                <a:gridCol w="666720"/>
                <a:gridCol w="2286000"/>
                <a:gridCol w="666720"/>
                <a:gridCol w="237672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линейных алгебраически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линейных алгебраически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линейных алгебраически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9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971640" y="2565360"/>
          <a:ext cx="1609560" cy="10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160956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971640" y="4005360"/>
          <a:ext cx="1685880" cy="122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005360"/>
                    <a:ext cx="168588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971640" y="5300640"/>
          <a:ext cx="148572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5300640"/>
                    <a:ext cx="148572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3348000" y="2565360"/>
          <a:ext cx="1838520" cy="1438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2565360"/>
                    <a:ext cx="183852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300720" y="2565360"/>
          <a:ext cx="1666800" cy="102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2565360"/>
                    <a:ext cx="16668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419640" y="4005360"/>
          <a:ext cx="1485720" cy="1209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19640" y="4005360"/>
                    <a:ext cx="1485720" cy="12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6372360" y="4005360"/>
          <a:ext cx="1838160" cy="1133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72360" y="4005360"/>
                    <a:ext cx="183816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419640" y="5300640"/>
          <a:ext cx="1838160" cy="733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9640" y="5300640"/>
                    <a:ext cx="183816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6372360" y="5300640"/>
          <a:ext cx="1704960" cy="800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8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72360" y="5300640"/>
                    <a:ext cx="17049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556000" y="907920"/>
            <a:ext cx="49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мер выполнения лабораторной раб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60720" y="2997360"/>
            <a:ext cx="25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Графический мет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627280" y="4243320"/>
          <a:ext cx="3600360" cy="213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4243320"/>
                    <a:ext cx="36003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3851280" y="3897360"/>
                <a:ext cx="6523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24000" y="1268280"/>
            <a:ext cx="27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елинейное уравн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693960" y="1415880"/>
                <a:ext cx="1670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019400" y="1905120"/>
                <a:ext cx="127332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324000" y="1700280"/>
            <a:ext cx="122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резок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429000"/>
            <a:ext cx="446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едставим исходное уравнение в вид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276640"/>
            <a:ext cx="8713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ежде, чем приступить к построению итерационных формул, нужно убедиться, ч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елинейное уравнение (1) имеет на отрезке (2) имеет единственный коре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АБОРАТОРНАЯ РАБОТА №5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ИТЕРАЦИОННЫЕ МЕТОДЫ РЕШЕНИЯ СИСТЕМ ЛИНЕЙНЫХ АЛГЕБРАИЧЕСКИХ УРАВН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2556000" y="1052640"/>
            <a:ext cx="388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арианты индивидуальных зад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250920" y="1484280"/>
          <a:ext cx="8246880" cy="4684680"/>
        </p:xfrm>
        <a:graphic>
          <a:graphicData uri="http://schemas.openxmlformats.org/drawingml/2006/table">
            <a:tbl>
              <a:tblPr/>
              <a:tblGrid>
                <a:gridCol w="666720"/>
                <a:gridCol w="1854000"/>
                <a:gridCol w="666720"/>
                <a:gridCol w="2232360"/>
                <a:gridCol w="701640"/>
                <a:gridCol w="2125440"/>
              </a:tblGrid>
              <a:tr h="10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линейных алгебраически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линейных алгебраически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стема линейных алгебраических уравн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971640" y="2565360"/>
          <a:ext cx="168588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565360"/>
                    <a:ext cx="168588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564000" y="4149720"/>
          <a:ext cx="167616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4149720"/>
                    <a:ext cx="16761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6443640" y="5157720"/>
          <a:ext cx="1571760" cy="8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5157720"/>
                    <a:ext cx="15717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179280" y="763560"/>
            <a:ext cx="8785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Какие системы называются линейны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Какие точные методы решения СЛАУ Вы знает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В чем состоит преимущество численных методов перед точным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Сформулируйте постановку задачи для приближенного решения СЛ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Приведите процесс приведения СЛАУ к виду, допускающему сходящие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тер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. Каким образом выбирается начальное приближение в методе прост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тераций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. Запишите итерационные формулы по методу простых итер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. Сформулируйте теорему о достаточных условиях сходимости метода прост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тер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. Сформулируйте теорему о необходимых и достаточных услов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ходимости метода простых итера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. Каким образом выбирается начальное приближение в методе Зейдел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. Запишите итерационные формулы по методу Зейд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. Запишите условия окончания итерационных процессов по методу прост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тераций и методу Зейд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ЛАБОРАТОРНАЯ РАБОТА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№6-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79280" y="4111200"/>
            <a:ext cx="87854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НТЕРПОЛЯЦИЯ И АППРОКСИМАЦИЯ ФУНК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39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6-7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НТЕРПОЛЯЦИЯ И АППРОКСИМАЦИЯ ФУНК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1341360"/>
            <a:ext cx="8353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Цель работы: научиться строить интерполяционные и аппроксимаци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линомы по заданной системе точек с помощью ЭВ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 рабо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Изучить принципы построения интерполяционной формулы Лагранж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ервой и  второй интерполяционной формулы Ньютона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аппроксимационного полином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На конкретном примере усвоить порядок построения указа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линомов с помощью ЭВ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Составить программу на любом языке программирования, реализующ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цесс построения указанных полиномов второго порядка для 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з трех равноотстоящих узловых точ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Сделать вывод о точности построения полином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Составить отчет о проделанной раб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6-7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НТЕРПОЛЯЦИЯ И АППРОКСИМАЦИЯ ФУНК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2340000" y="1341360"/>
            <a:ext cx="453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4000"/>
          </a:bodyPr>
          <a:p>
            <a:pPr marL="150840" indent="-1508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дание на лабораторную раб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50920" y="1916280"/>
            <a:ext cx="6481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Составить таблицу значений экспериментальной функц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504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6372360" y="198900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7236000" y="191772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 точност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371520" y="2565360"/>
          <a:ext cx="60012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520" y="2565360"/>
                    <a:ext cx="6001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"/>
          <p:cNvSpPr/>
          <p:nvPr/>
        </p:nvSpPr>
        <p:spPr>
          <a:xfrm>
            <a:off x="1258920" y="2494080"/>
            <a:ext cx="554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ля равноотстоящей системы из трех узловых точе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508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7454880" y="2492280"/>
                <a:ext cx="13651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,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324000" y="299736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 отрез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49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1660680" y="2900520"/>
                <a:ext cx="8380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8" name=""/>
          <p:cNvSpPr/>
          <p:nvPr/>
        </p:nvSpPr>
        <p:spPr>
          <a:xfrm>
            <a:off x="2668680" y="3044880"/>
            <a:ext cx="5432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з области допустимых  значений функции, г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49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7524720" y="2971800"/>
                <a:ext cx="469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>
            <a:off x="179280" y="3716280"/>
            <a:ext cx="878544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По сформированной системе точек построить интерполяционную формулу Лагранж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ервую и вторую интерполяционные формулы Ньютона и аппроксимационный поли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торого поряд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Составить программу на любом языке программирования, реализующую процес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строения указанных полиномов для заданной системы точ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6-7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НТЕРПОЛЯЦИЯ И АППРОКСИМАЦИЯ ФУНК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34920" y="1052640"/>
            <a:ext cx="316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Таблица значений фун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3060720" y="1125360"/>
                <a:ext cx="647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7" name=""/>
          <p:cNvGraphicFramePr/>
          <p:nvPr/>
        </p:nvGraphicFramePr>
        <p:xfrm>
          <a:off x="5148360" y="1125360"/>
          <a:ext cx="60012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125360"/>
                    <a:ext cx="6001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0" name=""/>
              <p:cNvSpPr txBox="1"/>
              <p:nvPr/>
            </p:nvSpPr>
            <p:spPr>
              <a:xfrm>
                <a:off x="2268360" y="1461960"/>
                <a:ext cx="9050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3462480" y="1413000"/>
          <a:ext cx="466560" cy="26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62480" y="1413000"/>
                    <a:ext cx="46656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4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5" name=""/>
              <p:cNvSpPr txBox="1"/>
              <p:nvPr/>
            </p:nvSpPr>
            <p:spPr>
              <a:xfrm>
                <a:off x="5118120" y="1341360"/>
                <a:ext cx="838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6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7" name=""/>
              <p:cNvSpPr txBox="1"/>
              <p:nvPr/>
            </p:nvSpPr>
            <p:spPr>
              <a:xfrm>
                <a:off x="6558120" y="1397160"/>
                <a:ext cx="45720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3419640" y="1844640"/>
                <a:ext cx="198432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e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87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19" name=""/>
          <p:cNvSpPr/>
          <p:nvPr/>
        </p:nvSpPr>
        <p:spPr>
          <a:xfrm>
            <a:off x="3780000" y="1052640"/>
            <a:ext cx="143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 точност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869080" y="1052640"/>
            <a:ext cx="30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ля равноотстоящей систем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1413000"/>
            <a:ext cx="2411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з трех узловых 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246480" y="1413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65400" y="1413000"/>
            <a:ext cx="1440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 отрез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054840" y="1413000"/>
            <a:ext cx="576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093080" y="1413000"/>
            <a:ext cx="143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меет вид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2637000"/>
            <a:ext cx="6443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Интерполяционный полином Лагранжа второго поряд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1846440" y="3068640"/>
          <a:ext cx="488628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46440" y="3068640"/>
                    <a:ext cx="48862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2050920" y="3357720"/>
                <a:ext cx="7146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,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0" y="3357720"/>
            <a:ext cx="20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де коэффициен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808360" y="3357720"/>
            <a:ext cx="356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числяются по формулам вид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5" name=""/>
          <p:cNvGraphicFramePr/>
          <p:nvPr/>
        </p:nvGraphicFramePr>
        <p:xfrm>
          <a:off x="2025720" y="3645000"/>
          <a:ext cx="456228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25720" y="3645000"/>
                    <a:ext cx="4562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2050920" y="4148280"/>
          <a:ext cx="461016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4148280"/>
                    <a:ext cx="46101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2124000" y="4653000"/>
          <a:ext cx="452448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24000" y="4653000"/>
                    <a:ext cx="45244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4" name=""/>
              <p:cNvSpPr txBox="1"/>
              <p:nvPr/>
            </p:nvSpPr>
            <p:spPr>
              <a:xfrm>
                <a:off x="1619280" y="5805360"/>
                <a:ext cx="547668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1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4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5" name=""/>
          <p:cNvSpPr/>
          <p:nvPr/>
        </p:nvSpPr>
        <p:spPr>
          <a:xfrm>
            <a:off x="0" y="5300640"/>
            <a:ext cx="586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нтерполяционный полином Лагранжа второго поряд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6-7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НТЕРПОЛЯЦИЯ И АППРОКСИМАЦИЯ ФУНК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"/>
          <p:cNvSpPr/>
          <p:nvPr/>
        </p:nvSpPr>
        <p:spPr>
          <a:xfrm>
            <a:off x="34920" y="1052640"/>
            <a:ext cx="6553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Первая интерполяционная формула Ньютона второго поряд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3132000" y="1628640"/>
          <a:ext cx="221004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628640"/>
                    <a:ext cx="2210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1258920" y="2470320"/>
                <a:ext cx="10000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2556000" y="2441520"/>
                <a:ext cx="126684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Δ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5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3635280" y="3116160"/>
          <a:ext cx="72396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3116160"/>
                    <a:ext cx="723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59" name=""/>
          <p:cNvGraphicFramePr/>
          <p:nvPr/>
        </p:nvGraphicFramePr>
        <p:xfrm>
          <a:off x="3132000" y="4772160"/>
          <a:ext cx="23529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4772160"/>
                    <a:ext cx="2352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539640" y="5564160"/>
          <a:ext cx="7621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556416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1692360" y="5661000"/>
                <a:ext cx="9525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6" name=""/>
          <p:cNvSpPr/>
          <p:nvPr/>
        </p:nvSpPr>
        <p:spPr>
          <a:xfrm>
            <a:off x="0" y="2419200"/>
            <a:ext cx="12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еличи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340000" y="2419200"/>
            <a:ext cx="28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924360" y="2419200"/>
            <a:ext cx="496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зываются конечными разностями первого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3187800"/>
            <a:ext cx="36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второго порядка, соответственно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427640" y="3187800"/>
            <a:ext cx="21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0" y="4003560"/>
            <a:ext cx="655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Вторая интерполяционная формула Ньютона второго поряд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5587920"/>
            <a:ext cx="6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403280" y="558792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2700360" y="5587920"/>
            <a:ext cx="2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6-7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НТЕРПОЛЯЦИЯ И АППРОКСИМАЦИЯ ФУНК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"/>
          <p:cNvSpPr/>
          <p:nvPr/>
        </p:nvSpPr>
        <p:spPr>
          <a:xfrm>
            <a:off x="34920" y="1052640"/>
            <a:ext cx="6553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 Аппроксимационный полином второго поряд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3419640" y="1484280"/>
                <a:ext cx="17524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9" name=""/>
          <p:cNvSpPr/>
          <p:nvPr/>
        </p:nvSpPr>
        <p:spPr>
          <a:xfrm>
            <a:off x="0" y="1844640"/>
            <a:ext cx="21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числим сумм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168120" y="2205000"/>
                <a:ext cx="39722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2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8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8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3" name=""/>
              <p:cNvSpPr txBox="1"/>
              <p:nvPr/>
            </p:nvSpPr>
            <p:spPr>
              <a:xfrm>
                <a:off x="4222800" y="2205000"/>
                <a:ext cx="3228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6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9</m:t>
                    </m:r>
                    <m:r>
                      <m:t xml:space="preserve">;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4" name=""/>
          <p:cNvSpPr/>
          <p:nvPr/>
        </p:nvSpPr>
        <p:spPr>
          <a:xfrm>
            <a:off x="0" y="2708280"/>
            <a:ext cx="21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решить СЛАУ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3032280" y="2892600"/>
                <a:ext cx="261936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m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+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  <m:e>
                                  <m:sSub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;</m:t>
                              </m:r>
                            </m:e>
                          </m:mr>
                          <m:mr>
                            <m:e>
                              <m:eqArr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e>
                                  </m:nary>
                                  <m:r>
                                    <m:t xml:space="preserve">+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  <m:e>
                                      <m:sSub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nary>
                                  <m:r>
                                    <m:t xml:space="preserve">+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  <m:e>
                                      <m:sSub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  <m:sup>
                                          <m:r>
                                            <m:t xml:space="preserve">3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nary>
                                  <m:r>
                                    <m:t xml:space="preserve">=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  <m:r>
                                    <m:t xml:space="preserve">;</m:t>
                                  </m:r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  <m:e>
                                      <m:sSub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</m:sub>
                                      </m:sSub>
                                    </m:e>
                                  </m:nary>
                                  <m:r>
                                    <m:t xml:space="preserve">+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  <m:e>
                                      <m:sSub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  <m:sup>
                                          <m:r>
                                            <m:t xml:space="preserve">3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nary>
                                  <m:r>
                                    <m:t xml:space="preserve">+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  <m:e>
                                      <m:sSub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  <m:sup>
                                          <m:r>
                                            <m:t xml:space="preserve">4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t xml:space="preserve">a</m:t>
                                          </m:r>
                                        </m:e>
                                        <m:sub>
                                          <m:r>
                                            <m:t xml:space="preserve">2</m:t>
                                          </m:r>
                                        </m:sub>
                                      </m:sSub>
                                    </m:e>
                                  </m:nary>
                                  <m:r>
                                    <m:t xml:space="preserve">=</m:t>
                                  </m:r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  <m:e>
                                      <m:sSubSup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bSup>
                                      <m:sSub>
                                        <m:e>
                                          <m:r>
                                            <m:t xml:space="preserve">y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5796000" y="3284640"/>
            <a:ext cx="50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2943360" y="4437000"/>
                <a:ext cx="27810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42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38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66</m:t>
                              </m:r>
                              <m:r>
                                <m:t xml:space="preserve">;</m:t>
                              </m:r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2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8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8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739</m:t>
                                  </m:r>
                                  <m:r>
                                    <m:t xml:space="preserve">;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38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68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+</m:t>
                                  </m:r>
                                  <m:r>
                                    <m:t xml:space="preserve">7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66</m:t>
                                  </m:r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=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54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0" name=""/>
          <p:cNvSpPr/>
          <p:nvPr/>
        </p:nvSpPr>
        <p:spPr>
          <a:xfrm>
            <a:off x="0" y="4221000"/>
            <a:ext cx="14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истема (1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867280" y="4581360"/>
            <a:ext cx="50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"/>
              <p:cNvSpPr txBox="1"/>
              <p:nvPr/>
            </p:nvSpPr>
            <p:spPr>
              <a:xfrm>
                <a:off x="2411280" y="5229360"/>
                <a:ext cx="38386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8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Δ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3059280" y="6186600"/>
                <a:ext cx="24858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6" name=""/>
          <p:cNvSpPr/>
          <p:nvPr/>
        </p:nvSpPr>
        <p:spPr>
          <a:xfrm>
            <a:off x="0" y="5229360"/>
            <a:ext cx="97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Тогд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5805360"/>
            <a:ext cx="655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комый аппроксимационный полином второго поряд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6-7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НТЕРПОЛЯЦИЯ И АППРОКСИМАЦИЯ ФУНК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"/>
          <p:cNvSpPr/>
          <p:nvPr/>
        </p:nvSpPr>
        <p:spPr>
          <a:xfrm>
            <a:off x="34920" y="1484280"/>
            <a:ext cx="89298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Составить программу на любом языке программирования, реализующую процесс построения указанных полиномо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1. Сформировать таблицу значений экспериментальной функ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2. Вычислить значения коэффициентов интерполяционной формулы Лагранж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556000" y="907920"/>
            <a:ext cx="38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ПОРЯДОК ВЫПОЛНЕНИЯ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7885080" y="2349360"/>
                <a:ext cx="71424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,2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10" name=""/>
          <p:cNvSpPr/>
          <p:nvPr/>
        </p:nvSpPr>
        <p:spPr>
          <a:xfrm>
            <a:off x="0" y="2708280"/>
            <a:ext cx="89298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записать полин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3. Вычислить значения конечных разностей первого и второго порядков для построения первой и второй интерполяционной формулы Ньютона и записать полино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4. Для построения аппроксимационного полинома второго порядка вычислить необходимые суммы, сформировать СЛАУ (1) и записать полин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5. Осуществить процесс табулирования четырех полиномов и эксперименталь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0" y="4437000"/>
            <a:ext cx="14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функции п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1395360" y="4486320"/>
                <a:ext cx="80028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2268360" y="4437000"/>
            <a:ext cx="410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 одинаковым шагом табулир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486900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Провести вычислительные эксперимен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Построить графики всех приведенных в таблице функ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Составить отчет о проделанной работе: номер и название лабораторной работе, цель работы, содержание работы, задание на работу, теоретическую часть работы, графики, листинг программы, таблицы результатов, выводы о проделанной рабо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6-7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НТЕРПОЛЯЦИЯ И АППРОКСИМАЦИЯ ФУНКЦ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2556000" y="981000"/>
            <a:ext cx="45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арианты индивидуальных зад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971640" y="1628640"/>
          <a:ext cx="6129360" cy="4392720"/>
        </p:xfrm>
        <a:graphic>
          <a:graphicData uri="http://schemas.openxmlformats.org/drawingml/2006/table">
            <a:tbl>
              <a:tblPr/>
              <a:tblGrid>
                <a:gridCol w="666720"/>
                <a:gridCol w="1278000"/>
                <a:gridCol w="666720"/>
                <a:gridCol w="1425600"/>
                <a:gridCol w="666720"/>
                <a:gridCol w="14256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ункц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5" name=""/>
              <p:cNvSpPr txBox="1"/>
              <p:nvPr/>
            </p:nvSpPr>
            <p:spPr>
              <a:xfrm>
                <a:off x="1763640" y="2154240"/>
                <a:ext cx="94320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6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1692360" y="2637000"/>
                <a:ext cx="82872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x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6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1692360" y="3133800"/>
                <a:ext cx="9903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7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1692360" y="3738600"/>
                <a:ext cx="8287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4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7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1692360" y="4305240"/>
                <a:ext cx="6570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5" name=""/>
              <p:cNvSpPr txBox="1"/>
              <p:nvPr/>
            </p:nvSpPr>
            <p:spPr>
              <a:xfrm>
                <a:off x="1692360" y="4869000"/>
                <a:ext cx="6951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3635280" y="1989000"/>
                <a:ext cx="5428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8" name=""/>
              <p:cNvSpPr txBox="1"/>
              <p:nvPr/>
            </p:nvSpPr>
            <p:spPr>
              <a:xfrm>
                <a:off x="3635280" y="2695680"/>
                <a:ext cx="79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3635280" y="3200400"/>
                <a:ext cx="952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"/>
              <p:cNvSpPr txBox="1"/>
              <p:nvPr/>
            </p:nvSpPr>
            <p:spPr>
              <a:xfrm>
                <a:off x="5724360" y="1989000"/>
                <a:ext cx="12099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3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5796000" y="2637000"/>
                <a:ext cx="762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5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5796000" y="3141720"/>
                <a:ext cx="7524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8" name=""/>
              <p:cNvSpPr txBox="1"/>
              <p:nvPr/>
            </p:nvSpPr>
            <p:spPr>
              <a:xfrm>
                <a:off x="1692360" y="5529240"/>
                <a:ext cx="106668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e>
                        </m:rad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9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1" name=""/>
              <p:cNvSpPr txBox="1"/>
              <p:nvPr/>
            </p:nvSpPr>
            <p:spPr>
              <a:xfrm>
                <a:off x="3708360" y="3645000"/>
                <a:ext cx="11714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3" name=""/>
              <p:cNvSpPr txBox="1"/>
              <p:nvPr/>
            </p:nvSpPr>
            <p:spPr>
              <a:xfrm>
                <a:off x="5724360" y="3645000"/>
                <a:ext cx="981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5" name=""/>
              <p:cNvSpPr txBox="1"/>
              <p:nvPr/>
            </p:nvSpPr>
            <p:spPr>
              <a:xfrm>
                <a:off x="3635280" y="4221000"/>
                <a:ext cx="5428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7" name=""/>
              <p:cNvSpPr txBox="1"/>
              <p:nvPr/>
            </p:nvSpPr>
            <p:spPr>
              <a:xfrm>
                <a:off x="5724360" y="4221000"/>
                <a:ext cx="619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9" name=""/>
              <p:cNvSpPr txBox="1"/>
              <p:nvPr/>
            </p:nvSpPr>
            <p:spPr>
              <a:xfrm>
                <a:off x="3635280" y="4869000"/>
                <a:ext cx="79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0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724360" y="4869000"/>
                <a:ext cx="648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3708360" y="5516640"/>
                <a:ext cx="952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5796000" y="5516640"/>
                <a:ext cx="885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907920"/>
            <a:ext cx="45370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имер выполнения лабораторной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1628640"/>
            <a:ext cx="27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Аналитический мет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708360" y="2800440"/>
                <a:ext cx="15289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395280" y="2203560"/>
            <a:ext cx="518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) Функция на концах отрезка должна менять знак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5280" y="3357720"/>
            <a:ext cx="540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) Производная на отрезке должна сохранять знак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492360" y="4600440"/>
                <a:ext cx="160812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45080" y="3865680"/>
                <a:ext cx="11142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24000" y="5157720"/>
            <a:ext cx="864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вод: нелинейное уравнение (1) имеет на отрезке (2) единственный коре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179280" y="763560"/>
            <a:ext cx="8785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Что называется конечной разностью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Что называется обобщенной степенью числ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Запишите формулу, по которой вычисляется первая конеч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ност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й обобщенной степе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В чем суть задачи интерполирования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. Что называется интерполированием и экстраполированием функци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6. Какие интерполяционные формулы используются д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вноотстоящих узл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7. Запишите первую интерполяционную формулу Ньют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. Для интерполирования в окрестности какой точки использу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вая интерполяционная формула Ньютон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9. Чему равна погрешность первой интерполяционной форму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ьютон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0. Для каких узлов используется вторая интерполяционная форму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ьютон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"/>
          <p:cNvSpPr/>
          <p:nvPr/>
        </p:nvSpPr>
        <p:spPr>
          <a:xfrm>
            <a:off x="179280" y="763560"/>
            <a:ext cx="8785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11. Для интерполирования в окрестности какой точки используется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вторая интерполяционная формула Ньютона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12. Запишите вид полинома, используемого для получения второй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интерполяционной формулы Ньютон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13. Чему равны коэффициенты второй интерполяционной формул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Ньютона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14. Запишите вторую интерполяционную формулу Ньютон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15. Чему равна погрешность второй интерполяционной формулы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Ньютона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16. Для каких узлов используется интерполяционная формул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Лагранжа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17. Запишите интерполяционную формулу Лагранжа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18. Какая оценка погрешности справедлива для интерполяционной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формулы Лагранжа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19. В каких случаях возникает задача аппроксимации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20. В чем суть метода наименьших квадратов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ЛАБОРАТОРНАЯ РАБОТА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№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179280" y="4111200"/>
            <a:ext cx="87854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БЛИЖЕННОЕ РЕШЕНИЕ ОБЫКНОВЕННЫХ ДИФФЕНРЕНЦИАЛЬНЫХ УРАВН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50" dur="2000" fill="hold"/>
                                        <p:tgtEl>
                                          <p:spTgt spid="1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АБОРАТОРНАЯ РАБОТА №8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ИБЛИЖЕННОЕ РЕШЕНИЕ ОБЫКНОВЕННЫХ ДИФФЕРЕНЦИАЛЬНЫХ УРАВН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79280" y="1197000"/>
            <a:ext cx="8353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Цель работы: научиться решать обыкновенные дифференциаль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равнения (ОДУ) методом Эйлера и методом Рунге-Кутта с помощ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ЭВ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держание рабо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 Изучить методы Эйлера и Рунге-Кутта для приближенного ре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На конкретном примере усвоить порядок решения ОДУ указан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етодами с помощью ЭВ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 Составить программу на любом языке программирования, реализующ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цесс приближенного решения ОДУ указанными метод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Сделать вывод о точности используемых метод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. Составить отчет о проделанной рабо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8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ИБЛИЖЕННОЕ РЕШЕНИЕ ОБЫКНОВЕННЫХ ДИФФЕРЕНЦИАЛЬ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"/>
          <p:cNvSpPr/>
          <p:nvPr/>
        </p:nvSpPr>
        <p:spPr>
          <a:xfrm>
            <a:off x="5327640" y="2205000"/>
            <a:ext cx="61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50920" y="3068640"/>
            <a:ext cx="8137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Построить рабочие формулы по методу Эйлера и методу Рунге-Кутта 4-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орядка точности для численного решения уравнения (1) при начальном услов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2) на отрез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50920" y="1773360"/>
            <a:ext cx="8137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Решить аналитически задачу Коши вид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50920" y="4724280"/>
            <a:ext cx="813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Составить программу на любом языке программирования, реализующую построенные процесс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0" y="366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378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0" y="372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3" name=""/>
          <p:cNvGraphicFramePr/>
          <p:nvPr/>
        </p:nvGraphicFramePr>
        <p:xfrm>
          <a:off x="3851280" y="2133720"/>
          <a:ext cx="138096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133720"/>
                    <a:ext cx="13809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3780000" y="2781360"/>
                <a:ext cx="14857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5364000" y="2781360"/>
            <a:ext cx="61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9" name=""/>
          <p:cNvGraphicFramePr/>
          <p:nvPr/>
        </p:nvGraphicFramePr>
        <p:xfrm>
          <a:off x="3924360" y="4221000"/>
          <a:ext cx="138096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4221000"/>
                    <a:ext cx="13809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2" name=""/>
          <p:cNvSpPr/>
          <p:nvPr/>
        </p:nvSpPr>
        <p:spPr>
          <a:xfrm>
            <a:off x="250920" y="692280"/>
            <a:ext cx="871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ОДУ (1) является ОДУ с разделяющимися переменными. Аналитическое реш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4" name=""/>
              <p:cNvSpPr txBox="1"/>
              <p:nvPr/>
            </p:nvSpPr>
            <p:spPr>
              <a:xfrm>
                <a:off x="108000" y="981000"/>
                <a:ext cx="981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e</m:t>
                        </m:r>
                      </m:e>
                      <m:sup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6" name=""/>
              <p:cNvSpPr txBox="1"/>
              <p:nvPr/>
            </p:nvSpPr>
            <p:spPr>
              <a:xfrm>
                <a:off x="1908000" y="1197000"/>
                <a:ext cx="12384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7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8" name=""/>
              <p:cNvSpPr txBox="1"/>
              <p:nvPr/>
            </p:nvSpPr>
            <p:spPr>
              <a:xfrm>
                <a:off x="6300720" y="981000"/>
                <a:ext cx="53352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"/>
              <p:cNvSpPr txBox="1"/>
              <p:nvPr/>
            </p:nvSpPr>
            <p:spPr>
              <a:xfrm>
                <a:off x="2195640" y="1413000"/>
                <a:ext cx="98100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1" name=""/>
          <p:cNvSpPr/>
          <p:nvPr/>
        </p:nvSpPr>
        <p:spPr>
          <a:xfrm>
            <a:off x="1187280" y="1052640"/>
            <a:ext cx="6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г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124000" y="1052640"/>
            <a:ext cx="42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пределяется из начального условия (2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6948360" y="105264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Реше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0" y="1484280"/>
            <a:ext cx="23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задачи Коши (1), (2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203640" y="1484280"/>
            <a:ext cx="28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50920" y="1989000"/>
            <a:ext cx="871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Для построения рабочих формул методов Эйлера и Рунге-Кутта 4 порядка точ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2492280"/>
            <a:ext cx="26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делим отрезок (3)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9" name=""/>
              <p:cNvSpPr txBox="1"/>
              <p:nvPr/>
            </p:nvSpPr>
            <p:spPr>
              <a:xfrm>
                <a:off x="2556000" y="2627280"/>
                <a:ext cx="142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"/>
              <p:cNvSpPr txBox="1"/>
              <p:nvPr/>
            </p:nvSpPr>
            <p:spPr>
              <a:xfrm>
                <a:off x="755640" y="3171960"/>
                <a:ext cx="141912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2843280" y="3213000"/>
                <a:ext cx="942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5" name=""/>
          <p:cNvGraphicFramePr/>
          <p:nvPr/>
        </p:nvGraphicFramePr>
        <p:xfrm>
          <a:off x="6156360" y="3116160"/>
          <a:ext cx="12286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3116160"/>
                    <a:ext cx="1228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7" name=""/>
          <p:cNvSpPr/>
          <p:nvPr/>
        </p:nvSpPr>
        <p:spPr>
          <a:xfrm>
            <a:off x="2771640" y="2492280"/>
            <a:ext cx="637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вных частей и сформируем систему равноотстоящ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0" y="314172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точе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2195640" y="3141720"/>
            <a:ext cx="68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г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3851280" y="3141720"/>
            <a:ext cx="23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шаг интегрирова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451640" y="3116160"/>
            <a:ext cx="2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3789360"/>
            <a:ext cx="38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Рабочая формула метода Эйлер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4" name=""/>
              <p:cNvSpPr txBox="1"/>
              <p:nvPr/>
            </p:nvSpPr>
            <p:spPr>
              <a:xfrm>
                <a:off x="3111480" y="4384800"/>
                <a:ext cx="218124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h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25" name=""/>
          <p:cNvSpPr/>
          <p:nvPr/>
        </p:nvSpPr>
        <p:spPr>
          <a:xfrm>
            <a:off x="5364000" y="4363920"/>
            <a:ext cx="2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0" y="5013360"/>
            <a:ext cx="615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ля поставленной задачи данная формула запишется так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8" name=""/>
              <p:cNvSpPr txBox="1"/>
              <p:nvPr/>
            </p:nvSpPr>
            <p:spPr>
              <a:xfrm>
                <a:off x="3203640" y="5805360"/>
                <a:ext cx="18288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Э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Э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hx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4</m:t>
                        </m:r>
                      </m:sup>
                    </m:sSubSup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Э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9" name=""/>
          <p:cNvSpPr/>
          <p:nvPr/>
        </p:nvSpPr>
        <p:spPr>
          <a:xfrm>
            <a:off x="5148360" y="573264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1" name=""/>
          <p:cNvSpPr/>
          <p:nvPr/>
        </p:nvSpPr>
        <p:spPr>
          <a:xfrm>
            <a:off x="250920" y="692280"/>
            <a:ext cx="8713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Для вычислений по методу Рунге-Кутта 4 порядка необходимо предваритель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1125360"/>
            <a:ext cx="31320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числить 4 коэффициент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4" name=""/>
          <p:cNvGraphicFramePr/>
          <p:nvPr/>
        </p:nvGraphicFramePr>
        <p:xfrm>
          <a:off x="3530520" y="1628640"/>
          <a:ext cx="1762200" cy="16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0520" y="1628640"/>
                    <a:ext cx="176220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6" name=""/>
          <p:cNvSpPr/>
          <p:nvPr/>
        </p:nvSpPr>
        <p:spPr>
          <a:xfrm>
            <a:off x="0" y="42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3357720"/>
            <a:ext cx="33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 рабочая формула имеет вид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"/>
              <p:cNvSpPr txBox="1"/>
              <p:nvPr/>
            </p:nvSpPr>
            <p:spPr>
              <a:xfrm>
                <a:off x="2374920" y="3773520"/>
                <a:ext cx="32767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140" name=""/>
          <p:cNvSpPr/>
          <p:nvPr/>
        </p:nvSpPr>
        <p:spPr>
          <a:xfrm>
            <a:off x="5869080" y="3789360"/>
            <a:ext cx="5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0" y="4292640"/>
            <a:ext cx="19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оэффициент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0" y="259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3" name=""/>
              <p:cNvSpPr txBox="1"/>
              <p:nvPr/>
            </p:nvSpPr>
            <p:spPr>
              <a:xfrm>
                <a:off x="3419640" y="4632480"/>
                <a:ext cx="180000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РК</m:t>
                            </m:r>
                          </m:sup>
                        </m:sSubSup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РК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РК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4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h</m:t>
                                </m:r>
                              </m:e>
                            </m:d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РК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44" name=""/>
          <p:cNvSpPr/>
          <p:nvPr/>
        </p:nvSpPr>
        <p:spPr>
          <a:xfrm>
            <a:off x="5651640" y="522936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"/>
          <p:cNvSpPr/>
          <p:nvPr/>
        </p:nvSpPr>
        <p:spPr>
          <a:xfrm>
            <a:off x="250920" y="692280"/>
            <a:ext cx="165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Блок-схем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684360" y="1413000"/>
            <a:ext cx="8280000" cy="3384360"/>
            <a:chOff x="684360" y="1413000"/>
            <a:chExt cx="8280000" cy="3384360"/>
          </a:xfrm>
        </p:grpSpPr>
        <p:sp>
          <p:nvSpPr>
            <p:cNvPr id="1148" name=""/>
            <p:cNvSpPr/>
            <p:nvPr/>
          </p:nvSpPr>
          <p:spPr>
            <a:xfrm>
              <a:off x="843120" y="1413000"/>
              <a:ext cx="7643520" cy="51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1. Задать параметры метода: 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43120" y="2187360"/>
              <a:ext cx="8121240" cy="25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2. Вычислить  и очередное приближение  по формулам (4) (или (5) и (6)).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843120" y="2644920"/>
              <a:ext cx="7643520" cy="31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3. Проверить условие окончания процесса: 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843120" y="3861360"/>
              <a:ext cx="509544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5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. Обновить начальное приближение ,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 и 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09800" y="3030120"/>
              <a:ext cx="636840" cy="25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нет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131720" y="199224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131720" y="2449800"/>
              <a:ext cx="0" cy="19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626960" y="3034440"/>
              <a:ext cx="381960" cy="19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да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372080" y="2936880"/>
              <a:ext cx="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43120" y="3267360"/>
              <a:ext cx="509544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. Распечатать приближенное значение  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735240" y="3215880"/>
              <a:ext cx="1273680" cy="29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6. Остано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84360" y="2255400"/>
              <a:ext cx="158760" cy="1864080"/>
            </a:xfrm>
            <a:custGeom>
              <a:avLst/>
              <a:gdLst/>
              <a:ahLst/>
              <a:rect l="l" t="t" r="r" b="b"/>
              <a:pathLst>
                <a:path w="288" h="1872">
                  <a:moveTo>
                    <a:pt x="288" y="1872"/>
                  </a:moveTo>
                  <a:lnTo>
                    <a:pt x="0" y="1872"/>
                  </a:lnTo>
                  <a:lnTo>
                    <a:pt x="0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338720" y="4505760"/>
              <a:ext cx="89172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Tahoma"/>
                </a:rPr>
                <a:t>Рис. 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709800" y="2957760"/>
              <a:ext cx="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709800" y="3603240"/>
              <a:ext cx="0" cy="29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900000" y="1484280"/>
            <a:ext cx="2374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 Задать параметры мето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900000" y="213372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. Вычисли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6" name=""/>
              <p:cNvSpPr txBox="1"/>
              <p:nvPr/>
            </p:nvSpPr>
            <p:spPr>
              <a:xfrm>
                <a:off x="2021040" y="2133720"/>
                <a:ext cx="1038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67" name=""/>
          <p:cNvSpPr/>
          <p:nvPr/>
        </p:nvSpPr>
        <p:spPr>
          <a:xfrm>
            <a:off x="3132000" y="2133720"/>
            <a:ext cx="27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по формулам (4) или ((5) и (6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9" name=""/>
              <p:cNvSpPr txBox="1"/>
              <p:nvPr/>
            </p:nvSpPr>
            <p:spPr>
              <a:xfrm>
                <a:off x="3214800" y="1413000"/>
                <a:ext cx="2581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0" name=""/>
          <p:cNvSpPr/>
          <p:nvPr/>
        </p:nvSpPr>
        <p:spPr>
          <a:xfrm>
            <a:off x="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900000" y="2637000"/>
            <a:ext cx="3456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. Проверить условие окончание процесс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3" name=""/>
              <p:cNvSpPr txBox="1"/>
              <p:nvPr/>
            </p:nvSpPr>
            <p:spPr>
              <a:xfrm>
                <a:off x="4186080" y="2637000"/>
                <a:ext cx="45720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74" name=""/>
          <p:cNvSpPr/>
          <p:nvPr/>
        </p:nvSpPr>
        <p:spPr>
          <a:xfrm>
            <a:off x="900000" y="3213000"/>
            <a:ext cx="345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. Распечатать знач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2868480" y="3262320"/>
                <a:ext cx="6955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900000" y="3933720"/>
            <a:ext cx="25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. Обновить начальное знач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0" name=""/>
              <p:cNvSpPr txBox="1"/>
              <p:nvPr/>
            </p:nvSpPr>
            <p:spPr>
              <a:xfrm>
                <a:off x="3564000" y="3983040"/>
                <a:ext cx="1704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1" name=""/>
          <p:cNvSpPr/>
          <p:nvPr/>
        </p:nvSpPr>
        <p:spPr>
          <a:xfrm>
            <a:off x="6804000" y="3213000"/>
            <a:ext cx="1150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. Остан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780000" y="2997360"/>
            <a:ext cx="431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7451640" y="2925720"/>
            <a:ext cx="4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179280" y="4508640"/>
            <a:ext cx="896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Содержание отчета (номер и название лабораторной работы; цель работы; содержание работы; задание на работу; теоретическая часть работы; листинг программы; таблица результатов; графики; выводы о проделанной работе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ОРЯДОК ВЫПОЛНЕНИЯ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6" name=""/>
          <p:cNvSpPr/>
          <p:nvPr/>
        </p:nvSpPr>
        <p:spPr>
          <a:xfrm>
            <a:off x="250920" y="692280"/>
            <a:ext cx="87138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Аналитически решить задачу Коши (1), (2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Записать рабочие формулы методов Эйлера и Рунге-Кутта 4 порядка точности для приближенного решения сформулированной задачи на отрезке (3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Составить программу, реализующую процесс приближенного решения задачи Коши указанными методами. Печать результатов должна осуществляться на каждом шаге итераций в виде следующей таблицы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7" name=""/>
              <p:cNvSpPr txBox="1"/>
              <p:nvPr/>
            </p:nvSpPr>
            <p:spPr>
              <a:xfrm>
                <a:off x="2379600" y="2900520"/>
                <a:ext cx="42292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i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y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  <m:e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t xml:space="preserve">Э</m:t>
                              </m:r>
                            </m:sup>
                          </m:sSubSup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y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Э</m:t>
                                  </m:r>
                                </m:sup>
                              </m:sSubSup>
                            </m:e>
                          </m:d>
                        </m:e>
                        <m:e>
                          <m:sSubSup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РК</m:t>
                              </m:r>
                            </m:sup>
                          </m:sSubSup>
                        </m:e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y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d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РК</m:t>
                                  </m:r>
                                </m:sup>
                              </m:sSubSup>
                            </m:e>
                          </m:d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188" name=""/>
          <p:cNvSpPr/>
          <p:nvPr/>
        </p:nvSpPr>
        <p:spPr>
          <a:xfrm>
            <a:off x="216000" y="4148280"/>
            <a:ext cx="30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Провести вычисления пр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0" name=""/>
          <p:cNvGraphicFramePr/>
          <p:nvPr/>
        </p:nvGraphicFramePr>
        <p:xfrm>
          <a:off x="3193920" y="4219560"/>
          <a:ext cx="65736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3920" y="4219560"/>
                    <a:ext cx="65736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2" name=""/>
          <p:cNvSpPr/>
          <p:nvPr/>
        </p:nvSpPr>
        <p:spPr>
          <a:xfrm>
            <a:off x="3851280" y="414648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79280" y="5157720"/>
            <a:ext cx="8713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Построить графики точного решения и двух приближенных метод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Составить отчет о проделанной рабо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АБОРАТОРНАЯ РАБОТА №8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ИБЛИЖЕННОЕ РЕШЕНИЕ ОБЫКНОВЕННЫХ ДИФФЕРЕНЦИАЛЬНЫХ УРАВН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5" name=""/>
          <p:cNvSpPr/>
          <p:nvPr/>
        </p:nvSpPr>
        <p:spPr>
          <a:xfrm>
            <a:off x="2556000" y="981000"/>
            <a:ext cx="45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арианты индивидуальных зад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179280" y="1484280"/>
          <a:ext cx="8353440" cy="5040360"/>
        </p:xfrm>
        <a:graphic>
          <a:graphicData uri="http://schemas.openxmlformats.org/drawingml/2006/table">
            <a:tbl>
              <a:tblPr/>
              <a:tblGrid>
                <a:gridCol w="666720"/>
                <a:gridCol w="2745000"/>
                <a:gridCol w="857160"/>
                <a:gridCol w="666720"/>
                <a:gridCol w="2049480"/>
                <a:gridCol w="136836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ча Кош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ез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ча Кош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ез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6" name=""/>
              <p:cNvSpPr txBox="1"/>
              <p:nvPr/>
            </p:nvSpPr>
            <p:spPr>
              <a:xfrm>
                <a:off x="971640" y="2540160"/>
                <a:ext cx="1400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7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8" name=""/>
              <p:cNvSpPr txBox="1"/>
              <p:nvPr/>
            </p:nvSpPr>
            <p:spPr>
              <a:xfrm>
                <a:off x="917640" y="3187800"/>
                <a:ext cx="163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0" name=""/>
              <p:cNvSpPr txBox="1"/>
              <p:nvPr/>
            </p:nvSpPr>
            <p:spPr>
              <a:xfrm>
                <a:off x="3692520" y="2637000"/>
                <a:ext cx="44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2" name=""/>
              <p:cNvSpPr txBox="1"/>
              <p:nvPr/>
            </p:nvSpPr>
            <p:spPr>
              <a:xfrm>
                <a:off x="3753000" y="335772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4" name=""/>
              <p:cNvSpPr txBox="1"/>
              <p:nvPr/>
            </p:nvSpPr>
            <p:spPr>
              <a:xfrm>
                <a:off x="900000" y="3908520"/>
                <a:ext cx="1800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6" name=""/>
              <p:cNvSpPr txBox="1"/>
              <p:nvPr/>
            </p:nvSpPr>
            <p:spPr>
              <a:xfrm>
                <a:off x="3692520" y="4005360"/>
                <a:ext cx="44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8" name=""/>
              <p:cNvSpPr txBox="1"/>
              <p:nvPr/>
            </p:nvSpPr>
            <p:spPr>
              <a:xfrm>
                <a:off x="5292720" y="3213000"/>
                <a:ext cx="1324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0" name=""/>
              <p:cNvSpPr txBox="1"/>
              <p:nvPr/>
            </p:nvSpPr>
            <p:spPr>
              <a:xfrm>
                <a:off x="7570800" y="334476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7570800" y="262404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"/>
              <p:cNvSpPr txBox="1"/>
              <p:nvPr/>
            </p:nvSpPr>
            <p:spPr>
              <a:xfrm>
                <a:off x="5292720" y="3933720"/>
                <a:ext cx="181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6" name=""/>
              <p:cNvSpPr txBox="1"/>
              <p:nvPr/>
            </p:nvSpPr>
            <p:spPr>
              <a:xfrm>
                <a:off x="7456320" y="3933720"/>
                <a:ext cx="571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8" name=""/>
              <p:cNvSpPr txBox="1"/>
              <p:nvPr/>
            </p:nvSpPr>
            <p:spPr>
              <a:xfrm>
                <a:off x="5292720" y="2565360"/>
                <a:ext cx="1514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900000" y="4581360"/>
                <a:ext cx="163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2" name=""/>
              <p:cNvSpPr txBox="1"/>
              <p:nvPr/>
            </p:nvSpPr>
            <p:spPr>
              <a:xfrm>
                <a:off x="3825720" y="6080040"/>
                <a:ext cx="3146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4" name=""/>
              <p:cNvSpPr txBox="1"/>
              <p:nvPr/>
            </p:nvSpPr>
            <p:spPr>
              <a:xfrm>
                <a:off x="3780000" y="472428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6" name=""/>
              <p:cNvSpPr txBox="1"/>
              <p:nvPr/>
            </p:nvSpPr>
            <p:spPr>
              <a:xfrm>
                <a:off x="900000" y="5229360"/>
                <a:ext cx="1667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8" name=""/>
              <p:cNvSpPr txBox="1"/>
              <p:nvPr/>
            </p:nvSpPr>
            <p:spPr>
              <a:xfrm>
                <a:off x="3780000" y="530064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0" name=""/>
              <p:cNvSpPr txBox="1"/>
              <p:nvPr/>
            </p:nvSpPr>
            <p:spPr>
              <a:xfrm>
                <a:off x="5275440" y="4581360"/>
                <a:ext cx="1457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2" name=""/>
              <p:cNvSpPr txBox="1"/>
              <p:nvPr/>
            </p:nvSpPr>
            <p:spPr>
              <a:xfrm>
                <a:off x="7524720" y="4653000"/>
                <a:ext cx="5716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4" name=""/>
              <p:cNvSpPr txBox="1"/>
              <p:nvPr/>
            </p:nvSpPr>
            <p:spPr>
              <a:xfrm>
                <a:off x="971640" y="5950080"/>
                <a:ext cx="1666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5219640" y="5229360"/>
                <a:ext cx="1714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7667640" y="5300640"/>
                <a:ext cx="342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1" name=""/>
              <p:cNvSpPr txBox="1"/>
              <p:nvPr/>
            </p:nvSpPr>
            <p:spPr>
              <a:xfrm>
                <a:off x="5219640" y="5950080"/>
                <a:ext cx="1752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3" name=""/>
              <p:cNvSpPr txBox="1"/>
              <p:nvPr/>
            </p:nvSpPr>
            <p:spPr>
              <a:xfrm>
                <a:off x="7596360" y="595008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981000"/>
            <a:ext cx="4897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имер выполнения лабораторной рабо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87640" y="148428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Метод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203640" y="1976400"/>
                <a:ext cx="20080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,0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851280" y="2508120"/>
                <a:ext cx="12733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18446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) Так как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2997360"/>
            <a:ext cx="424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) Выбираем любую точку из отрезк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924360" y="3392640"/>
                <a:ext cx="12571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395280" y="4437000"/>
            <a:ext cx="38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г) Выбор начального приближе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348000" y="4065480"/>
                <a:ext cx="251460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3203640" y="5229360"/>
            <a:ext cx="26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Метод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203640" y="6153120"/>
                <a:ext cx="244944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: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395280" y="371808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) Итерационная формул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002120" y="4784760"/>
                <a:ext cx="129060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,0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396720" y="2278080"/>
            <a:ext cx="430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5662440"/>
            <a:ext cx="3672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) Выбор начального приближе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ЛАБОРАТОРНАЯ РАБОТА №8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ПРИБЛИЖЕННОЕ РЕШЕНИЕ ОБЫКНОВЕННЫХ ДИФФЕРЕНЦИАЛЬНЫХ УРАВН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"/>
          <p:cNvSpPr/>
          <p:nvPr/>
        </p:nvSpPr>
        <p:spPr>
          <a:xfrm>
            <a:off x="2556000" y="981000"/>
            <a:ext cx="45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арианты индивидуальных зад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6" name=""/>
          <p:cNvGraphicFramePr/>
          <p:nvPr/>
        </p:nvGraphicFramePr>
        <p:xfrm>
          <a:off x="179280" y="1484280"/>
          <a:ext cx="8353440" cy="4357800"/>
        </p:xfrm>
        <a:graphic>
          <a:graphicData uri="http://schemas.openxmlformats.org/drawingml/2006/table">
            <a:tbl>
              <a:tblPr/>
              <a:tblGrid>
                <a:gridCol w="666720"/>
                <a:gridCol w="2745000"/>
                <a:gridCol w="857160"/>
                <a:gridCol w="666720"/>
                <a:gridCol w="2049480"/>
                <a:gridCol w="1368360"/>
              </a:tblGrid>
              <a:tr h="95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ча Кош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ез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№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р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дача Кош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рез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1" name=""/>
              <p:cNvSpPr txBox="1"/>
              <p:nvPr/>
            </p:nvSpPr>
            <p:spPr>
              <a:xfrm>
                <a:off x="7667640" y="465300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3" name=""/>
              <p:cNvSpPr txBox="1"/>
              <p:nvPr/>
            </p:nvSpPr>
            <p:spPr>
              <a:xfrm>
                <a:off x="7667640" y="393372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7667640" y="321300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7" name=""/>
              <p:cNvSpPr txBox="1"/>
              <p:nvPr/>
            </p:nvSpPr>
            <p:spPr>
              <a:xfrm>
                <a:off x="900000" y="2492280"/>
                <a:ext cx="1486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9" name=""/>
              <p:cNvSpPr txBox="1"/>
              <p:nvPr/>
            </p:nvSpPr>
            <p:spPr>
              <a:xfrm>
                <a:off x="3851280" y="2565360"/>
                <a:ext cx="3427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1" name=""/>
              <p:cNvSpPr txBox="1"/>
              <p:nvPr/>
            </p:nvSpPr>
            <p:spPr>
              <a:xfrm>
                <a:off x="900000" y="3213000"/>
                <a:ext cx="1724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3851280" y="321300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5" name=""/>
              <p:cNvSpPr txBox="1"/>
              <p:nvPr/>
            </p:nvSpPr>
            <p:spPr>
              <a:xfrm>
                <a:off x="971640" y="3933720"/>
                <a:ext cx="1295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7" name=""/>
              <p:cNvSpPr txBox="1"/>
              <p:nvPr/>
            </p:nvSpPr>
            <p:spPr>
              <a:xfrm>
                <a:off x="3780000" y="3933720"/>
                <a:ext cx="42840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2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9" name=""/>
              <p:cNvSpPr txBox="1"/>
              <p:nvPr/>
            </p:nvSpPr>
            <p:spPr>
              <a:xfrm>
                <a:off x="900000" y="4581360"/>
                <a:ext cx="1685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y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1" name=""/>
              <p:cNvSpPr txBox="1"/>
              <p:nvPr/>
            </p:nvSpPr>
            <p:spPr>
              <a:xfrm>
                <a:off x="3708360" y="4581360"/>
                <a:ext cx="44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3" name=""/>
              <p:cNvSpPr txBox="1"/>
              <p:nvPr/>
            </p:nvSpPr>
            <p:spPr>
              <a:xfrm>
                <a:off x="900000" y="5229360"/>
                <a:ext cx="15620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3851280" y="5229360"/>
                <a:ext cx="3142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7" name=""/>
              <p:cNvSpPr txBox="1"/>
              <p:nvPr/>
            </p:nvSpPr>
            <p:spPr>
              <a:xfrm>
                <a:off x="5148360" y="2492280"/>
                <a:ext cx="1800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7524720" y="2565360"/>
                <a:ext cx="447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,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1" name=""/>
              <p:cNvSpPr txBox="1"/>
              <p:nvPr/>
            </p:nvSpPr>
            <p:spPr>
              <a:xfrm>
                <a:off x="5219640" y="321300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3" name=""/>
              <p:cNvSpPr txBox="1"/>
              <p:nvPr/>
            </p:nvSpPr>
            <p:spPr>
              <a:xfrm>
                <a:off x="5219640" y="3933720"/>
                <a:ext cx="1571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5" name=""/>
              <p:cNvSpPr txBox="1"/>
              <p:nvPr/>
            </p:nvSpPr>
            <p:spPr>
              <a:xfrm>
                <a:off x="5219640" y="4581360"/>
                <a:ext cx="1571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7" name=""/>
          <p:cNvSpPr/>
          <p:nvPr/>
        </p:nvSpPr>
        <p:spPr>
          <a:xfrm>
            <a:off x="179280" y="763560"/>
            <a:ext cx="8785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Какие уравнения называются обыкновенным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дифференциальными уравнениями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Когда возникает задача приближенного решения обыкновенны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дифференциальных уравнений и систем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 Какие методы приближенного решения обыкновенных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дифференциальных уравнений Вы знаете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 Сформулируйте постановку задачи для метода Эйле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. Как выбирается шаг в методе Эйлер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6. Запишите формулу Эйле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. Какую погрешность имеет метод Эйлер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. Назовите достоинства и недостатки метода Эйлер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9" name=""/>
          <p:cNvSpPr/>
          <p:nvPr/>
        </p:nvSpPr>
        <p:spPr>
          <a:xfrm>
            <a:off x="179280" y="763560"/>
            <a:ext cx="878544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. Сформулируйте постановку задачи для метода Рунге-Кут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четвертого порядка точ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. Запишите итерационную формулу метода Рунге-Кут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четвертого порядка точ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. Какую погрешность имеют формулы метода Рунге-Кут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четвертого порядка точ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2. Запишите итерационную формулу метода Рунге-Кутт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второго порядка точности. Какова ее погрешность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3. Как определяется правильность выбора шага в метод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Рунге-Кутта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4. Назовите достоинства и недостатки метода Рунге-Кутт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2556000" y="981000"/>
            <a:ext cx="45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имер выполнения лабораторной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728880" y="1413000"/>
                <a:ext cx="9874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2340000" y="3573360"/>
            <a:ext cx="431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Модифицированный метод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708360" y="1844640"/>
                <a:ext cx="2195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708360" y="2305080"/>
                <a:ext cx="20844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780000" y="2924280"/>
                <a:ext cx="2546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780000" y="4640400"/>
                <a:ext cx="62064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916360" y="5276880"/>
                <a:ext cx="2546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50920" y="2709720"/>
            <a:ext cx="2952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) Итерационная формул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3933720"/>
            <a:ext cx="36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а) Выбор начального приближени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487044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) Итерационная формул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950080"/>
            <a:ext cx="8713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Ценный совет: для того, чтобы оценить скорость сходимости всех трех методов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еобходимо выбрать одинаковое начальное прибли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332000" y="981000"/>
            <a:ext cx="6985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лок-схема итерационных методов решения нелинейных уравн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24000" y="1700280"/>
            <a:ext cx="8568720" cy="3744360"/>
            <a:chOff x="324000" y="1700280"/>
            <a:chExt cx="8568720" cy="3744360"/>
          </a:xfrm>
        </p:grpSpPr>
        <p:sp>
          <p:nvSpPr>
            <p:cNvPr id="149" name=""/>
            <p:cNvSpPr/>
            <p:nvPr/>
          </p:nvSpPr>
          <p:spPr>
            <a:xfrm>
              <a:off x="713160" y="1700280"/>
              <a:ext cx="807372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1. Задать параметры метода: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3160" y="2400480"/>
              <a:ext cx="8073720" cy="43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2. Вычислить очередное приближение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52680" y="3134160"/>
              <a:ext cx="824004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3. Проверить условия окончания процесса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2680" y="3992760"/>
              <a:ext cx="2143800" cy="12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4. Обновить начальное приближ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91840" y="4278600"/>
              <a:ext cx="82152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не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09080" y="2130480"/>
              <a:ext cx="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09080" y="284652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40400" y="3562560"/>
              <a:ext cx="0" cy="74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796120" y="449316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91560" y="3707280"/>
              <a:ext cx="495360" cy="28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д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62160" y="3562560"/>
              <a:ext cx="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69640" y="4012560"/>
              <a:ext cx="4121280" cy="71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5. Распечатать приближенное значение корн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55720" y="4728600"/>
              <a:ext cx="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88840" y="5014080"/>
              <a:ext cx="1648080" cy="43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6. Остано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000" y="2560680"/>
              <a:ext cx="328680" cy="1862640"/>
            </a:xfrm>
            <a:custGeom>
              <a:avLst/>
              <a:gdLst/>
              <a:ahLst/>
              <a:rect l="l" t="t" r="r" b="b"/>
              <a:pathLst>
                <a:path w="288" h="1872">
                  <a:moveTo>
                    <a:pt x="288" y="1872"/>
                  </a:moveTo>
                  <a:lnTo>
                    <a:pt x="0" y="1872"/>
                  </a:lnTo>
                  <a:lnTo>
                    <a:pt x="0" y="0"/>
                  </a:lnTo>
                  <a:lnTo>
                    <a:pt x="28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" name=""/>
                <p:cNvSpPr txBox="1"/>
                <p:nvPr/>
              </p:nvSpPr>
              <p:spPr>
                <a:xfrm>
                  <a:off x="3705840" y="1700280"/>
                  <a:ext cx="266724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;</m:t>
                      </m:r>
                      <m:r>
                        <m:t xml:space="preserve">x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;</m:t>
                      </m:r>
                      <m:r>
                        <m:t xml:space="preserve">ε</m:t>
                      </m:r>
                      <m:r>
                        <m:t xml:space="preserve">;</m:t>
                      </m:r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4625640" y="2400480"/>
                  <a:ext cx="1463400" cy="36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4873320" y="3099600"/>
                  <a:ext cx="352800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y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ε</m:t>
                      </m:r>
                      <m:r>
                        <m:t xml:space="preserve">∧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y</m:t>
                              </m:r>
                            </m:e>
                          </m:d>
                        </m:e>
                      </m:d>
                      <m:r>
                        <m:t xml:space="preserve">≤</m:t>
                      </m:r>
                      <m:r>
                        <m:t xml:space="preserve">δ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7" name=""/>
                <p:cNvSpPr txBox="1"/>
                <p:nvPr/>
              </p:nvSpPr>
              <p:spPr>
                <a:xfrm>
                  <a:off x="1927440" y="4237920"/>
                  <a:ext cx="948240" cy="28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989640" y="4413960"/>
                  <a:ext cx="1518120" cy="2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5455800" y="4237920"/>
                  <a:ext cx="399960" cy="28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ЛАБОРАТОРНАЯ РАБОТА №1-2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981000"/>
            <a:ext cx="453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мер программы на язык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sc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665360"/>
            <a:ext cx="8353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gram Pr_iter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Cr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r n:integer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0,x,eps,d,y,z,c:rea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rscr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:=0;x0:=-1;c:=-0.1;x:=x0;eps:=0.001;d:=0.0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pe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y:=x+c*(exp(x)+x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z:=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ln(n:3,x:9:5,y:9:5,abs(y-x):9:5,abs(exp(y)+y):9:5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:=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:=n+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til (abs(z-x)&lt;=eps) and (abs(exp(x)+x)&lt;=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6:01:22Z</dcterms:created>
  <dc:creator>copm</dc:creator>
  <dc:description/>
  <dc:language>en-US</dc:language>
  <cp:lastModifiedBy>q</cp:lastModifiedBy>
  <dcterms:modified xsi:type="dcterms:W3CDTF">2009-07-11T10:54:32Z</dcterms:modified>
  <cp:revision>871</cp:revision>
  <dc:subject/>
  <dc:title>Слайд 1</dc:title>
</cp:coreProperties>
</file>