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DAD2-FB58-425A-9095-F6CFFE87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D07-BAC7-4125-9E16-AA68E658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236-A3FA-43EC-8E3B-23DFE7F8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C2CF-7A7F-4549-AF4C-BC368C8F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2863-490C-420C-943C-0240738B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D11-0608-44FF-BCEF-23A7E59A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F5E-C733-4FF2-998F-424D0BB7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F03-0CE9-4CD4-9889-FB12F7D8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246-D6A9-415B-9A42-340419C8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4CE-2ADC-4CD0-9392-6B8077A9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310-3CC1-4231-97DC-55410BFC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BFBC-B54A-48B6-AE12-AE51B14F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642B-8C46-4E6C-8FFD-4CC610711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9960" y="8534520"/>
            <a:ext cx="9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49360" y="971640"/>
          <a:ext cx="6308640" cy="731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971640"/>
                    <a:ext cx="6308640" cy="73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565360" y="7812000"/>
            <a:ext cx="218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реднесуточная доля аудитории телеканала ТВН составляет 0,6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32440" y="344520"/>
            <a:ext cx="2482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56080" y="347760"/>
            <a:ext cx="394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ложение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реднесуточная доля аудитории телекан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14:46:41Z</dcterms:created>
  <dc:creator>Admin</dc:creator>
  <dc:description/>
  <dc:language>en-US</dc:language>
  <cp:lastModifiedBy>Admin</cp:lastModifiedBy>
  <dcterms:modified xsi:type="dcterms:W3CDTF">2009-05-24T14:53:53Z</dcterms:modified>
  <cp:revision>3</cp:revision>
  <dc:subject/>
  <dc:title>Слайд 1</dc:title>
</cp:coreProperties>
</file>