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9736-B9FA-43D5-BFF9-0D6B392BF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3BA3-5C9F-4F7A-88B6-63590D5E7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3D04-78FB-47BD-A0F3-29A875CE7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801F-4CC6-490E-B768-260869665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A007-0B47-412D-8CE9-5D33629C0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7EDB-BD16-41AA-8BE9-172A3A626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E362-9054-4887-8369-609FFE9BE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CE0F-7D3B-4949-991C-2287A572E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AF1F-8B09-420D-9749-666D9750B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9225-5392-4796-8E6E-7D44FA6B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1837-CEE0-4A32-87BB-73C2B166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EFAD-6A07-4CCE-8029-6770CAC5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BBCD4-8BB1-4A51-934C-BD081090FD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8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НЫ И СНОВИДЕНИЯ В РУССКОЙ ЛИТЕРАТУР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2928960" y="285840"/>
            <a:ext cx="32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ферат на те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5357880" y="2786040"/>
            <a:ext cx="335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Ученицы 11 класса «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ришуковой Алены Дмитриев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5429160" y="3643200"/>
            <a:ext cx="335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Научный руководи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ршинина Ирина Викто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8"/>
          <p:cNvSpPr/>
          <p:nvPr/>
        </p:nvSpPr>
        <p:spPr>
          <a:xfrm>
            <a:off x="3357720" y="6072120"/>
            <a:ext cx="242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сква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Мастере и Маргарите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4" descr="Untitled-2.gif"/>
          <p:cNvPicPr/>
          <p:nvPr/>
        </p:nvPicPr>
        <p:blipFill>
          <a:blip r:embed="rId1"/>
          <a:stretch/>
        </p:blipFill>
        <p:spPr>
          <a:xfrm>
            <a:off x="6838920" y="5157720"/>
            <a:ext cx="2311560" cy="170676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5"/>
          <p:cNvSpPr/>
          <p:nvPr/>
        </p:nvSpPr>
        <p:spPr>
          <a:xfrm>
            <a:off x="571680" y="2214720"/>
            <a:ext cx="3500280" cy="39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Сны использованы как «мост» в другую реальность, может быть, в гипнотический транс, наведенный Воландом и его свитой (или самим Булгаковым?). Сон Понтия  Пилата символичен – противостояние добра и зла, в результате которого побеждает добро, приходит прощение и свобода – путь к Истине. Кроме того, сон (а точнее его отсутствие) использован автором как способ более глубокого раскрытия образа прокуратора, а позднее - как наказание Пилат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7"/>
          <p:cNvSpPr/>
          <p:nvPr/>
        </p:nvSpPr>
        <p:spPr>
          <a:xfrm>
            <a:off x="6143760" y="1428840"/>
            <a:ext cx="27860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В серебристый сон ты бы с ним ушел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 дороге вечных звезд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д простором строгих гор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ы бы перед ним на колени встал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е стыдясь ни слов, ни слез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то любил - тот и распял...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М. Пушкин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"/>
          <p:cNvSpPr/>
          <p:nvPr/>
        </p:nvSpPr>
        <p:spPr>
          <a:xfrm>
            <a:off x="4572000" y="3000240"/>
            <a:ext cx="4500720" cy="25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имвол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50920"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звечное противостояние добра и зла (победа добр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скрытие качеств геро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50920"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н осознает, в чем его самая большая пробле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50920"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н раскаивается в казни Иешу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50920"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н люби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ще одно знач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50920"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каз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3" descr="Untitled-2.gif"/>
          <p:cNvPicPr/>
          <p:nvPr/>
        </p:nvPicPr>
        <p:blipFill>
          <a:blip r:embed="rId1"/>
          <a:stretch/>
        </p:blipFill>
        <p:spPr>
          <a:xfrm>
            <a:off x="6838920" y="5157720"/>
            <a:ext cx="2311560" cy="17067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в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5"/>
          <p:cNvSpPr/>
          <p:nvPr/>
        </p:nvSpPr>
        <p:spPr>
          <a:xfrm>
            <a:off x="1071720" y="1857240"/>
            <a:ext cx="700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 всех четырех произведениях сны и сновидения являются одними из важнейших художественных приемов, ибо они помогают автору полномернее донести до читателя свою мыс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6"/>
          <p:cNvSpPr/>
          <p:nvPr/>
        </p:nvSpPr>
        <p:spPr>
          <a:xfrm>
            <a:off x="1000080" y="3571920"/>
            <a:ext cx="5072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н – это всегда загадка, и, пытаясь ее разгадать, можно прийти к удивительным открытиям. (Недаром же таблица Менделеева приснилась Дмитрию Ивановичу!) Когда я работала над рефератом, мне захотелось перечитать мои любимые книги (ведь в них были сны!) и попытаться разобрать, что они – эти сны – значат. Вдруг я пролистнула, не обратив внимания, целый мир, полный ответов и смысл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сточни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Рисунок 4" descr="Untitled-2.gif"/>
          <p:cNvPicPr/>
          <p:nvPr/>
        </p:nvPicPr>
        <p:blipFill>
          <a:blip r:embed="rId1"/>
          <a:stretch/>
        </p:blipFill>
        <p:spPr>
          <a:xfrm>
            <a:off x="6838920" y="5157720"/>
            <a:ext cx="2311560" cy="1706760"/>
          </a:xfrm>
          <a:prstGeom prst="rect">
            <a:avLst/>
          </a:prstGeom>
          <a:ln w="0">
            <a:noFill/>
          </a:ln>
        </p:spPr>
      </p:pic>
      <p:sp>
        <p:nvSpPr>
          <p:cNvPr id="86" name="TextBox 8"/>
          <p:cNvSpPr/>
          <p:nvPr/>
        </p:nvSpPr>
        <p:spPr>
          <a:xfrm>
            <a:off x="571680" y="1644480"/>
            <a:ext cx="7000560" cy="42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Евгений Онегин» - А.С. Пушкин, 18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Преступление и наказание» - Ф.М. Достоевский, 186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Мастер и Маргарита», М.А. Булгаков, 193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Тихий Дон», М.А. Шолохов, 194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атья «Вещий сон генерала Корнилова. Над страницами Тихого Дона» -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Петр Ткаченко (Литературный журнал МОЛОКО), 19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правочник Школьника изд.АСТ-ПРЕСС ,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атья «Сон Татьяны Лариной» (рассылки сайта «Мир сновидений», выпуск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29),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Роль онейросферы в художественной системе М.А. Булгакова» -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Зимнякова В.В.,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SzPct val="10283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атья «Сны Раскольникова» (социальный психоанализ от Сергея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Выгонского, выпуск 12),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SzPct val="10283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тская Энциклопедия (Человек), 197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4" descr="8977_14.jpg"/>
          <p:cNvPicPr/>
          <p:nvPr/>
        </p:nvPicPr>
        <p:blipFill>
          <a:blip r:embed="rId1"/>
          <a:stretch/>
        </p:blipFill>
        <p:spPr>
          <a:xfrm>
            <a:off x="1981080" y="1530360"/>
            <a:ext cx="5181840" cy="3797280"/>
          </a:xfrm>
          <a:prstGeom prst="rect">
            <a:avLst/>
          </a:prstGeom>
          <a:ln w="0">
            <a:noFill/>
          </a:ln>
        </p:spPr>
      </p:pic>
      <p:sp>
        <p:nvSpPr>
          <p:cNvPr id="88" name="TextBox 5"/>
          <p:cNvSpPr/>
          <p:nvPr/>
        </p:nvSpPr>
        <p:spPr>
          <a:xfrm>
            <a:off x="2714760" y="1785960"/>
            <a:ext cx="371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Calibri"/>
              </a:rPr>
              <a:t>Коне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99840"/>
            <a:ext cx="822960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вгений Онеги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ступление и наказан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ихий До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стер и Маргарит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точн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5" descr="Untitled-2.gif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838920" y="5157720"/>
            <a:ext cx="2311560" cy="1706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тча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3" descr="Untitled-2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38920" y="5157720"/>
            <a:ext cx="2311560" cy="170676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11"/>
          <p:cNvSpPr/>
          <p:nvPr/>
        </p:nvSpPr>
        <p:spPr>
          <a:xfrm>
            <a:off x="1000080" y="2071800"/>
            <a:ext cx="7143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илософу приснилось, что он стал мотыльком. И, проснувшись, он уже не знал, кто он: мудрый старец, видевший во сне, будто он стал мотыльком, или мотылёк, которому снится, что он — мудрый старе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3" descr="Untitled-2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38920" y="5157720"/>
            <a:ext cx="2311560" cy="17067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чему я выбрала данную тему для своего рефера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677880" y="1714680"/>
            <a:ext cx="7788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ир снов и сновидений издревле интересовал человека как что-то столь же близкое нашему пониманию сколь далекое от него. Бодрствуя, мы видим и понимаем, что происходит вокруг, оцениваем происходящее - наше сознание работает так, как мы этого хотим. Но что происходит с сознанием человека во сне? Тайна, покрытая мраком ночи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7"/>
          <p:cNvSpPr/>
          <p:nvPr/>
        </p:nvSpPr>
        <p:spPr>
          <a:xfrm>
            <a:off x="785880" y="3714840"/>
            <a:ext cx="5143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учение снов увлекает. Коснувшись однажды темы сновидений, стремишься изучить ее как можно больше. Так, однажды я заинтересовалась эзотерикой, в частности феноменом гипноза, а гипноз и сон связаны между собой более чем тесно. Мне стало интересно, имеют ли сны и сновидения столь же большую роль в литературе, и поэтому я выбрала именно такую тему для своего рефер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3" descr="Untitled-2.gif"/>
          <p:cNvPicPr/>
          <p:nvPr/>
        </p:nvPicPr>
        <p:blipFill>
          <a:blip r:embed="rId1"/>
          <a:stretch/>
        </p:blipFill>
        <p:spPr>
          <a:xfrm>
            <a:off x="6838920" y="5157720"/>
            <a:ext cx="2311560" cy="17067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ль снов и сновидений в русской литератур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6"/>
          <p:cNvSpPr/>
          <p:nvPr/>
        </p:nvSpPr>
        <p:spPr>
          <a:xfrm>
            <a:off x="500040" y="1996920"/>
            <a:ext cx="678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русской литературе сны всегда играли не меньшую, а иногда и большую роль, чем реальная действительность. Многие авторы делали сон полноценным “действующим лицом” своих произведений. Сны позволяют лучше понять характеры их героев, причины их поступков, отношение к людям и к себе. Ведь, по сути, сон — это время, когда освобождается подсознание человека. Оно не сковано внешними условностями, не позволяет лгать, притворяться и прикрываться масками. Наверное, именно по этим причинам авторы так часто прибегают к приему раскрытия личности персонажа  через его с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3" descr="Untitled-2.gif"/>
          <p:cNvPicPr/>
          <p:nvPr/>
        </p:nvPicPr>
        <p:blipFill>
          <a:blip r:embed="rId1"/>
          <a:stretch/>
        </p:blipFill>
        <p:spPr>
          <a:xfrm>
            <a:off x="6838920" y="5157720"/>
            <a:ext cx="2311560" cy="17067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ходе работы над рефератом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6"/>
          <p:cNvSpPr/>
          <p:nvPr/>
        </p:nvSpPr>
        <p:spPr>
          <a:xfrm>
            <a:off x="857160" y="2143080"/>
            <a:ext cx="414360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.. я рассмотрела четыре произведения российских классик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Евгений Онегин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Преступление и наказание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Тихий Дон»,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Мастер и Маргарита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каждом из этих романов сновидения играют свою, определенную роль – общих канонов нет и быть не мож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романе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Евгений Онегин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4" descr="Untitled-2.gif"/>
          <p:cNvPicPr/>
          <p:nvPr/>
        </p:nvPicPr>
        <p:blipFill>
          <a:blip r:embed="rId1"/>
          <a:stretch/>
        </p:blipFill>
        <p:spPr>
          <a:xfrm>
            <a:off x="6838920" y="5157720"/>
            <a:ext cx="2311560" cy="170676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5"/>
          <p:cNvSpPr/>
          <p:nvPr/>
        </p:nvSpPr>
        <p:spPr>
          <a:xfrm>
            <a:off x="571680" y="2071800"/>
            <a:ext cx="3357360" cy="42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Александр Сергеевич Пушкин использует сны для раскрытия внутреннего мира героев (Татьяны и Онегина). С помощью большого количества слов-символов, использованных в описании сна Татьяны, автор не только раскрывает образы, но и предоставляет читателю шанс заглянуть за завесу тайны и узнать дальнейшие судьбы героев.  Помимо этого, сон Татьяны является художественным приемом, который делает текст романа красочне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6"/>
          <p:cNvSpPr/>
          <p:nvPr/>
        </p:nvSpPr>
        <p:spPr>
          <a:xfrm>
            <a:off x="5082480" y="1500120"/>
            <a:ext cx="35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«И снится чудный сон Татьяне..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7"/>
          <p:cNvSpPr/>
          <p:nvPr/>
        </p:nvSpPr>
        <p:spPr>
          <a:xfrm>
            <a:off x="5000760" y="2357280"/>
            <a:ext cx="3000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лова-символ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Зим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= смерть Лен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Снег, ручей, мост, рук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=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муж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Медведь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= суженый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генера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Дом (шалаш, хижина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=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[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удьб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Онег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3" descr="Untitled-2.gif"/>
          <p:cNvPicPr/>
          <p:nvPr/>
        </p:nvPicPr>
        <p:blipFill>
          <a:blip r:embed="rId1"/>
          <a:stretch/>
        </p:blipFill>
        <p:spPr>
          <a:xfrm>
            <a:off x="6838920" y="5157720"/>
            <a:ext cx="2311560" cy="17067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Преступлении и наказании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5"/>
          <p:cNvSpPr/>
          <p:nvPr/>
        </p:nvSpPr>
        <p:spPr>
          <a:xfrm>
            <a:off x="4572000" y="1550880"/>
            <a:ext cx="3929040" cy="37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... напротив, никакой красочности роману сны не придают, а еще больше затуманивают и без того неясные вещи. Так же, как и в «Евгении Онегине», сны здесь помогают лучше понять внутренний мир очень сложного человека – Родиона Раскольникова. Сны Раскольникова символичны (антитеза церкви и кабака в первом сне); их отголоски присутствуют на протяжении всего романа. Кроме того, прием снов помогает лучше понять смысл произведения (третий сон Раскольникова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285840" y="1643040"/>
            <a:ext cx="371484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начение сн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вый с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приятие убийства натурой человека (Раскольников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стоянная борьба души и разу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едзнаменование неминуемой ошиб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и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озможность отказаться от “эксперимента над собой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торой с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уки совести и страх разоблач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95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прасное убийство повлечет за собой наказа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тий с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95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следствия воплощения теории в жизнь - апокалипси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95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равственное возрождение Раскольников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3" descr="Untitled-2.gif"/>
          <p:cNvPicPr/>
          <p:nvPr/>
        </p:nvPicPr>
        <p:blipFill>
          <a:blip r:embed="rId1"/>
          <a:stretch/>
        </p:blipFill>
        <p:spPr>
          <a:xfrm>
            <a:off x="6838920" y="5157720"/>
            <a:ext cx="2311560" cy="170676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романе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Тихий Дон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угольник 5"/>
          <p:cNvSpPr/>
          <p:nvPr/>
        </p:nvSpPr>
        <p:spPr>
          <a:xfrm>
            <a:off x="5214960" y="1857240"/>
            <a:ext cx="3143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н генерала Корнилова – вещий. С помощью символов Шолохов как будто сам рассказывает генералу будущее его армии. Через сон автор дает оценку персонажа  – Корнилов – не тот герой, что спасет Россию; и показывает читателю внутренний мир генер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714240" y="1928880"/>
            <a:ext cx="335772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Сопоставления и символы сна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Корнилов = Росси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Восток и Запад = биография</a:t>
            </a:r>
            <a:br>
              <a:rPr sz="17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Корнилов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Оценка сложившейся </a:t>
            </a:r>
            <a:br>
              <a:rPr sz="17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ситуаци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Предвещение долгого </a:t>
            </a:r>
            <a:br>
              <a:rPr sz="17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тернистого пути генерал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Бабочка = губительная</a:t>
            </a:r>
            <a:br>
              <a:rPr sz="17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неумолимость обстоятельств, </a:t>
            </a:r>
            <a:br>
              <a:rPr sz="17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в которую попадает человек </a:t>
            </a:r>
            <a:br>
              <a:rPr sz="17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Корнилов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1T08:35:59Z</dcterms:created>
  <dc:creator>Алёна Гришукова</dc:creator>
  <dc:description/>
  <dc:language>en-US</dc:language>
  <cp:lastModifiedBy>Алёна Гришукова</cp:lastModifiedBy>
  <dcterms:modified xsi:type="dcterms:W3CDTF">2008-06-01T11:52:38Z</dcterms:modified>
  <cp:revision>33</cp:revision>
  <dc:subject/>
  <dc:title>Слайд 1</dc:title>
</cp:coreProperties>
</file>