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839-2DB6-4235-B3A6-309BD8A6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C73-7DA2-49B1-8C32-B907D39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BC1-918B-419C-92BB-50B169FB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5FF-418B-4CA9-972B-923E6A5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4DC-DA56-4B5E-AF1B-97260666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58F-03A1-4FD8-BBED-AB349FEF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BE9-E99B-4E81-A277-997D5AE9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344-A190-4F7B-A9B9-75121FAD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C5A-384F-4546-BA46-90128901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FDC-B4F9-4804-BF0D-52A7138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924-B940-456A-8EAD-B30E427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369-F067-4F65-9B91-67BA0BB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628-FA92-461B-B65B-114BCA423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76920"/>
          </a:xfrm>
          <a:prstGeom prst="horizontalScroll">
            <a:avLst>
              <a:gd name="adj" fmla="val 12500"/>
            </a:avLst>
          </a:prstGeom>
          <a:noFill/>
          <a:ln w="117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urier New"/>
              </a:rPr>
              <a:t>CОВРЕМЕННЫЕ ТЕХНОЛОГИИ ПЕРЕДАЧИ АУДИОИНФОРМАЦИИ ЧЕРЕЗ ИНТЕРН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Автор: Ефимов А. Е. (с)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Радиовещание в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4b03"/>
                </a:solidFill>
                <a:latin typeface="Times New Roman"/>
              </a:rPr>
              <a:t>Почти очевидным стало перенесение систем радиовещания из обычного радиоэфира в цифровые сети. Тысячи радиостанций установили у себя потоковые серверы и начали передавать свои обычные “живые” программы в Интерне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речь желательно передавать в полосе частот до 5-6 кГц, а музыку – до 10-12 кГц, причем в стереофоническом режиме, т. е. передавать два канала одновременно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Times New Roman"/>
              </a:rPr>
              <a:t>Однако скорости передачи звуковых потоков в Интернет для большинства потенциальных слушателей все еще ограничены, и приходится идти на некоторые компромиссы. Усовершенствование алгоритмов кодирования позволило получить вполне удовлетворительное качество звука при умеренной скорости передач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0314"/>
            </a:gs>
            <a:gs pos="100000">
              <a:srgbClr val="b608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562720" cy="495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2335320" cy="2020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228600"/>
            <a:ext cx="175284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ourier New"/>
              </a:rPr>
              <a:t>Форматы передачи звуко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WAV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от waveform - форма сигн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U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Sparc-ауди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IFF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Audio Interchange Form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IDI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(Musical Instrument Digital Interf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PEG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- (Moution Picture Enhancing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На фоне отвлеченных споров о будущем Интернет, о протоколах и стандартах, призванных обеспечить внедрение новейших технологий, отрадно наблюдать, как одна из них – передача звукоданных – развивается практически. Причем в данном конкретном случае понятно назначение информации и известны ее потребители. Разработанные звуковые технологии масштабируемы, опираются на уже существующие стандарты и готовы к переносу в более скоростные сети, как только те станут реальностью. Тогда по сети будут передаваться звуковые потоки с</a:t>
            </a:r>
            <a:r>
              <a:rPr b="1" lang="en-US" sz="2400" spc="-1" strike="noStrike">
                <a:solidFill>
                  <a:srgbClr val="b00a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ачеством CD и без всяких переры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ff"/>
                </a:solidFill>
                <a:latin typeface="Comic Sans MS"/>
              </a:rPr>
              <a:t>THE EN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22560" y="1752480"/>
            <a:ext cx="46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urier New"/>
              </a:rPr>
              <a:t>Передача звука в реальном време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пания Progressive Networks разработала расширение языка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Real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ь инициирует непрерывную передачу пакетов информации с сервера по сети Интер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Audio вместе со звуковой картой персонального компьютера превращает этот поток данных в зв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Интерне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глобальная компьютерная с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подчиняющаяся самым передовым в мире законам и нормам информационного 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Интернет станет привычной и повседневной рабочей средой для не только для телефонии и видеоконференций, но и для радио- и телевизионного вещ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52652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59092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люз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533520"/>
            <a:ext cx="753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2f1a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Компьютерная телефония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2f1a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db9"/>
                </a:solidFill>
                <a:latin typeface="Times New Roman"/>
              </a:rPr>
              <a:t>Варианты использования интернет-телефо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514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Рассмотрим варианты использования интернет-телефона и оценим воздействие Сети в различных случая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телефон (телефон - компьют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Два компьютера, подключенные к сети Интернет, могут общаться без посред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т необходимости преобразования сигнала Данные сразу передаются по стандартным протоколам Интернета, поэтому помехи проникнуть в пакет данных не мог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гативное воздействие помех – задержка пакетов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Выход на ближайший шлюз интернет-телефо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Переключения телефонного аппарата в тоновый режим, набор номера абонента; вводится  идентификационный номер – и далее следует раз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Счет за разговор через сеть Интернет окажется значительно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33720" y="3733920"/>
            <a:ext cx="1904760" cy="197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3581280"/>
            <a:ext cx="1981080" cy="2121120"/>
          </a:xfrm>
          <a:custGeom>
            <a:avLst/>
            <a:gdLst/>
            <a:ahLst/>
            <a:rect l="l" t="t" r="r" b="b"/>
            <a:pathLst>
              <a:path w="1248" h="1336">
                <a:moveTo>
                  <a:pt x="96" y="0"/>
                </a:moveTo>
                <a:cubicBezTo>
                  <a:pt x="48" y="212"/>
                  <a:pt x="0" y="424"/>
                  <a:pt x="48" y="480"/>
                </a:cubicBezTo>
                <a:cubicBezTo>
                  <a:pt x="96" y="536"/>
                  <a:pt x="320" y="288"/>
                  <a:pt x="384" y="336"/>
                </a:cubicBezTo>
                <a:cubicBezTo>
                  <a:pt x="448" y="384"/>
                  <a:pt x="376" y="696"/>
                  <a:pt x="432" y="768"/>
                </a:cubicBezTo>
                <a:cubicBezTo>
                  <a:pt x="488" y="840"/>
                  <a:pt x="656" y="688"/>
                  <a:pt x="720" y="768"/>
                </a:cubicBezTo>
                <a:cubicBezTo>
                  <a:pt x="784" y="848"/>
                  <a:pt x="728" y="1160"/>
                  <a:pt x="816" y="1248"/>
                </a:cubicBezTo>
                <a:cubicBezTo>
                  <a:pt x="904" y="1336"/>
                  <a:pt x="1168" y="1288"/>
                  <a:pt x="1248" y="1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Компьютер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04280" y="0"/>
            <a:ext cx="1539720" cy="2057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рограмму интернет-телефонии(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VocalTec, Net2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Чтобы в полной мере использовать возможности интернет-телефона, необходимо подписаться на услуги провайдера интернет-телефо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6T17:17:23Z</dcterms:created>
  <dc:creator>Angel</dc:creator>
  <dc:description/>
  <dc:language>en-US</dc:language>
  <cp:lastModifiedBy>Angel</cp:lastModifiedBy>
  <dcterms:modified xsi:type="dcterms:W3CDTF">2000-04-24T22:35:08Z</dcterms:modified>
  <cp:revision>10</cp:revision>
  <dc:subject/>
  <dc:title>ВЕЩАТЕЛЬНЫЕ ПРИМЕНЕНИЯ CОВРЕМЕННЫХ ТЕХНОЛОГИЙ ПЕРЕДАЧИ АУДИОИНФОРМАЦИИ ЧЕРЕЗ ИНТЕРНЕТ </dc:title>
</cp:coreProperties>
</file>