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315200" cy="9907588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270-2039-4A60-8B75-80A2B48B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02C-BBB0-4F8E-B1D6-56A4F258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E88-E347-41F6-9A0B-DC8178FA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97A-F964-4C28-BB74-C4786E42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FA9-AB26-40CD-B1B1-FEC4643B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FDC-C5F7-4813-839B-783ACBB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1A1B-C6AF-4323-9296-AE03371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C92-05C5-4BE4-B298-4081EFA5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6A4-80BA-4BE7-A9E5-E36010E3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66E-BE2E-4568-B227-73670DCC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A696-4399-4519-A502-4A56ED9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253-7B02-4944-9BB9-C7BF9A7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31B2-EEE8-4CB2-A8CC-0D3F909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7E11-ABE5-4499-8CC4-092097A3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462-88E5-46D1-84E2-8E170508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B4E-9235-49DE-A220-D2884184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940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6440" y="264168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940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6440" y="5746320"/>
            <a:ext cx="20019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4B69-D666-4111-8636-D9313012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D26-E7E2-4AC2-A97F-A1F3DBAF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361-2C75-41A4-966B-75FA7835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657-6ED1-4EA9-9FB3-380E276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91640" y="659880"/>
            <a:ext cx="621828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553-D994-4E51-A31A-CC7C083E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55A-92F9-41A9-BA5F-8D3FD96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78360" y="574632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DC8-DE6E-4DEA-9E9D-3D0F5579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8360" y="2641680"/>
            <a:ext cx="30344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91640" y="5746320"/>
            <a:ext cx="62182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73C-53D8-4E69-9C24-7575990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1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12520" y="2311200"/>
              <a:ext cx="61974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91640" y="659880"/>
            <a:ext cx="621828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91640" y="2641680"/>
            <a:ext cx="621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92000" y="8805960"/>
            <a:ext cx="1524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43200" y="8805960"/>
            <a:ext cx="23162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5486040" y="8805960"/>
            <a:ext cx="15238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118F-27A2-4188-B11F-BD58AD6A095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7097400" cy="9905760"/>
            <a:chOff x="0" y="0"/>
            <a:chExt cx="7097400" cy="9905760"/>
          </a:xfrm>
        </p:grpSpPr>
        <p:sp>
          <p:nvSpPr>
            <p:cNvPr id="46" name=""/>
            <p:cNvSpPr/>
            <p:nvPr/>
          </p:nvSpPr>
          <p:spPr>
            <a:xfrm>
              <a:off x="426600" y="343440"/>
              <a:ext cx="667080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5068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9680" y="2781360"/>
            <a:ext cx="6218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9680" y="8811720"/>
            <a:ext cx="1523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720880" y="8811720"/>
            <a:ext cx="2316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464080" y="8811720"/>
            <a:ext cx="15242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C617-475B-4A48-8A3B-7C80F66F294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228600"/>
            <a:ext cx="6502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33"/>
                </a:solidFill>
                <a:latin typeface="Times New Roman"/>
              </a:rPr>
              <a:t>Московский государственный колледж информационных технологий</a:t>
            </a:r>
            <a:endParaRPr b="0" lang="en-US" sz="1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7098840"/>
            <a:ext cx="30477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выполни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Студент</a:t>
            </a:r>
            <a:r>
              <a:rPr b="0" lang="ru-R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гр. П-406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оновалов С.Г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57280" y="2558880"/>
            <a:ext cx="3048120" cy="27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1840" y="2724120"/>
            <a:ext cx="30481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25720" y="4057560"/>
            <a:ext cx="234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РСОВАЯ РАБОТ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57600" y="4800600"/>
            <a:ext cx="7952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тему:</a:t>
            </a:r>
            <a:endParaRPr b="0" lang="en-US" sz="1600" spc="1" strike="noStrike">
              <a:ln w="9360">
                <a:solidFill>
                  <a:srgbClr val="ff66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44760" y="5460840"/>
            <a:ext cx="4957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ТИМИЗАЦИЯ ПРОИЗВОДСТВЕННОЙ ПРОГРАММЫ 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57280" y="5791320"/>
            <a:ext cx="322920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ДАННОЙ КОМПЛЕКТНОСТИ</a:t>
            </a:r>
            <a:endParaRPr b="0" lang="en-US" sz="16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9600" y="7016760"/>
            <a:ext cx="30477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Работу провери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99"/>
                </a:solidFill>
                <a:latin typeface="Times New Roman"/>
              </a:rPr>
              <a:t>преподавател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Р.Н. Капусти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.Б. Токаре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8320" y="2438280"/>
            <a:ext cx="5445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Times New Roman"/>
              </a:rPr>
              <a:t>Языки программирования и технологии разработки программного обеспечения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8600" y="8832960"/>
            <a:ext cx="1057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M0Q7M7N8" descr=""/>
          <p:cNvPicPr/>
          <p:nvPr/>
        </p:nvPicPr>
        <p:blipFill>
          <a:blip r:embed="rId1"/>
          <a:stretch/>
        </p:blipFill>
        <p:spPr>
          <a:xfrm>
            <a:off x="1951200" y="990720"/>
            <a:ext cx="1409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M0Q7M7RV" descr=""/>
          <p:cNvPicPr/>
          <p:nvPr/>
        </p:nvPicPr>
        <p:blipFill>
          <a:blip r:embed="rId2"/>
          <a:stretch/>
        </p:blipFill>
        <p:spPr>
          <a:xfrm>
            <a:off x="4470480" y="990720"/>
            <a:ext cx="138096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M0Q7M7LU" descr=""/>
          <p:cNvPicPr/>
          <p:nvPr/>
        </p:nvPicPr>
        <p:blipFill>
          <a:blip r:embed="rId3"/>
          <a:stretch/>
        </p:blipFill>
        <p:spPr>
          <a:xfrm>
            <a:off x="6502320" y="380880"/>
            <a:ext cx="568440" cy="1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9T12:26:24Z</dcterms:created>
  <dc:creator>Сергей</dc:creator>
  <dc:description/>
  <dc:language>en-US</dc:language>
  <cp:lastModifiedBy>Сергей</cp:lastModifiedBy>
  <cp:lastPrinted>1997-12-03T17:51:02Z</cp:lastPrinted>
  <dcterms:modified xsi:type="dcterms:W3CDTF">1997-12-03T17:54:02Z</dcterms:modified>
  <cp:revision>6</cp:revision>
  <dc:subject/>
  <dc:title>Московский государственный колледж информационных технологий</dc:title>
</cp:coreProperties>
</file>