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84D-26F2-4DFA-9B81-B6C204C5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6FDA-6AC9-4DCD-A3FF-68BE6EEB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60A503-AFB0-45FE-905E-85A5CE2C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92B654-1162-4750-90B2-83B67B24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A096CB-DE4B-4304-B8BF-B7DB1E99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5B1BA0-555B-4268-B281-C94889AC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D55EE7-34C5-408E-A686-D0B669B2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7FE84C-D52F-4897-A11D-5EC0FD0E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AC6DA9-A3CB-417D-A8B5-D6F41115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3B865A-E4A6-4D72-BDE4-432308D6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44D81F-B5A1-46BE-8B51-6A879659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8AE0A-476A-4364-8F55-66107462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0E27-E5BE-4DFA-8489-16A40C10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1A10A-5525-4360-A73E-55160F00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1CC10-E265-402C-913A-3AC6CD51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9C677-1E76-4525-842A-53F481AA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224DD-828C-4375-8758-5356D348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E3398-BF14-440C-A577-8AA95C55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A226F-EF0E-4397-80CD-C6A48D87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EA358-DFCC-4EA9-BBAA-85106D6A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6844A-5211-437B-A7A6-A0B76ACC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47F7F-8D5D-4D55-AB71-9775191A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EE848-D902-4ADD-B3F2-6A37FBB7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EF52-C782-4D11-828F-115B003A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70F7E-414C-4B44-A84E-25E43959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73772-B537-45E9-B94C-BA407A89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40E5A-D482-4EBA-A812-573E3895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5BC35-4C97-43DF-B8D6-957AEE3E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8D37B-6242-4B1D-B6F3-6117DA03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6BB45-AD0A-42E6-96FB-0C21CC8D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B5134-9097-47BD-9806-ABA9F650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B7737-1360-4DEF-B1BE-9CD25663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E1A2F-A9C2-45A6-BE28-5BD6D556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C6E10-E327-40B8-8F07-774A314D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A0BF-7F69-4B29-B5AC-A2FC381E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F8C57-B07C-4BBD-AB55-BFF39B4E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BB9A2-BCA8-4079-B87C-77FACEE6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94BED-55BE-4020-899B-F393E758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BEA0C-4035-4950-A5CC-A838C9A0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F805E-FD81-4FFF-BBE7-F7076ED2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D8541-B4DC-46E3-926B-23ED4285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3F1AE-10A2-4BCD-B4C6-3D0EE2E1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29637-D95E-4C8D-8E58-16200119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508E5-7CE7-44BC-B760-AD3641ED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6BD02-53F2-45E9-9A0F-29443397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A33D-8E61-4BC5-97D9-AF2A51A1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12A15-AA31-407C-AC03-FF1446A0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912D6-8F76-444D-AE82-902DF3B2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8CD19-6AA0-4B5C-8B7B-6821BC07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6ADDC-7E97-4C6E-91C3-B0D63026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38279-5254-4ECE-AE3F-D43170BE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A538D4-4F29-410D-B366-40BCB9FD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B20338-25B7-438D-BE96-CB7487B0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A57B4D-BB1E-4DA3-8267-B6CE63FC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4C29A4-6A2E-40D3-A22A-1CCF81CA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13616D-98F7-4660-ACF5-AA96A8BB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E9A1-7363-4E93-8E93-1A454AB3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A96DD3-1E8D-4A59-A379-F92B28DB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FC6888-D9AF-4F4A-9475-7C88EF30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BE9BE7-B5F5-44C1-9130-8D07D0A8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29B62A-DFE1-4511-BD3B-7ECA811E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36B916-37D1-418E-AB3A-CAE0D4C4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B146D6-D67A-437B-8207-71F78494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3AE800-7C27-44AB-A1C0-5747C7DD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6FCB87-C27E-4EFD-9971-2CABD39E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113259-13C7-40F9-ACBC-15D0405A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773A94-A561-4D95-994E-9F09BE09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B60F-E53E-4BF5-B71D-86E23C30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30913A-E0E0-4CC9-AE70-E4B54C63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38B3D2-2394-476C-90DA-23BE226B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A159E2-F998-48F3-808E-769D0FF3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77D10-ABC5-43F2-877C-A0961B7A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B97D26-5A40-44B0-B2D5-12BE7FDE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8268D7-22AD-425B-B120-B12585CE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3EDBDD-92C0-435B-B52B-14BD18B9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385B84-3667-402B-9773-40B471D5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DC743C-84BF-4E13-B2FC-2D6F74BF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01B4-21BF-48AE-814C-D0E27B8D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E2A8-AC2B-4963-ACCF-C33D7ED4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D060-F93F-41C2-98BD-6EA22CFF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02C9-8FC9-4236-BBED-2533B3D5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3692-0B8A-4B84-8BAC-D69FD5DC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EC6E-AEBD-4ABC-AEEB-C307E7EE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D51E-0486-4582-9C43-A7473D49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FE5E-9EAA-4E6D-BD56-5FDCBB56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BAAA-377F-469A-81F1-7687634E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5A76D-5320-44F6-B1CA-1FEA0E16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4BF29-0D2F-48FC-8845-4E253426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05025-DA94-4721-A541-8CCF6782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BF193-0C8E-4C7A-AD31-6E1879DA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D5E43-A959-4729-AB8A-DEACCFD2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7857-EA63-48C1-AC77-BE737830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E86DE-5385-4C7C-A6D1-6ACE1E07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4B3BA-E049-4574-8A4E-62E5E496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3DB7D-3A54-4A93-9B4E-6F1E5564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D3A35-0E19-4AD9-9425-B0A87669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1F2AC-5BB1-4134-8F6D-0CC5C6B4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CFEC8-0C3F-413E-8CD6-E46C46AA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5CB89-F272-4F13-8A25-9655D359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E14AC-A361-45A0-B47E-174E1789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AF21F-42C5-4650-A81B-9BA5AC15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691DD-F50D-4FE2-ADD2-EB902452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DE0F-D1A2-4A6C-AAFB-A930A21E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4A5B8-7754-4B3A-905C-104C3FBB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E8344-A99B-49CF-B8EE-492E43C8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48C51-698C-49BE-B5CA-21D1909F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37532-807D-4298-9F79-1C4094EE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FA2B5-A610-47FC-B695-CAC3E739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89D3D-577B-47FF-A881-BEE38F7B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978A1-C61D-4E06-ABDC-0A7397A8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6BB75-5916-4B75-AD1C-22D2B824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19E2D-B41F-49F5-89DB-68D8BB98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7D8B5-4902-4C55-A40E-6EF4661D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B3F-AB30-4118-9F60-19D4244B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5B137-F9DE-4CA2-8146-6B95DF9B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B7B36-8302-458D-A044-6EE275E5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3EF66-6E32-413E-8461-D7E4EF38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A8C2D-8AEC-41CF-9A24-20F568D9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27FAA-D27B-4FD5-93E2-50B930E6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B9AF5-3A61-4FF2-BC1A-DEFF1515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0690C-2AD1-4BC4-8E8F-67310747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57B5C-B708-4CEC-8241-2BECAFDF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57178-9526-449A-97AB-68C6150B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632CF-816C-4E22-BA5A-991541B1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6CFB-2039-4BDD-A641-17F08B68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07EFB-7029-470A-96FC-A446E74C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8B2E6-1E5F-4C5A-8E0C-34E94711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877C6-3891-4D77-84EB-0D3A8726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3D3DD-CA91-49ED-A850-FD0D07F3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41201-B300-48A8-8BE2-0358963C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E4678-24DB-49F5-81BB-6F029741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7824E-CED2-43AE-913A-2BC04597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D9A33-84B5-41F3-85AD-82CEF387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FB978-B0FF-4495-A8B7-1AD3EFB8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FE865-FEFE-439B-90AF-53D55AD2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D66-6A43-4BF0-8B38-EB6A3091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72DF8-1E8F-4F6F-93EA-8EA2CB0F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95DAF-F6D2-4168-9DAF-5F7FCEEC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EA5DE-F3C5-4363-ABDB-77587B01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D69852-6CB9-40EE-9C47-E45A9937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2E26A6-82FF-4FD7-A82A-DE7EC4B4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C60A8D-BD0A-4C4D-BB35-41AC4887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B2639A-3225-4C6C-9F2B-79284690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501A4-E112-493C-A755-5FF7A755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9AD93C-E669-4803-99C4-D001448B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637E86-E0A8-4B8F-8FEA-F4A90D3D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E22-9DCC-4888-83AA-D844E9C0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AAEB2D-6BE3-4115-A9F0-0256EBB9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BCD0F4-016D-4A3A-9711-7B325BC8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50537D-2200-441B-A263-36191CF2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185444-164A-4C74-B505-82BECB64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F7E67C-F88C-43F0-898C-858FC25E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F17BC-ADF6-45BE-ABE2-17C7066C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6F57B-7B35-464D-9754-C39F38F1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9E6EC-5FF7-459B-A71B-E39BAD40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8E9A2-F550-4EF7-B9CC-2B268E34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A53E9-0E14-400D-9FC0-310312B6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DF5-07C2-4646-B494-74B5BDD9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AEF87-46B9-432A-B212-38038592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BAE9C-18D8-49E4-A4E3-D8E30881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046DD-8E79-4A28-ABBD-4904769B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58E8B-23EC-4A86-BEAF-05962701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BA642-F612-4AC7-BD09-51833E48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E9056-A882-461E-BA9B-912227B9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7F189-93B3-423D-882E-DDD399BA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78939-F5E8-4B72-89A2-F711D931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57332C-87CE-48EB-891C-3754C268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410A8-969E-460A-9740-27E09684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DEEE-43F1-4396-8400-A903AFEAD1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91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52A9-3BC1-49B3-9D22-C8E2375A6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4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9732-ADD9-44F3-808B-B8B3934F6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9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F7A7-8186-4AD1-AD04-FD55B9746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BF55-B0C9-45B3-BDE1-7839886CBE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14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4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15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1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1F72-7DC3-4796-AB91-5DE49F0084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2E20-C519-4DD9-8496-A09619FF42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C10A-222A-49B0-B314-1CA384D927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4345-79D7-49F3-835E-B78C9901D60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6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7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95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1ED2-09A6-4232-9A10-EE9A0822BEF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44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48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7F52-02A7-499F-A163-C70CB9D6460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DEBF-9A37-40EB-B83D-3BA310DBB5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2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40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7193-11DA-4899-88A2-026D4A4703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48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534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F192-D41D-4959-87BF-9DC3296ED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Решение транспортной задач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полнил студент группы ПО-08: Гудов Александ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верил преподавател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анасенко Наталья Алексе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ранспортная задач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 Exc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щая табл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5952960" cy="1333440"/>
          </a:xfrm>
          <a:prstGeom prst="rect">
            <a:avLst/>
          </a:prstGeom>
          <a:ln w="0">
            <a:noFill/>
          </a:ln>
        </p:spPr>
      </p:pic>
      <p:pic>
        <p:nvPicPr>
          <p:cNvPr id="1278" name="" descr=""/>
          <p:cNvPicPr/>
          <p:nvPr/>
        </p:nvPicPr>
        <p:blipFill>
          <a:blip r:embed="rId2"/>
          <a:stretch/>
        </p:blipFill>
        <p:spPr>
          <a:xfrm>
            <a:off x="2286000" y="4038480"/>
            <a:ext cx="3962520" cy="2243160"/>
          </a:xfrm>
          <a:prstGeom prst="rect">
            <a:avLst/>
          </a:prstGeom>
          <a:ln w="0">
            <a:noFill/>
          </a:ln>
        </p:spPr>
      </p:pic>
      <p:sp>
        <p:nvSpPr>
          <p:cNvPr id="1279" name=""/>
          <p:cNvSpPr/>
          <p:nvPr/>
        </p:nvSpPr>
        <p:spPr>
          <a:xfrm>
            <a:off x="380880" y="33526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Поиск реш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2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2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ранспортная задач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вод целевой функ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2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79246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6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2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Транспортная задач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ключени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курсовой работе изложены основные подходы и методы решения транспортной задачи, являющейся одной из наиболее распространенных задач линейного программирования. Решение данной задачи позволяет разработать наиболее рациональные пути и способы транспортирования товаров, устранить чрезмерно дальние, встречные, повторные перевозки. Все это сокращает время продвижения товаров, уменьшает затраты предприятий и фирм, связанные с осуществлением процессов снабжения сырьем, материалами, топливом, оборудованием и т.д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данной курсовой работе поставлена задача: минимизировать затраты на транспортировку продукции потребителям. При выполнении курсовой работы были использованы знания по предметам: «Математические методы», «Пакеты прикладных программ». Решение было проведено с помощью пакетов прикладных программ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crosoft Excel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и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crosoft Word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Результаты ручного просчёта сравнивались с результатами, полученными в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crosoft Excel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2000"/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ранспортная задач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Цель работы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Verdana"/>
              </a:rPr>
              <a:t>Основной целью задачи является минимизировать затраты на транспортировку продукции потребителям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Транспортная задач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879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ловие 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ри предприятия данного экономического района могут производить однородную продукцию, в количествах соответственно равных А1, А2 и А3 единиц. Эта продукция должна быть поставлена 5-и потребителям в количествах, соответственно равных В1, В2, В3, В4 и В5 единиц. Затраты связанные с производством и доставкой продукции, задаются матрицей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1=180; А2=350; А3=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1=110; В2=90; В3=120; В4=80; В5=1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2133720" y="4114800"/>
          <a:ext cx="2077920" cy="912960"/>
        </p:xfrm>
        <a:graphic>
          <a:graphicData uri="http://schemas.openxmlformats.org/drawingml/2006/table">
            <a:tbl>
              <a:tblPr/>
              <a:tblGrid>
                <a:gridCol w="415080"/>
                <a:gridCol w="493920"/>
                <a:gridCol w="338040"/>
                <a:gridCol w="415440"/>
                <a:gridCol w="415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9" name=""/>
          <p:cNvSpPr/>
          <p:nvPr/>
        </p:nvSpPr>
        <p:spPr>
          <a:xfrm>
            <a:off x="2133720" y="4038480"/>
            <a:ext cx="75960" cy="990720"/>
          </a:xfrm>
          <a:custGeom>
            <a:avLst/>
            <a:gdLst>
              <a:gd name="textAreaLeft" fmla="*/ 22320 w 75960"/>
              <a:gd name="textAreaRight" fmla="*/ 76320 w 7596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3962520" y="4038480"/>
            <a:ext cx="75960" cy="990720"/>
          </a:xfrm>
          <a:custGeom>
            <a:avLst/>
            <a:gdLst>
              <a:gd name="textAreaLeft" fmla="*/ 0 w 75960"/>
              <a:gd name="textAreaRight" fmla="*/ 53280 w 7596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Транспортная задач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ематическая мод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с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j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 количество груза перевозимого из пункт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унк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1=40; А2=50; В1=20; В2=30; В3=4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5 7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=   4 6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евая функция имеет вид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граничение по запаса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11 + Х12 + Х13 &lt;= 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21 + Х22 + Х23 &lt;=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j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&gt;=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граничение по спрос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11 + Х21 &lt;= 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12 + Х22 &lt;= 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13 + Х23 &lt;= 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1143000" y="1905120"/>
            <a:ext cx="76320" cy="60948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981080" y="19051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80880" y="3200400"/>
            <a:ext cx="152640" cy="533520"/>
          </a:xfrm>
          <a:custGeom>
            <a:avLst/>
            <a:gdLst>
              <a:gd name="textAreaLeft" fmla="*/ 97560 w 152640"/>
              <a:gd name="textAreaRight" fmla="*/ 15300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80880" y="43434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1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1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1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1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1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1000"/>
                                        <p:tgtEl>
                                          <p:spTgt spid="1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Транспортная задач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457200" y="91404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апы решения транспортной 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Получение начального реш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Проверка решений на оптималь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Усовершенствование несовершенных реш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туитивный подх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ерка на оптимальность и пересмотр несовершенных решений предусматривает анализ каждой пустой ячейки. Это выполняется так: одна единица перемещается в пустую ячейку и рассматривается влияние этого перемещения на стоимость. Если стоимость увеличилась, то это значит, что использование ячейки увеличило бы общие затраты. Если стоимость осталась не изменой, это значит альтернативный план с той же общей стоимостью. Если анализ показывает уменьшение – это значит возможно лучшее реш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ранспортная задача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038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атематическое реш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ставление первоначальной таблицы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1" name=""/>
          <p:cNvGraphicFramePr/>
          <p:nvPr/>
        </p:nvGraphicFramePr>
        <p:xfrm>
          <a:off x="380880" y="2057400"/>
          <a:ext cx="8382240" cy="3622680"/>
        </p:xfrm>
        <a:graphic>
          <a:graphicData uri="http://schemas.openxmlformats.org/drawingml/2006/table">
            <a:tbl>
              <a:tblPr/>
              <a:tblGrid>
                <a:gridCol w="760680"/>
                <a:gridCol w="761760"/>
                <a:gridCol w="763560"/>
                <a:gridCol w="760680"/>
                <a:gridCol w="761760"/>
                <a:gridCol w="765360"/>
                <a:gridCol w="761760"/>
                <a:gridCol w="760680"/>
                <a:gridCol w="763560"/>
                <a:gridCol w="761760"/>
                <a:gridCol w="760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5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2" name=""/>
          <p:cNvSpPr/>
          <p:nvPr/>
        </p:nvSpPr>
        <p:spPr>
          <a:xfrm>
            <a:off x="380880" y="57150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йдем целевую функцию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Z=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10*7+70*12+20*8+120*6+80*5+130*3+20*4=336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4400"/>
                            </p:stCondLst>
                            <p:childTnLst>
                              <p:par>
                                <p:cTn id="175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77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6400"/>
                            </p:stCondLst>
                            <p:childTnLst>
                              <p:par>
                                <p:cTn id="1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3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ранспортная задач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038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ценивание пустых ячеек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457200" y="1371600"/>
          <a:ext cx="7620120" cy="2070000"/>
        </p:xfrm>
        <a:graphic>
          <a:graphicData uri="http://schemas.openxmlformats.org/drawingml/2006/table">
            <a:tbl>
              <a:tblPr/>
              <a:tblGrid>
                <a:gridCol w="692280"/>
                <a:gridCol w="693720"/>
                <a:gridCol w="691920"/>
                <a:gridCol w="692280"/>
                <a:gridCol w="693720"/>
                <a:gridCol w="692280"/>
                <a:gridCol w="693720"/>
                <a:gridCol w="691920"/>
                <a:gridCol w="692280"/>
                <a:gridCol w="693720"/>
                <a:gridCol w="69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6" name=""/>
          <p:cNvGraphicFramePr/>
          <p:nvPr/>
        </p:nvGraphicFramePr>
        <p:xfrm>
          <a:off x="457200" y="3581280"/>
          <a:ext cx="7620120" cy="3105000"/>
        </p:xfrm>
        <a:graphic>
          <a:graphicData uri="http://schemas.openxmlformats.org/drawingml/2006/table">
            <a:tbl>
              <a:tblPr/>
              <a:tblGrid>
                <a:gridCol w="692280"/>
                <a:gridCol w="693720"/>
                <a:gridCol w="691920"/>
                <a:gridCol w="692280"/>
                <a:gridCol w="693720"/>
                <a:gridCol w="692280"/>
                <a:gridCol w="693720"/>
                <a:gridCol w="691920"/>
                <a:gridCol w="692280"/>
                <a:gridCol w="693720"/>
                <a:gridCol w="69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9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ранспортная задач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Четвертый шаг заполнения таблицы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457200" y="1447920"/>
          <a:ext cx="8305560" cy="3622680"/>
        </p:xfrm>
        <a:graphic>
          <a:graphicData uri="http://schemas.openxmlformats.org/drawingml/2006/table">
            <a:tbl>
              <a:tblPr/>
              <a:tblGrid>
                <a:gridCol w="755640"/>
                <a:gridCol w="755640"/>
                <a:gridCol w="752400"/>
                <a:gridCol w="755640"/>
                <a:gridCol w="754200"/>
                <a:gridCol w="758520"/>
                <a:gridCol w="754200"/>
                <a:gridCol w="755640"/>
                <a:gridCol w="752400"/>
                <a:gridCol w="755640"/>
                <a:gridCol w="755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5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0" name=""/>
          <p:cNvSpPr/>
          <p:nvPr/>
        </p:nvSpPr>
        <p:spPr>
          <a:xfrm>
            <a:off x="457200" y="533412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йдем целевую функцию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=120*4+60*6+110+90*8+20*5+130*3+20*4=224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ранспортная задач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Оценивание ячеек на 4 шаге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73" name=""/>
          <p:cNvGraphicFramePr/>
          <p:nvPr/>
        </p:nvGraphicFramePr>
        <p:xfrm>
          <a:off x="533520" y="1295280"/>
          <a:ext cx="7696080" cy="2186280"/>
        </p:xfrm>
        <a:graphic>
          <a:graphicData uri="http://schemas.openxmlformats.org/drawingml/2006/table">
            <a:tbl>
              <a:tblPr/>
              <a:tblGrid>
                <a:gridCol w="698400"/>
                <a:gridCol w="703080"/>
                <a:gridCol w="698760"/>
                <a:gridCol w="698400"/>
                <a:gridCol w="698400"/>
                <a:gridCol w="701640"/>
                <a:gridCol w="698760"/>
                <a:gridCol w="698400"/>
                <a:gridCol w="698400"/>
                <a:gridCol w="703440"/>
                <a:gridCol w="69840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4" name=""/>
          <p:cNvGraphicFramePr/>
          <p:nvPr/>
        </p:nvGraphicFramePr>
        <p:xfrm>
          <a:off x="533520" y="3581280"/>
          <a:ext cx="7696080" cy="2587680"/>
        </p:xfrm>
        <a:graphic>
          <a:graphicData uri="http://schemas.openxmlformats.org/drawingml/2006/table">
            <a:tbl>
              <a:tblPr/>
              <a:tblGrid>
                <a:gridCol w="698400"/>
                <a:gridCol w="701640"/>
                <a:gridCol w="700200"/>
                <a:gridCol w="698400"/>
                <a:gridCol w="698400"/>
                <a:gridCol w="701640"/>
                <a:gridCol w="698760"/>
                <a:gridCol w="698400"/>
                <a:gridCol w="700200"/>
                <a:gridCol w="701640"/>
                <a:gridCol w="698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a</cp:lastModifiedBy>
  <dcterms:modified xsi:type="dcterms:W3CDTF">2010-12-13T15:27:28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