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45F-136F-490A-816F-4E6FE7F4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409-D612-45C1-95BE-EBB38EC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FED-101B-4F1D-B037-EF708427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EBA-4669-4A98-87B6-8628EC2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5A3-7327-42FE-A38D-8DC3DD5B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52F-01AD-4DAD-A5D1-F7FDAAF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720-1AF9-4324-B3C2-E14428B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DB7-0545-4BF8-956C-387F90C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114-CE07-461D-9814-80BF26B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781-0E8C-4196-8E14-BE36B1C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02F-D968-4228-9638-6E0CEF3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148-3188-46FF-A297-451D56F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D95-7AF4-4CAD-BAFA-6621912E4A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346-AF79-4299-81C3-3A21F1F26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287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04a7b"/>
                </a:solidFill>
                <a:latin typeface="Calibri"/>
              </a:rPr>
              <a:t>автор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: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учень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11-Б кла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Гудухін Віталі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909-AF1B-4C60-83AD-7EB77928F3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DDD5-2BA5-416B-953C-5BF732ADB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2"/>
          <a:stretch/>
        </p:blipFill>
        <p:spPr>
          <a:xfrm>
            <a:off x="-128520" y="195120"/>
            <a:ext cx="932184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ru.jpg"/>
          <p:cNvPicPr/>
          <p:nvPr/>
        </p:nvPicPr>
        <p:blipFill>
          <a:blip r:embed="rId3"/>
          <a:stretch/>
        </p:blipFill>
        <p:spPr>
          <a:xfrm>
            <a:off x="1285920" y="1357200"/>
            <a:ext cx="63579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7375e"/>
                </a:solidFill>
                <a:latin typeface="Calibri"/>
              </a:rPr>
              <a:t>Для переходу на початок програми натисніть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522F-BE85-4C3E-8E77-2A1D501B8E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589-63F1-43B5-9214-C06EDC0BF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0" descr=""/>
          <p:cNvPicPr/>
          <p:nvPr/>
        </p:nvPicPr>
        <p:blipFill>
          <a:blip r:embed="rId1"/>
          <a:stretch/>
        </p:blipFill>
        <p:spPr>
          <a:xfrm>
            <a:off x="-146160" y="1298520"/>
            <a:ext cx="9350640" cy="11890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4286160" y="57150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1</a:t>
            </a:r>
            <a:r>
              <a:rPr b="0" i="1" lang="en-US" sz="4400" spc="-1" strike="noStrike">
                <a:solidFill>
                  <a:srgbClr val="e46c0a"/>
                </a:solidFill>
                <a:latin typeface="Calibri"/>
              </a:rPr>
              <a:t>.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Види мов програмування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2. Основні поняття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3. Синтаксис мов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20C2-855E-4010-9943-CCC375B9EB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BC3-3C64-476D-A5E3-BCF91061D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7" descr=""/>
          <p:cNvPicPr/>
          <p:nvPr/>
        </p:nvPicPr>
        <p:blipFill>
          <a:blip r:embed="rId2"/>
          <a:stretch/>
        </p:blipFill>
        <p:spPr>
          <a:xfrm>
            <a:off x="1652760" y="0"/>
            <a:ext cx="5887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2215080" y="1714680"/>
            <a:ext cx="950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AA7-AEE1-430F-ADE0-6E1FD1D9D8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461-B20A-477B-A775-4518F5741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62020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2" descr="Ris_1002.gif"/>
          <p:cNvPicPr/>
          <p:nvPr/>
        </p:nvPicPr>
        <p:blipFill>
          <a:blip r:embed="rId2"/>
          <a:stretch/>
        </p:blipFill>
        <p:spPr>
          <a:xfrm>
            <a:off x="428760" y="1357200"/>
            <a:ext cx="835812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лгоритм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ивається зрозуміле і точне розпорядження виконавцю виконати послідовність дій, спрямованих на досягнення зазначеної мети чи на розв'язання поставленої задач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E1F-ACE6-4DD5-9E7E-9953E9776F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D07-D503-4499-B7A0-4DEDE3548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7" descr=""/>
          <p:cNvPicPr/>
          <p:nvPr/>
        </p:nvPicPr>
        <p:blipFill>
          <a:blip r:embed="rId1"/>
          <a:stretch/>
        </p:blipFill>
        <p:spPr>
          <a:xfrm>
            <a:off x="652320" y="0"/>
            <a:ext cx="7473960" cy="114624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2560" y="1213920"/>
            <a:ext cx="86439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04a7b"/>
                </a:solidFill>
                <a:latin typeface="Calibri"/>
              </a:rPr>
              <a:t>Ліній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04E1-F656-4A86-968E-BAB8F515F0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657-7B66-46AD-88EB-256BF8A3E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354240" cy="7794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2"/>
          <a:stretch/>
        </p:blipFill>
        <p:spPr>
          <a:xfrm>
            <a:off x="1060560" y="30240"/>
            <a:ext cx="6699240" cy="113328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4" descr="Ris_1001.gif"/>
          <p:cNvPicPr/>
          <p:nvPr/>
        </p:nvPicPr>
        <p:blipFill>
          <a:blip r:embed="rId3"/>
          <a:stretch/>
        </p:blipFill>
        <p:spPr>
          <a:xfrm>
            <a:off x="3357720" y="2071800"/>
            <a:ext cx="2428560" cy="421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Розгалуж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C9D-240A-4888-A814-1A2F20FBD8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B2A-9E6B-4B06-9C20-2AE3B391A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Ris_2001.gif"/>
          <p:cNvPicPr/>
          <p:nvPr/>
        </p:nvPicPr>
        <p:blipFill>
          <a:blip r:embed="rId1"/>
          <a:stretch/>
        </p:blipFill>
        <p:spPr>
          <a:xfrm>
            <a:off x="642960" y="1785960"/>
            <a:ext cx="79945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Цикл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E4CA-76F9-47EA-9080-0B9A84819B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5B4F-CF3F-4F3C-B0A6-92F845F26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Ris_30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7933c"/>
                </a:solidFill>
                <a:latin typeface="Calibri"/>
              </a:rPr>
              <a:t>В будь-якій мові програмування можна виділити чотири типи елементів, що використовуються при побудові описів прогр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286080" y="349992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имвол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лова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вираз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                          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команди (оператор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CCD-C61D-4896-9F7F-16D43526AF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D978-3C03-4E8C-9C27-657842503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0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677880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1" descr="pabcnet.jpg"/>
          <p:cNvPicPr/>
          <p:nvPr/>
        </p:nvPicPr>
        <p:blipFill>
          <a:blip r:embed="rId1"/>
          <a:stretch/>
        </p:blipFill>
        <p:spPr>
          <a:xfrm>
            <a:off x="1428840" y="1428840"/>
            <a:ext cx="61484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FA2-A412-4CC6-BFEB-ACC4E09F6C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10C-78CC-43A3-B72E-3FF89C676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-298440" y="36360"/>
            <a:ext cx="96980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6:57:58Z</dcterms:created>
  <dc:creator>Гудухин Виталий</dc:creator>
  <dc:description/>
  <dc:language>en-US</dc:language>
  <cp:lastModifiedBy>Гудухин Виталий</cp:lastModifiedBy>
  <dcterms:modified xsi:type="dcterms:W3CDTF">2009-06-05T17:20:25Z</dcterms:modified>
  <cp:revision>60</cp:revision>
  <dc:subject/>
  <dc:title> </dc:title>
</cp:coreProperties>
</file>