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0B8F-F8EC-484E-B486-52718131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435D-B7B1-4E15-8D2D-B753B8D3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78D-8126-4F24-A1CC-CA88A9CB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05F8-A7F0-4893-AD78-718D3349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28BB-9052-47C2-B4DA-C90B56EA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119B-E447-44B2-BF7A-9CBA854F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B241-ACBE-4889-9BE6-291DA491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E94D-F937-4CBF-BDD0-1267FDC5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A74-2F44-43B8-B3AC-BCAF9C48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AFA7-EC66-400C-BCCF-85A15B15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02D0-8D9F-4EAA-B396-9ED72060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FE4-4945-4793-9952-729CE650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0E04-FC82-4792-866D-046178FD6E4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C9CF-3068-4941-AAA3-4E37F27BEC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26920" y="1412640"/>
            <a:ext cx="3816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кла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одзаголовок 2" descr=""/>
          <p:cNvPicPr/>
          <p:nvPr/>
        </p:nvPicPr>
        <p:blipFill>
          <a:blip r:embed="rId1"/>
          <a:stretch/>
        </p:blipFill>
        <p:spPr>
          <a:xfrm>
            <a:off x="208080" y="2230560"/>
            <a:ext cx="8746920" cy="1755720"/>
          </a:xfrm>
          <a:prstGeom prst="rect">
            <a:avLst/>
          </a:prstGeom>
          <a:ln w="0">
            <a:noFill/>
          </a:ln>
        </p:spPr>
      </p:pic>
      <p:pic>
        <p:nvPicPr>
          <p:cNvPr id="43" name="Подзаголовок 2" descr=""/>
          <p:cNvPicPr/>
          <p:nvPr/>
        </p:nvPicPr>
        <p:blipFill>
          <a:blip r:embed="rId2"/>
          <a:stretch/>
        </p:blipFill>
        <p:spPr>
          <a:xfrm>
            <a:off x="5126040" y="4432320"/>
            <a:ext cx="3841920" cy="2054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DCA8-DE03-4600-A09F-969BF20F99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QL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англ. Structured Query Language — «язык структурированных запросов») — универсальный компьютерный информационно-логический язык, появившийся в результате разработки реляционной модели данных, применяемый для создания, модификации и управления данными в реляционных базах данны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нципиально отличается от традиционных алгоритмических языков программирования прежде всего тем, что он относится к непроцедурным языка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настоящее время получил очень широкое распространение и фактически превратился в стандартный язык реляционных баз данных. Стандарт на язык SQL был выпущен Американским национальным институтом стандартов (ANSI) в 1986 г., а в 1987 г. Международная организация стандартов (ISO) приняла его в качестве международног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5A58-B071-4983-87D6-957DD38B70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хема взаимодействия клиентского приложения с сервером Б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4C35-CEE5-48B1-BF6A-5BE9B3DD6D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017720" y="1773360"/>
            <a:ext cx="7153200" cy="4352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47B4-04E4-457B-9E98-FE8694C7AE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684360" y="692280"/>
            <a:ext cx="77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зык SQL позволяет только манипулировать данными, но в нем отсутствуют средства создания экранного интерфейса, что необходимо для пользовательских приложений. Для создания этого интерфейса служат универсальные языки третьего поколения (C, C++, Pascal) или проблемно-ориентированные языки четвертого поко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xBase, Informix 4Gl, Progress, Jam,..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и языки содержат необходимые опер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вода / вывода на экран, а также операторы структурного программиров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вместимос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" y="1557000"/>
            <a:ext cx="8434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се конкретные реализации языка несколько отличаются друг от друга. В интересах самих же производителей гарантировать, чтобы их реализация соответствовала современным стандартам ANSI в части переносимости и удобства работы пользователей. Тем не менее каждая реализация SQL содержит усовершенствования, отвечающие требованиям того или иного сервера баз данных. Эти усовершенствования или расширения языка SQL представляют собой дополнительные команды и опции, являющиеся добавлениями к стандартному пакету и доступные в данной конкретной реализац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о 1996 года вопросами соответствия коммерческих реализаций SQL стандарту занимался в основном Национальный институт стандартов и технологий (NIST), который и устанавливал уровень соответствия стандар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A8B2-247B-4B74-9849-A72DC48FCD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2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рактивный (или автономный) SQL дает возможность пользователям непосредственно извлекать информацию из базы или записывать в нее данные. Информация, получаемая по запросу SQL, может быть выдана на экран, в файл или на принте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атический SQL позволяет записать фиксированный исполняемый код SQL, он обычно используется в приложениях на процедурных язык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Встроенный SQL определен как код SQL, который включен в исходный текст программы, написанной на другом языке программирования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Модульный SQL. Операторы SQL записаны в отдельных модулях, которые компонуются с модулями основного языка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инамический SQL дает возможность генерировать код SQL во время исполнения приложения и используется вместо статического SQL в тех случаях, когда при разработке приложения необходимый код SQL еще не может быть определен или зависит от того, какой выбор сделает пользователь. (диалоговые среды для построения запрос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E320-386D-4E83-A09E-2AAD2FABC1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2040"/>
          </a:xfrm>
          <a:prstGeom prst="rect">
            <a:avLst/>
          </a:prstGeom>
          <a:ln w="0">
            <a:noFill/>
          </a:ln>
        </p:spPr>
      </p:pic>
      <p:pic>
        <p:nvPicPr>
          <p:cNvPr id="59" name="Объект 2" descr=""/>
          <p:cNvPicPr/>
          <p:nvPr/>
        </p:nvPicPr>
        <p:blipFill>
          <a:blip r:embed="rId2"/>
          <a:stretch/>
        </p:blipFill>
        <p:spPr>
          <a:xfrm>
            <a:off x="401760" y="1262160"/>
            <a:ext cx="8285040" cy="4973400"/>
          </a:xfrm>
          <a:prstGeom prst="rect">
            <a:avLst/>
          </a:prstGeom>
          <a:ln w="0">
            <a:noFill/>
          </a:ln>
        </p:spPr>
      </p:pic>
      <p:sp>
        <p:nvSpPr>
          <p:cNvPr id="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DBCE-ED87-4B2D-83F8-C42BB5F2A3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имущества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4744-4340-4F65-AF9B-6910E4F972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ндарт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зависимость от конкретных СУБД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зможность переноса с одной вычислительной системы на другую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ляционная основа язы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зможность создания интерактивных запрос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еспечение различного представления данны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зможность динамического изменения и расширения структуры БД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держка архитектуры клиент-серв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достатки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BB92-7957-49B3-B109-726ECD74B6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86920" y="1773000"/>
            <a:ext cx="7129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соответствие реляционной модели данны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ож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ступления от стандарт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ожность работы с иерархическими структур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2:39:35Z</dcterms:created>
  <dc:creator>Антоха</dc:creator>
  <dc:description/>
  <dc:language>en-US</dc:language>
  <cp:lastModifiedBy>Антоха</cp:lastModifiedBy>
  <dcterms:modified xsi:type="dcterms:W3CDTF">2010-12-23T03:37:55Z</dcterms:modified>
  <cp:revision>17</cp:revision>
  <dc:subject/>
  <dc:title>Доклад</dc:title>
</cp:coreProperties>
</file>