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C78-E8E2-4FFE-88D1-CB7133C4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3FA-3E8D-4A83-A67A-65BF88AA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D5C-ED29-464B-BB07-D6088DF3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A03-BDCC-42B6-B8E5-84F8F30A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B309-90F7-49F8-8EAF-9E5FB772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8A59-1A23-400D-987A-27B8374C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F477-EEAB-42DB-A5DB-52B0049D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A53B-AA1C-452D-8F82-011A4376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969-2631-4374-9016-EA38541D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87F0-DBA5-47B7-96AB-2FB5CEA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B5FE-AD6C-4E3A-AE52-A196932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286-28C4-4A11-B31A-0CCF5A6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6C13-A6BB-4FFA-977B-8D071F4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EC71-A59D-4CD7-AA47-07919FD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1594-1423-4A86-A0FB-8B6C5BB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1453-2A22-44C6-AF8F-A883D248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AAF3-67E6-43A8-AA02-9880120D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A4B-5FC2-45B0-800B-67DBE4D4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FCC-2A40-406A-B187-04592F3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7D3-AF46-4F60-ACC8-47BB5047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CF9-448E-4A32-B49B-84FD2DAF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658-E715-448C-B507-9174E79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409-4BAA-43CC-8AF1-AF0006D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B37-1B62-4CDD-B691-CAB18E6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BF98-B3FC-4DEF-ACF4-6CAC5EF2C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8C94-EBEE-458F-A6C6-E3E713050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684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ПЛОМНЫЙ 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: Автоматизированное рабоч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менеджера по рекла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ОО «Деловая недвижимость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3333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тайски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м И.И. Ползу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3604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федра «Информационные системы в экономик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9440" y="4365720"/>
            <a:ext cx="78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пломник группы 5 ПИЭ-0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кач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ь проекта доцент кафедра ИСЭ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дидат технических нау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рин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4880" y="6308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рнаул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67312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42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огическая модель БД информацион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2200" y="476280"/>
            <a:ext cx="8497800" cy="6039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67780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440" y="404640"/>
            <a:ext cx="56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техническому обеспече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520" y="4149720"/>
            <a:ext cx="57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программному обеспече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836280"/>
            <a:ext cx="8007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цессор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80486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X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и выш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ативную память не ниже 128 Мбай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сткий диск не менее 20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b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мер свободного пространства на жестком диске компьютера не менее 1Гб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копитель на гибких магнитных дисках 3.5” или устройство чтения компакт-дис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ветной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VGA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итор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чатающее устройств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ройство ввода клавиату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нипулятор мыш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581360"/>
            <a:ext cx="80074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ства визуальной разработки -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6 при поддержке операционной системы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X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рассчитана на работу под управлением ОС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'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2000 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P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Д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land Database Engine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5, которая поставляется вместе с пакетом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6, а также вместе с дистрибутивом данной пр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159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авное меню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697800" cy="60991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кета сотруд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30064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кета объекта недвиж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80000" cy="60422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бавление объекта в рекл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29640" y="6524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767640" cy="60771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1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грузка объявл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9562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3184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чет о расходах на рекл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752400"/>
            <a:ext cx="7202520" cy="59166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260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можности систе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560" y="836280"/>
            <a:ext cx="8007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ов сотруд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а С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а объектов недвижимости, которые необходимо рекламирова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прайс-листа объектов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ая выгрузка рекламного объявления по определенным шаблон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т расходов на рекламу по каждому объекту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ов по рекламе по каждому объекту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а по рекламе по всему агентству недвижимости в разрезе аг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сть редактирования отчета после формирова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кспорт отчетов в программы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сть быстрого изменения формы отчета без изменения исходного текста программ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стрый поиск по справочник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граничение доступа пользователей к систем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ие архивных копий справочников и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стой интуитивно понятный интерфей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95280" y="1484280"/>
          <a:ext cx="8388360" cy="4233960"/>
        </p:xfrm>
        <a:graphic>
          <a:graphicData uri="http://schemas.openxmlformats.org/drawingml/2006/table">
            <a:tbl>
              <a:tblPr/>
              <a:tblGrid>
                <a:gridCol w="3932280"/>
                <a:gridCol w="2305080"/>
                <a:gridCol w="215100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ья затр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разработ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есет разработчик)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внедр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есет покупатель)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П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ее (зарплата, амортизация, электроэнер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032,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352,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олагаемое количество внедр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внед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770840" y="541440"/>
            <a:ext cx="59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траты на разработку и внедрение ИС «Рекла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7312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0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матизировать рабочее место менеджера по рекламе компании ООО «Деловая недвижимость»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760" y="260280"/>
            <a:ext cx="33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Цель создания систе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000" y="177336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276640"/>
            <a:ext cx="8675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специфику рекламной деятельности в агентствах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организацию и уровень автоматизации деятельности ООО «Деловая недвижимост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ить обзор программных продуктов, автоматизирующих деятельность агентств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техническое задание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технический проект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ализовать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руководство пользователя для работы с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эффективность от внедрения ИС «Рекл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18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ономическая эффективность от внедр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 «Реклам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8480" y="1390680"/>
            <a:ext cx="6705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оимость программы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768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оимость внедрения ИС «Реклам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компании «Деловая недвижимость»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4068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довой экономический эфф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внедрения ИС «Реклама»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7282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эффициент эффективн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,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ок окупаем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 ме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55640" y="4395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шенные 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1052640"/>
            <a:ext cx="8101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ла изучена специфика рекламной деятельности в агентствах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а организация и уровень автоматизации деятельности компании ООО «Деловая недвижимост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 обзор программных продук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о техническое задание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 технический проект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чно реализована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о руководство пользовател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читана эффективность от внедрения ИС «Рекл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684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ПЛОМНЫЙ 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: Автоматизированное рабоч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менеджера по рекла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ОО «Деловая недвижимость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333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тайски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м И.И. Ползу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13604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федра «Информационные системы в экономик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9440" y="4365720"/>
            <a:ext cx="78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пломник группы 5 ПИЭ-0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кач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ь проекта доцент кафедра ИСЭ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дидат технических нау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рин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4880" y="6308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рнаул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т расходов на реклам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готовка рекла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слеживание выходов рекла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прайс-листа объектов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отчетов о расходах на рекла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4600" y="955800"/>
            <a:ext cx="55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новные задачи менеджера по рекл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928000" cy="4964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35244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цесс «Рекламирование объек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42372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цесс «Учет расходов на реклам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48643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920" y="836280"/>
            <a:ext cx="7507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ов сотрудн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а С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а объектов недвижимости, которые необходимо рекламирова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прайс-листа объектов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ая выгрузка рекламного объявления по определенным шаблон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т расходов на рекламу по каждому объекту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ов по рекламе по каждому объекту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а по рекламе по всему агентству недвижимости в разрезе аг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возможности редактирования отчета после форм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уществление экспорта отчетов в программы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можность быстрого изменения формы отчета без изменения исходного текста программ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быстрого поиска по справочник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разграничения доступа пользователей к систем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здание архивных копий справочников и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стой интуитивно понятный интерфей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04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систе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890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ализ программ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692280"/>
          <a:ext cx="8207280" cy="5867280"/>
        </p:xfrm>
        <a:graphic>
          <a:graphicData uri="http://schemas.openxmlformats.org/drawingml/2006/table">
            <a:tbl>
              <a:tblPr/>
              <a:tblGrid>
                <a:gridCol w="4895640"/>
                <a:gridCol w="1441440"/>
                <a:gridCol w="187020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 «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gent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фирмы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ЭЛКО Технология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ов сотрудник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а СМ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а объектов 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ое формирование прайс-листа о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ая выгрузка рекламного объявления п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ным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блона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т расходов на рекламу по каждому объекту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ое формирование отчетов по расходам 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ламу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ь редактирования отчета посл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орт отчетов в программы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d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и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ь быстрого изменения формы отчета без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я исходного текста программ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стрый поиск по справочника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граничение доступа пользователей к систем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архивных копий справочников и докумен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2952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руктура базы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157400"/>
          <a:ext cx="885672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7400"/>
                    <a:ext cx="885672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51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ункциональная структура ИС «Реклам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8000" y="1125360"/>
          <a:ext cx="8856720" cy="46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85672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3:33:02Z</dcterms:created>
  <dc:creator>Наталья</dc:creator>
  <dc:description/>
  <dc:language>en-US</dc:language>
  <cp:lastModifiedBy>Super</cp:lastModifiedBy>
  <dcterms:modified xsi:type="dcterms:W3CDTF">2006-06-12T16:17:49Z</dcterms:modified>
  <cp:revision>97</cp:revision>
  <dc:subject/>
  <dc:title>ДИПЛОМНАЯ РАБОТА НА ТЕМУ:</dc:title>
</cp:coreProperties>
</file>