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AE4-4457-432E-AD9C-B9699CA5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23B-0B5A-4F69-AD0D-D0C0B7E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0F6-7BCF-4075-9327-2A610EB9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B05-C400-4127-B825-21C5DA58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F78-9F86-43E6-9C06-1C3E3852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B07-75BA-4AD4-BC21-170933BA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873-E87A-4614-8F0F-34939A4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EA3-E889-4759-858B-ADEBD6E7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B62-D473-49A7-8BD5-CBB3867C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F7B-CA45-4A1E-90B5-B99A4797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816-89A3-4B3B-A1A7-DB097EA2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98A-4888-4357-AC81-B4F8E9D8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0576B4-045F-4B31-90C0-785CB19A6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50e"/>
                </a:solidFill>
                <a:latin typeface="Arial"/>
              </a:rPr>
              <a:t>Информационные технологии в гражданском проце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Порядок исследования судом аудио/видеозаписей определяется как непосредственный при помощи специального оборудования с указанием в протоколе признаков воспроизводящих источников и времени воспроизвед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В целях выяснения содержащейся в аудио/видеозаписи информации судом может быть привлечен специалист, при необходимости назначается экспертиз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Аудио/видеозаписи могут постоянно храниться в камере хранения суда в неизменном состоянии и суд принимает меры для сохран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Материальный закон предусмотрел такие средства доказывания, как электронные средства платежа, аналоги собственно ручной подписи, кодов, паролей и иные средства, подтверждающие что распоряжение денежными средствами дано уполномоченным на то лицом ГК регламентирует, что определенные права могут удостоверяться бездокументарными ценными бумагами с помощью средств электронно-вычислительной техни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741240" y="2793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пециалисты оказывают научно-техническую и справочно-консультативную помощь суду в следующих процессуальных формах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участие в исследовании доказательств в судебном заседании, а также при осмотре на ме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суду письменных и устных заключений справочно-консультативного характера, особенностях ее потребительских свойств или технических характеристик, стоимости ремонта поврежденного имущества и т. п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оказание научно-консультативной помощи суду при назначении экспертизы, а также при изучении заключения эксперта в процессе подготовки к судебному разбирательств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письменного заключения в суд апелляционной, кассационной или надзорной инстан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41240" y="1260360"/>
            <a:ext cx="877248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огласно ч. 2 ст. 67 ГПК РФ аудио/видеозаписи не могут иметь заранее установленной силы и приоритета над другими доказательствами и оцениваются в совокупности с другими доказательствами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Аудиозаписи подпадают под определение фонодокумента – документа, содержащего звуковую информацию, зафиксированную любой системой звукозаписи. Видеозаписи - под определение аудиовизуального документа – это документ, содержащий изобразительную и звуковую информацию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2.2 Место аудио/видеозаписей в системе доказательств</a:t>
            </a:r>
            <a:endParaRPr b="1" i="1" lang="en-US" sz="22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Общее между письменными, вещественными доказательствами и аудио/видеозаписями состоит в том, что данные виды доказательств относятся к предметным доказательствам, т.е. в них информация сохраняется, как правило, на объектах неживой природы, вещах, как бы в статичном состоянии. Как и письменные доказательства, аудио/видеозаписи подтверждают определенные обстоятельства по делу с помощью той информации, которая записана на них, например запись того, как свидетель обещает вовремя вернуть долг, запись высказываний, которые порочат честь, достоинство и деловую репутацию гражданина, по делам о компенсации морального вре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Различие между этими доказательствами состоит в том, что информацию с аудио/видеозаписей участникам процесса нельзя снять с помощью органов слуха и зрения, как это имеет место при осмотре вещественных доказательств или при исследовании письменных доказательст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741240" y="523800"/>
            <a:ext cx="86090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Общее правило о допустимости сформулировано в ч. 1 ст. 55 ГПК РФ: доказательствами по делу являются полученные в предусмотренном законом порядке сведения о фактах. Это означает, что, даже если обстоятельство по делу подтверждается определенным средством доказывания</a:t>
            </a:r>
            <a:r>
              <a:rPr b="0" lang="en-US" sz="26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, но нарушена процедура совершения этого действия, доказательство не может быть допущен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43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Допустимость аудио/видеозаписей в гражданском процессе до сих пор является предметом дискуссий так как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 помощью существующих технических приемов можно изменить, исказить их содержа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олучение и воспроизведение аудио/видеозаписей может быть сопряжено с нарушением неприкосновенности частной жизни гражда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бор, хранение, использование и распространение информации о частной жизни лица без его согласия не допускаются. Никто не вправе проникать в жилище против воли проживающих в нем лиц иначе как в случаях, установленных федеральным законом, или на основании судебного реш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учетом этого должны признаваться недопустимыми в качестве доказательств, в частности, аудиозаписи телефонных переговоров, полученные без санкции суда; (ч. 1 ст. 6 Федерального закона "Об оперативно-розыскной деятельности"), если проведение таковых было сопряжено с провоцированием граждан на совершение противоправных действи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ассмотрение материалов об ограничении конституционных прав граждан на тайну переписки, телефонных переговоров, почтовых, телеграфных и иных сообщений, передаваемых по сетям электрической и почтовой связи, на неприкосновенность жилища при проведении оперативно-розыскных мероприятий осуществляется судом, как правило, по месту проведения таких мероприят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В соответствии </a:t>
            </a:r>
            <a:r>
              <a:rPr b="1" lang="en-US" sz="2600" spc="-1" strike="noStrike">
                <a:solidFill>
                  <a:srgbClr val="cccccc"/>
                </a:solidFill>
                <a:latin typeface="Times New Roman"/>
              </a:rPr>
              <a:t>со ст. 50 Закона РФ "О средствах массовой информации"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распространение сообщений и материалов, подготовленных с использованием скрытой аудио/видеозаписи, кино- и фотосъемки, допускается при наличии одного из трех обстоятель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 нарушать конституционные права, предусмотренные в Конституции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обходимость защиты общественных интересов и принятие мер против возможной идентификации посторонних л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решение суда о демонстрации материалов, когда допускается распространение материалов, сделанных скрытой записью, речь идет только о демонстрации, т.е. о публичном исполн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ГПК РФ можно обнаружить несколько статей, в которых речь идет об аудио/видеозаписях, и только в одной из них, а именно в ст. 185, предельно кратко описан порядок их исследования органом правосудия. Он подразумевает, что судья должен придерживаться следующих процессуально-правовых действ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ри воспроизведении аудио/видеозаписей, содержащих сведения личного характера, открытое судебное заседание назначается только с согласия заинтересованных лиц, в противном случае исследование записей происходит без соблюдения принципа глас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спроизведение аудио/видеозаписей осуществляется в зале заседания или ином специально оборудованном для этой цели помещении с указанием в протоколе судебного заседания признаков воспроизводящих источников доказательств и времени воспроизведения. После этого суд заслушивает объяснения лиц, участвующих в деле; если это требуется, воспроизведение аудио/видеозаписей повторяется полностью либо в какой-либо ча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 целях выяснения содержащихся в аудио/видеозаписи сведений суд вправе привлечь специалиста, а в необходимых случаях назначить экспертиз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39640" y="369720"/>
            <a:ext cx="918072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— особый объект гражданских правоотношений, она обладает следующими признак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, являясь идеальной компонентой бытия, т.е. благом нематериальным, опосредует имущественные отнош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является непотребляемым объектом гражданских правоотношений, который подвергается лишь моральному старе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возможность ее практически неограниченного тираж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39640" y="282600"/>
            <a:ext cx="918072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Принцип свободы информации определяется следующими правами и свободами, закрепленными в Конституции РФ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ысли и слова (ч.1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ыражения своих убеждений (ч.3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свободно искать, получать, передавать и распространять инф-ю любым законным способом (ч.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ассовой информации (ч.5 ст.29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каждого на достоверную информацию о состоянии окружающей среды (ст.42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6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сех видов творчества (ч.1 ст.44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7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на доступ к культурным ценностям (ч.2 ст.44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0720" y="360360"/>
            <a:ext cx="882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Информация является одним из ценнейших ресурсов общества наряду с такими традиционными материальными видами ресурсов, как нефть, газ, полезные ископаемые и др., а значит, процесс ее переработки по аналогии с процессами переработки материальных ресурсов можно воспринимать как технологию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6e6e6"/>
                </a:solidFill>
                <a:latin typeface="Times New Roman"/>
              </a:rPr>
              <a:t>Информационная технология</a:t>
            </a: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 — процесс, использующий совокупность средств и методов сбора, обработки и передачи данных (первичной информации) для получения информации нового качества о состоянии объекта, процесса или явления 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Цель информационной технологии — производство информации для ее анализа человеком и принятия на его основе решения по выполнению какого-либо действия.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9139320" cy="107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Исследование информации: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1" name="Picture 3" descr="C:\Documents and Settings\дом\Рабочий стол\marketing_shema_01.jpg"/>
          <p:cNvPicPr/>
          <p:nvPr/>
        </p:nvPicPr>
        <p:blipFill>
          <a:blip r:embed="rId1"/>
          <a:stretch/>
        </p:blipFill>
        <p:spPr>
          <a:xfrm>
            <a:off x="1397160" y="1994040"/>
            <a:ext cx="69688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1. ПРИМЕНЕНИЕ  ИНФОРМАЦИОННЫХ ТЕХНОЛОГИЙ  </a:t>
            </a:r>
            <a:br>
              <a:rPr sz="3600"/>
            </a:b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В ГРАЖДАНСКОМ ПРОЦЕ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741240" y="27612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появлением современных источников информации в качестве доказательств по правовым спорам следует обратить внимание н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зможность использования электронных документов в случае спора — одно из условий их юридической силы, что установлено в  нормативных актах и кладет начало для их использования в экономическом обороте как внутри, так и вне тех систем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Существенно меняются формы документов, условия проверки их достоверности, способы  удостовер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Актуальным  оказывается вопрос об условиях, при которых арбитражные суды по национальному законодательству могут принимать для доказывания информацию, хранимую в ЭВМ, и рассматривать ее как идентичную той, которая первоначально была введена в ЭВ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одлежит разрешению и вопрос о сроках хранения сведений в памяти ЭВМ, так как они могут потребоваться при рассмотрении дела в арбитраж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законодательстве ряда стран существуют нормы, устанавливающие порядок и процедуру пользования электронными докумен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360360" y="282600"/>
            <a:ext cx="936000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Times New Roman"/>
              </a:rPr>
              <a:t>Особенности  электронных документов,  обеспечивающих доказательственую функцию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практически невозможно извлечь из памяти ЭВМ информацию путем прямого анализа физических свойств  носителя информации, минуя вычислительны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информация, содержащаяся в памяти  ЭВМ, в большинстве случаев может быть воспроизведена на другой ЭВ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изуально, т.е. непосредственно без использования специальной техники, суду электронный документ  недоступ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форма фиксации информации в электронных документах существенно отличается от письменного доку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2. АУДИО/ВИДЕОЗАПИСИ КАК СРЕДСТВА ДОКАЗЫВАНИЯ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Аудио/видеозаписи являются в гражданском процессе самостоятельным средством доказывания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Лицо, представляющее аудио/видеозаписи на электронном носителе либо ходатайствующее об их истребовании, обязано указать, когда, кем ч в каких условиях осуществлялись записи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оисхождение аудио/видеозаписи будет законным, если участники судебного разбирательства, присутствовавшие в открытом судебном заседании, фиксировали происходящее посредством электронных устройств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6:12:22Z</dcterms:created>
  <dc:creator>An al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Philka</cp:lastModifiedBy>
  <dcterms:modified xsi:type="dcterms:W3CDTF">2010-10-31T12:32:41Z</dcterms:modified>
  <cp:revision>2</cp:revision>
  <dc:subject/>
  <dc:title>Предложение стратегии</dc:title>
</cp:coreProperties>
</file>