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070-DF94-4DD2-9900-AAD7E494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3A0-2CB6-4B58-B76D-CF66387E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62184-FD2B-4D7C-9126-38E008E4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34E25-D34B-47DA-8367-B18ECF4F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33E64-3C62-4B52-B69E-84B638AD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5D523-90FC-405B-93D2-986FEB8E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14C91-BDCE-4B26-B8E1-7AEB9A35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5A4A9-95DE-47CD-B6AD-CFB3DECE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D0AC5-BE8F-40FC-9231-2C3D742E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C3697-BA02-4FD6-8538-BE388250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2E23C-A7B5-4E3F-BE0B-041A59F7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C0C86-65C1-4C47-8662-EF9B014D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8E5-5054-4F2A-8A5B-79D59FFA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1067D-88AC-4ADB-B3C3-C7B26E03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A4107-3D2F-4ED4-9DF2-507DCC99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20007-89C6-48B7-AD28-528A8ED8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8E15A-81C6-4AB2-8D74-096F5DE8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D7DA0-40D5-46C2-ACFB-3ADF2380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94491-F27B-43C5-A993-FDD4C734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C7428-1480-4BB0-99D7-88E151F2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FBD87-1B3A-4295-A3C6-AF336843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D438F-DFC0-4DCA-8B85-B7E7A756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E3610-C7D1-4D68-8E9A-E40C0D4D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FAA8-66C1-48F2-8978-A17BEACD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BD6CF-F60F-4624-812A-335C8286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1F284A-8296-4344-81EC-0BC64182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781F85-5231-4F7C-AFBE-65DB0BB3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B39C9D-60C7-46F7-97EC-00CAAFF2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4BBCEE-98E1-44AA-BEBA-556CFF88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4353DA-7A3D-48F5-A2A5-959431B2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EB984C-1DDF-4DFC-A772-4333701E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9FE74B-3BA7-44C3-A3F1-6FFFBFDD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195ED7-EAB8-407B-8DB5-510F8329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C68384-70EA-4E5D-8A87-29AD7726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B25D-80CE-480F-91A1-C9A31890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C5A477-5A4D-46AB-8562-841A16EE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EF3D1B-22F9-458B-B2B2-8873B41C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65FB02-82C3-4DFF-A50A-A5370924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5C4E5-1AF1-43FF-AAA3-ED5BF545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C7DE6-6364-484D-9395-E08C77DF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728F6-5F45-45AE-9F53-FB24A883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B6390-F139-4395-9E8B-054D4165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ED98E-A3D7-4EE8-88FF-697C571C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C15FF-C0C4-4252-8ADD-3E1B7267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BE25F-D0FA-4C8F-91E1-330FF7CA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7C32-8841-4D53-BA0F-1001D8BA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17C98-2645-4B46-8835-68F74861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B3AA0-25B6-4BF2-BBB0-5D00AB05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CFD9C-869B-4A02-9E67-E8EC36FD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A8B62-D9CB-4073-B471-23A88F93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49478-3771-4161-A23F-44F2DB17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5FC4D5-D897-44A7-B1FF-925E1327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3E416-AA0F-4190-8822-6B3E53CA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53125-ACBB-4A7E-A66A-4499C371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7D943-2492-411F-9740-5F4BEA59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3DA7A-7DB7-4ED0-B595-B85752D8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9F72-2828-4346-B5AA-2EB9BBB8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13C9C-0238-4CF1-9419-B3E67769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BC257-D177-4532-9F97-E98B158C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612C5-4945-4544-8F08-B3D5DE26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E3B3F-85B5-46D8-8A21-BD4DBB29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82AEA-BED7-4E93-BE82-E56D3A27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A5D03-7B11-4DD0-A13D-30AD1B83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B59871-E226-4ACD-B5A1-86268D1E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795BB-92CD-491F-AD2C-BC4EDBFE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DF0AC3-3B1E-4485-A144-44DE9F67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67B21C-952B-4DC3-90E7-713EC905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5081-4792-4393-8D2F-72193663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017605-44A8-493F-9879-B1BBB204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8E174A-1B47-499B-BF0C-A3304F1D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DCF27-11FD-46A7-8914-6C4F9D91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F7846-F1B5-4592-9635-A25B5129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061798-9F01-4F80-A724-71843821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F46AD4-4B8F-414F-9731-49BF29EF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555F5-1F81-4F81-A439-06BBBC67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372E9-0540-478D-905A-98E70DCF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698BA-8507-4DE5-B1B7-5061EB8C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6D4273-93C4-4332-BEF7-0FE935FC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C79B-BC02-4136-A298-1F4068F7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82D12-AE65-40EF-96A7-37BF20D4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81278-2114-4D57-A405-8B71EC09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437D4E-2582-42F8-90FE-A07730E9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6EBC25-1915-403D-AAB1-E54CE646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6E5BA6-4F4E-4735-8798-BDF75D77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9DC65B-8EE5-4880-B179-94FB2185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E4ED5B-6396-4107-AAE7-79DD7509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D51A94-78D2-4B05-ACB5-B97FF3DE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626CC8-9581-47CC-BBB0-51E3A7B4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078C1B-7F7B-499A-9116-433E677D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2E82-A726-4888-A59B-CBAA6162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DB9CD-FB7D-4640-802D-D8B07F4C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41E03B-9B3B-4BF9-BA77-BDCED7A3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87227D-4F6A-4695-A60C-5AB692D7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66872C-0CA1-4590-9406-F8D494A4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AB2E80-B8BB-4FC2-9649-21C93F61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78975B-48E5-4B00-B61B-8CE30512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BBE954-F50C-416F-9921-F458940F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45B4A5-EDD5-40F3-8CC0-91FD0EBD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D8D93D-4FA6-4311-9ADB-BBA0E1D5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72A17-54B0-4C12-B75A-2C047D71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A692-3EDA-4772-98AC-C4FD4A6C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206879-CE20-4EE0-8E8F-AC268A9F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F41E74-3585-47EA-A14F-5C09A770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24644E-F207-4CDF-8501-4F92C20C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730707-B50F-42DC-9CAC-88FA11D7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889023-590D-423C-A703-AD09404E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6BF583-384C-481D-88AF-E4A8E445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31AFA8-9003-4855-9F36-2EEBD5C8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DB27E5-5FBB-485D-B551-0A705B56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C4473E-F12A-4657-A16B-343AC910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3B8B89-CFD4-4451-83CD-74C97561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544-52E4-4747-AB53-515E82F1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B7DE-0C24-4DA0-A596-522C3C05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BCFB69-A510-4660-BDA9-A727FE5A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B64FDF-613F-4DE8-9C6C-C8EC45CA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2CCA4C-BDC7-45C3-B2F4-0A41848E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C3CAE8-86B8-4C1C-86FA-A23606FD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13357D-85A5-45AE-905C-78CE63FB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374A0B-0AF2-424D-A4A8-4500C7C5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BB2882-7DB7-4993-8624-F6FDEDFD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BECE74-93D8-43E5-837D-F10F781D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00F7FD-8CAD-4650-914B-7CD3E8C4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211537-FF86-4033-A14C-05819536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E889-8790-4C93-9E4E-FB343EA1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8264FB-05BA-4078-A9DF-AFE1AF34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22C12B-B8FF-41EA-8B41-780F133A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B9B7ED-6B53-4B5D-A7C4-1A305D71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171948-DE18-4764-ABB4-C4113898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E41F8B-9F85-4465-AAB4-354A2D25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A725F8-35D3-4EFD-9304-3EAEF4DF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D00269-7EBF-4340-A62E-1B5B6E21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14E469-247B-4912-B019-36473E3E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436C7D-387D-4992-A9C6-051071F0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891931-83CC-4478-A50D-2EB722B1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4A82-E78A-4666-866E-ED23A19B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5C4FAC-739D-43DF-A5D3-31A176DD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2FAB02-F60A-4F47-9BB5-01448EAB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6D48D1-D59F-47C1-A667-44E9CA4D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C01AA6-5FC6-4268-B2B6-3A5A2513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979ACF-1252-45EF-99F4-7BD3BCBF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255A92-8E2F-41B6-A1D9-DF190004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8EE0B2-43DE-4024-AECA-224723F3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BD5198-2E32-4965-BEC8-D0F5EBA3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EC2118-A2DC-4777-9E8D-1089FCDF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4D97-D6F9-42AA-9C3F-20E7ADF2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E595-0BBC-49BA-8725-D2A8F286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FEAAD-AF53-4EB1-97B9-45719781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616F5-872F-449F-972D-F164E4DD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81280-2A9B-4322-BE12-A19AFD69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24804-1F66-479F-8083-FBAEB6E9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2E4DB-3C9F-42F2-8503-82014E3D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272-778E-4AE0-886C-323BB358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E366A-2703-475F-91A5-CD7DDCF3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52852-6568-469A-BF72-92AE51FC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62946-2FB1-4449-A9A9-DBCF717F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70E79-7BF6-4F51-BF6A-F36191B4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B12E0-29A1-4C32-B228-14103B07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C098B-3FE7-4BA5-A9D3-BE317DE9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29946-EA2B-435A-AC05-0743638F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B8B67-71EC-4356-BCBF-4A9F1035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50ED3-E81F-43E9-BF5A-8B0D112B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40C0E-2B5B-49DA-8A2C-B6FEA9D5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8EE-CE15-44C1-B3D8-5451C6A1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E7E79-9FCE-4A53-8D40-4FBBF00B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CB3AB-F384-4981-BC0B-FCA8946A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B26DE-8B92-4690-ABF9-2826825E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E0BFB-17FE-4C42-9C82-81110F49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17F8D-A7D5-4FFE-B7DB-52AFD481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01D98-4E83-4921-B471-B42DA711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0B2A9-5AA6-490D-8063-A7BEA657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2B547-C8CC-4134-B451-06A28395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02868-ED8F-42F0-A4D6-1208D7C0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1397D-1657-4467-BA80-4D83940C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7AD-6370-4D5C-AFB2-35D59DA1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BB15F-1208-472A-9B63-C6C65A67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B4DFE-EC3D-4FE8-AE22-11615EE9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99CC1-9C61-410C-958C-EFA2821C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D198B-A598-49BC-8109-E62BAC44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72F4F-5B64-430E-82B3-82970CDD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CE98A-A55B-4404-BDF9-70DF7073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EDC78-5C5E-4094-8D7E-FCB23B96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9BD62-FAF7-4C57-858F-D017A6FB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E3A57-500F-47E2-9E18-639F6155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520E1-855F-4DF3-ADF0-AF2EB1B8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9AE-4C85-4FA7-8EB8-3E3D7356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514F5-CAAF-4266-A6C1-0091D1E5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73582-0C16-4FD8-9E35-8A3A4BCE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698F2-4F4E-4EFF-A570-7198073A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2CCE6-4F0F-487C-80FF-25EB5A7C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90955-B718-4586-A13B-330454B6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C9C0F-A367-485E-B57F-08C5691A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41B7E-C5ED-4C38-95ED-90269C25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02AFA-7C8C-44DB-AB4C-DE960874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1E2DD-9FA4-4429-B512-04C5F3AF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E2B58-65EF-41EE-8369-40781298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F36-C31A-4DAA-86D6-9BF9A854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181D6-E1A0-4282-9F5D-525B27CD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C0BB9-D621-4613-8987-DBAAC079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9A775-07E0-483F-B74F-53474039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078C20-55F9-45AE-920A-C95F7CE5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9E7015-24CC-49C0-832E-E9566F41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0DDC61-C935-4127-ABAD-D0927DBB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DC3317-8B7B-4559-B43D-DB869C1C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95141A-F35A-4A01-B8AC-8058BC5D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74907C-D1DB-4EE1-BD0A-D057AC0E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85D4C5-3B10-4B97-8C6E-41EA901C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697-0549-4A12-93F9-D170EF4C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AF041B-53AD-4244-B474-675A84DC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645DD2-3635-4E01-8ACB-6C87009D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342E04-77E9-4CE9-A6C2-008A904C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4BE8D6-4509-4EB4-8F18-F5BABD73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FAC260-B6E9-4DEA-9D1C-EF28640C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7B63C-56EF-4DC7-9708-349309BA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1A81F-159D-4393-9F3B-7E0E0446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6CE1D-047C-4E76-B15D-99958F41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EBB57-6C11-482E-88CC-6F375CBF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925E4-4E97-424A-A7A9-275E10CB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DC6-7BAC-4A7B-AE35-A3554C0F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74D66-EFB1-453C-837D-A2CE545E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1EC7E-DBE7-4FA7-B2B4-8F6BF205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BF419-55D9-44BE-842F-7E751D8A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1D7D3-DB0F-4D26-82BC-8D97AC72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AC7B8-E8EC-4D6B-86EB-46D59327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DCF7B-8379-47F3-975A-0CFE6622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C456B-94CB-42FB-B0B1-8D0E7981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0E755-AD55-4770-8DF3-16646476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7064A-5762-4A5F-B40B-31A8DF88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2B8D2-BE07-45D6-BA2B-87A0BB82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3FB2-7ED7-49C4-B135-CFAB794D1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C0D3-A3BE-4AB0-A233-4867CC99F4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4815-EBA7-405D-8A9F-65F4ECBCD9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2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2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2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4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4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5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7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7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8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8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3C5D-B58A-4A84-B30B-475670F04D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32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3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4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3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6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7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8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9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0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1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2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3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4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5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6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7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8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49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0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1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2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4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5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6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6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86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6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6B3F-421D-4AF9-AA36-8BA08408439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1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3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9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0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1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2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3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4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5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8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9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3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7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8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2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3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E571-DD7E-4F57-8FDF-EE1394A0CF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86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7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8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9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0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1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 type="dt" idx="4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 type="ftr" idx="4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FBB0-4147-45EE-961E-E8DDDB25F9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34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35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36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7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8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9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0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1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2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3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4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5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7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8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9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0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1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2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3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4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5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6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61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062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63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64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65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66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67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68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69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70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71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72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73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74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75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76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7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078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79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0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081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82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83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84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85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86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87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88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89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090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1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2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3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4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5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6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7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dt" idx="4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 type="ftr" idx="4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F599-5C52-4CB5-ACF9-19C282F29D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4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4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46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7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5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F393-9997-4572-AD9F-0748431761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9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1604-E563-4C96-AC76-ED823CE8FE1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24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4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4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4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50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1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2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5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5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5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6146-D066-41AF-8491-79FB92522D5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948D-7C98-4DDB-85E6-CFD22D826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48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52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3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65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7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1DD1-6D84-4A50-8D29-B650F4960ED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2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F787-98E8-4005-A454-1C633171A7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0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C26B-DDB8-4491-84CE-1C8AA60104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2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5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4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7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9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9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9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08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5271-CF40-4B62-A220-F25A2D0465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DB3C-561B-4A05-880B-161D9D7D23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6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6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66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8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7DD7-B6A7-41AD-AAE7-423CDBEA7D1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2412-F416-43C9-B3EE-0E5B77F8A8E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65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7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7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7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8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8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59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92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3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9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9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9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9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9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0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8;&#1072;&#1090;&#1072;&#1088;&#1080;&#1085;&#1086;&#1074;,_&#1040;&#1083;&#1077;&#1082;&#1089;&#1072;&#1085;&#1076;&#1088;_&#1042;&#1072;&#1089;&#1080;&#1083;&#1100;&#1077;&#1074;&#1080;&#1095;&amp;action=edit&amp;redlink=1" TargetMode="External"/><Relationship Id="rId2" Type="http://schemas.openxmlformats.org/officeDocument/2006/relationships/hyperlink" Target="http://ru.wikipedia.org/wiki/2009_&#1075;&#1086;&#1076;" TargetMode="External"/><Relationship Id="rId3" Type="http://schemas.openxmlformats.org/officeDocument/2006/relationships/hyperlink" Target="http://ru.wikipedia.org/wiki/&#1056;&#1080;&#1092;&#1090;" TargetMode="External"/><Relationship Id="rId4" Type="http://schemas.openxmlformats.org/officeDocument/2006/relationships/hyperlink" Target="http://ru.wikipedia.org/wiki/&#1052;&#1105;&#1088;&#1090;&#1074;&#1086;&#1077;_&#1084;&#1086;&#1088;&#1077;" TargetMode="External"/><Relationship Id="rId5" Type="http://schemas.openxmlformats.org/officeDocument/2006/relationships/hyperlink" Target="http://ru.wikipedia.org/wiki/&#1056;&#1072;&#1079;&#1083;&#1086;&#1084;" TargetMode="External"/><Relationship Id="rId6" Type="http://schemas.openxmlformats.org/officeDocument/2006/relationships/hyperlink" Target="http://ru.wikipedia.org/wiki/&#1055;&#1083;&#1102;&#1084;" TargetMode="External"/><Relationship Id="rId7" Type="http://schemas.openxmlformats.org/officeDocument/2006/relationships/hyperlink" Target="http://ru.wikipedia.org/wiki/&#1045;&#1074;&#1088;&#1072;&#1079;&#1080;&#1081;&#1089;&#1082;&#1072;&#1103;_&#1087;&#1083;&#1080;&#1090;&#1072;" TargetMode="External"/><Relationship Id="rId8" Type="http://schemas.openxmlformats.org/officeDocument/2006/relationships/hyperlink" Target="http://ru.wikipedia.org/wiki/&#1048;&#1085;&#1076;&#1086;&#1089;&#1090;&#1072;&#1085;" TargetMode="External"/><Relationship Id="rId9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alfoto.narod.ru/Flora6.html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aikalfoto.narod.ru/Flora6.html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baikalfoto.narod.ru/Flora12.html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baikalfoto.narod.ru/Flora18.html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baikalfoto.narod.ru/Flora31.html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ikalfoto.narod.ru/Fa3.htm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baikalfoto.narod.ru/Fa26.html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baikalfoto.narod.ru/Fa39.html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baikalfoto.narod.ru/Fa9.html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5;&#1085;&#1080;&#1089;&#1077;&#1081;" TargetMode="External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SC01739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64;&#1072;&#1084;&#1072;&#1085;-&#1089;&#1082;&#1072;&#1083;&#1072;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42960" y="2286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зеро Байка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6" name="Organization Chart 6"/>
          <p:cNvGrpSpPr/>
          <p:nvPr/>
        </p:nvGrpSpPr>
        <p:grpSpPr>
          <a:xfrm>
            <a:off x="431640" y="404640"/>
            <a:ext cx="8460720" cy="6192000"/>
            <a:chOff x="431640" y="404640"/>
            <a:chExt cx="8460720" cy="6192000"/>
          </a:xfrm>
        </p:grpSpPr>
        <p:cxnSp>
          <p:nvCxnSpPr>
            <p:cNvPr id="1337" name="_s2052"/>
            <p:cNvCxnSpPr>
              <a:stCxn id="1338" idx="0"/>
              <a:endCxn id="1339" idx="1"/>
            </p:cNvCxnSpPr>
            <p:nvPr/>
          </p:nvCxnSpPr>
          <p:spPr>
            <a:xfrm flipV="1" rot="16200000">
              <a:off x="7237440" y="4659480"/>
              <a:ext cx="774720" cy="3960"/>
            </a:xfrm>
            <a:prstGeom prst="bentConnector3">
              <a:avLst>
                <a:gd name="adj1" fmla="val 16085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40" name="_s2053"/>
            <p:cNvCxnSpPr>
              <a:stCxn id="1339" idx="0"/>
              <a:endCxn id="1341" idx="2"/>
            </p:cNvCxnSpPr>
            <p:nvPr/>
          </p:nvCxnSpPr>
          <p:spPr>
            <a:xfrm flipV="1" rot="16200000">
              <a:off x="5756760" y="860040"/>
              <a:ext cx="774720" cy="2958480"/>
            </a:xfrm>
            <a:prstGeom prst="bentConnector3">
              <a:avLst>
                <a:gd name="adj1" fmla="val 16132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42" name="_s2054"/>
            <p:cNvCxnSpPr>
              <a:stCxn id="1343" idx="0"/>
              <a:endCxn id="1341" idx="1"/>
            </p:cNvCxnSpPr>
            <p:nvPr/>
          </p:nvCxnSpPr>
          <p:spPr>
            <a:xfrm flipV="1">
              <a:off x="4664880" y="1952280"/>
              <a:ext cx="3240" cy="7747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44" name="_s2055"/>
            <p:cNvCxnSpPr>
              <a:stCxn id="1345" idx="0"/>
              <a:endCxn id="1341" idx="0"/>
            </p:cNvCxnSpPr>
            <p:nvPr/>
          </p:nvCxnSpPr>
          <p:spPr>
            <a:xfrm flipH="1" flipV="1" rot="5400000">
              <a:off x="2795400" y="856800"/>
              <a:ext cx="774720" cy="2965320"/>
            </a:xfrm>
            <a:prstGeom prst="bentConnector3">
              <a:avLst>
                <a:gd name="adj1" fmla="val 16132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341" name="_s2056"/>
            <p:cNvSpPr/>
            <p:nvPr/>
          </p:nvSpPr>
          <p:spPr>
            <a:xfrm>
              <a:off x="3393000" y="404640"/>
              <a:ext cx="2538000" cy="1548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99ff"/>
                </a:gs>
                <a:gs pos="50000">
                  <a:srgbClr val="000000"/>
                </a:gs>
                <a:gs pos="100000">
                  <a:srgbClr val="3399ff"/>
                </a:gs>
              </a:gsLst>
              <a:lin ang="8100000"/>
            </a:gradFill>
            <a:ln w="3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БАЙКАЛЬСКИЕ ВЕТРЫ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5" name="_s2057"/>
            <p:cNvSpPr/>
            <p:nvPr/>
          </p:nvSpPr>
          <p:spPr>
            <a:xfrm>
              <a:off x="431640" y="2726640"/>
              <a:ext cx="2538000" cy="1548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Баргузин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3" name="_s2058"/>
            <p:cNvSpPr/>
            <p:nvPr/>
          </p:nvSpPr>
          <p:spPr>
            <a:xfrm>
              <a:off x="3393000" y="2726640"/>
              <a:ext cx="2538000" cy="1548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ahoma"/>
                </a:rPr>
                <a:t>Сарм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9" name="_s2059"/>
            <p:cNvSpPr/>
            <p:nvPr/>
          </p:nvSpPr>
          <p:spPr>
            <a:xfrm>
              <a:off x="6354360" y="2726640"/>
              <a:ext cx="2538000" cy="1548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ahoma"/>
                </a:rPr>
                <a:t>Верховик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8" name="_s2060"/>
            <p:cNvSpPr/>
            <p:nvPr/>
          </p:nvSpPr>
          <p:spPr>
            <a:xfrm>
              <a:off x="6357600" y="5048640"/>
              <a:ext cx="2534760" cy="1548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000000"/>
                </a:gs>
                <a:gs pos="100000">
                  <a:srgbClr val="ffffcc"/>
                </a:gs>
              </a:gsLst>
              <a:lin ang="8100000"/>
            </a:gra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Култук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исхождение озе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схождение Байкала до сих пор вызывает научные споры. Возраст озера учёные традиционно определяют в 25−35 млн. лет. Этот факт также делает Байкал уникальным природным объектом, так как большинство озёр, особенно ледникового происхождения, живут в среднем 10−15 тыс. лет, а потом заполняются илистыми осадками и заболачивают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 существует также версия о молодости Байкала, выдвинутая доктором геолого-минералогических наук 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Arial"/>
                <a:hlinkClick r:id="rId1"/>
              </a:rPr>
              <a:t>Александром Татаринов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Arial"/>
                <a:hlinkClick r:id="rId2"/>
              </a:rPr>
              <a:t>2009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ая получила косвенные подтверждения во время второго этапа экспедиции «Миров» на Байкале. В частности, деятельность грязевых вулканов на дне Байкала позволяет учёным предполагать, что современной береговой линии озера всего лишь 8 тысяч лет, а глубоководной части — 150 тысяч ле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мненно лишь то, что озеро расположено в 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Arial"/>
                <a:hlinkClick r:id="rId3"/>
              </a:rPr>
              <a:t>рифто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падине и по строению схоже, например, с бассейном 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Arial"/>
                <a:hlinkClick r:id="rId4"/>
              </a:rPr>
              <a:t>Мёртвого мо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дни исследователи объясняют образование Байкала его расположением в зоне 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Arial"/>
                <a:hlinkClick r:id="rId5"/>
              </a:rPr>
              <a:t>трансформного разло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ругие предполагают наличие под Байкалом мантийного 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Arial"/>
                <a:hlinkClick r:id="rId6"/>
              </a:rPr>
              <a:t>плю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ретьи объясняют образование впадины пассивным рифтингом в результате коллизии 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Arial"/>
                <a:hlinkClick r:id="rId7"/>
              </a:rPr>
              <a:t>Евраз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Arial"/>
                <a:hlinkClick r:id="rId8"/>
              </a:rPr>
              <a:t>Индоста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Как бы то ни было, преобразование Байкала продолжается до сих пор — в окрестностях озера постоянно происходят землетрясения. Есть предположения о том, что проседание впадины связано с образованием вакуумных очагов вследствие излияния базальтов на поверхнос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Байкал из космос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9" name="Picture 8" descr="180px-Baikal"/>
          <p:cNvPicPr/>
          <p:nvPr/>
        </p:nvPicPr>
        <p:blipFill>
          <a:blip r:embed="rId1"/>
          <a:stretch/>
        </p:blipFill>
        <p:spPr>
          <a:xfrm>
            <a:off x="1187280" y="1557360"/>
            <a:ext cx="6913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Туризм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4642920" y="4149360"/>
            <a:ext cx="419436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4" name="Picture 8" descr="180px-Kbzd_01"/>
          <p:cNvPicPr/>
          <p:nvPr/>
        </p:nvPicPr>
        <p:blipFill>
          <a:blip r:embed="rId2"/>
          <a:stretch/>
        </p:blipFill>
        <p:spPr>
          <a:xfrm>
            <a:off x="179280" y="1484280"/>
            <a:ext cx="4321440" cy="5113440"/>
          </a:xfrm>
          <a:prstGeom prst="rect">
            <a:avLst/>
          </a:prstGeom>
          <a:ln w="0">
            <a:noFill/>
          </a:ln>
        </p:spPr>
      </p:pic>
      <p:pic>
        <p:nvPicPr>
          <p:cNvPr id="1355" name="Picture 10" descr="180px-DSC01735"/>
          <p:cNvPicPr/>
          <p:nvPr/>
        </p:nvPicPr>
        <p:blipFill>
          <a:blip r:embed="rId3"/>
          <a:stretch/>
        </p:blipFill>
        <p:spPr>
          <a:xfrm>
            <a:off x="4643280" y="1484280"/>
            <a:ext cx="4176720" cy="2521080"/>
          </a:xfrm>
          <a:prstGeom prst="rect">
            <a:avLst/>
          </a:prstGeom>
          <a:ln w="0">
            <a:noFill/>
          </a:ln>
        </p:spPr>
      </p:pic>
      <p:pic>
        <p:nvPicPr>
          <p:cNvPr id="1356" name="Picture 12" descr="180px-%D0%91%D1%83%D1%80%D1%8F%D1%82%D1%81%D0%BA%D0%B8%D0%B5_%D1%8E%D1%80%D1%82%D1%8B"/>
          <p:cNvPicPr/>
          <p:nvPr/>
        </p:nvPicPr>
        <p:blipFill>
          <a:blip r:embed="rId4"/>
          <a:stretch/>
        </p:blipFill>
        <p:spPr>
          <a:xfrm>
            <a:off x="4643280" y="4149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500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500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500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Достопримечательности озера Байка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1358" name="Diagram 6"/>
          <p:cNvGrpSpPr/>
          <p:nvPr/>
        </p:nvGrpSpPr>
        <p:grpSpPr>
          <a:xfrm>
            <a:off x="2535120" y="1755720"/>
            <a:ext cx="4006800" cy="4170240"/>
            <a:chOff x="2535120" y="1755720"/>
            <a:chExt cx="4006800" cy="4170240"/>
          </a:xfrm>
        </p:grpSpPr>
        <p:sp>
          <p:nvSpPr>
            <p:cNvPr id="1359" name="_s3076"/>
            <p:cNvSpPr/>
            <p:nvPr/>
          </p:nvSpPr>
          <p:spPr>
            <a:xfrm flipH="1" flipV="1">
              <a:off x="3803760" y="2828880"/>
              <a:ext cx="488880" cy="67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0" name="_s3077"/>
            <p:cNvSpPr/>
            <p:nvPr/>
          </p:nvSpPr>
          <p:spPr>
            <a:xfrm>
              <a:off x="3139920" y="2075040"/>
              <a:ext cx="836640" cy="836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Кругобайкальска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железна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дорог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1" name="_s3078"/>
            <p:cNvSpPr/>
            <p:nvPr/>
          </p:nvSpPr>
          <p:spPr>
            <a:xfrm flipH="1" flipV="1">
              <a:off x="3349800" y="3454560"/>
              <a:ext cx="792000" cy="257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2" name="_s3079"/>
            <p:cNvSpPr/>
            <p:nvPr/>
          </p:nvSpPr>
          <p:spPr>
            <a:xfrm>
              <a:off x="2535120" y="2908440"/>
              <a:ext cx="836640" cy="836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Мыс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Лударь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3" name="_s3080"/>
            <p:cNvSpPr/>
            <p:nvPr/>
          </p:nvSpPr>
          <p:spPr>
            <a:xfrm flipH="1">
              <a:off x="3349800" y="3968640"/>
              <a:ext cx="792000" cy="257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4" name="_s3081"/>
            <p:cNvSpPr/>
            <p:nvPr/>
          </p:nvSpPr>
          <p:spPr>
            <a:xfrm>
              <a:off x="2535120" y="3938760"/>
              <a:ext cx="836640" cy="836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Мыс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Рыты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5" name="_s3082"/>
            <p:cNvSpPr/>
            <p:nvPr/>
          </p:nvSpPr>
          <p:spPr>
            <a:xfrm flipH="1">
              <a:off x="3803760" y="4176720"/>
              <a:ext cx="488880" cy="673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6" name="_s3083"/>
            <p:cNvSpPr/>
            <p:nvPr/>
          </p:nvSpPr>
          <p:spPr>
            <a:xfrm>
              <a:off x="3141720" y="4772160"/>
              <a:ext cx="836640" cy="836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Бухта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Песчана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7" name="_s3084"/>
            <p:cNvSpPr/>
            <p:nvPr/>
          </p:nvSpPr>
          <p:spPr>
            <a:xfrm>
              <a:off x="4537080" y="4255920"/>
              <a:ext cx="0" cy="833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8" name="_s3085"/>
            <p:cNvSpPr/>
            <p:nvPr/>
          </p:nvSpPr>
          <p:spPr>
            <a:xfrm>
              <a:off x="4121280" y="5089680"/>
              <a:ext cx="836640" cy="836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Северны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Байкал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9" name="_s3086"/>
            <p:cNvSpPr/>
            <p:nvPr/>
          </p:nvSpPr>
          <p:spPr>
            <a:xfrm>
              <a:off x="4781520" y="4176720"/>
              <a:ext cx="490680" cy="67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0" name="_s3087"/>
            <p:cNvSpPr/>
            <p:nvPr/>
          </p:nvSpPr>
          <p:spPr>
            <a:xfrm>
              <a:off x="5100480" y="4770360"/>
              <a:ext cx="836640" cy="836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Мыс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Бурхан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1" name="_s3088"/>
            <p:cNvSpPr/>
            <p:nvPr/>
          </p:nvSpPr>
          <p:spPr>
            <a:xfrm>
              <a:off x="4932360" y="3968640"/>
              <a:ext cx="793800" cy="257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2" name="_s3089"/>
            <p:cNvSpPr/>
            <p:nvPr/>
          </p:nvSpPr>
          <p:spPr>
            <a:xfrm>
              <a:off x="5705640" y="3936960"/>
              <a:ext cx="836280" cy="836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Пик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Черского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3" name="_s3090"/>
            <p:cNvSpPr/>
            <p:nvPr/>
          </p:nvSpPr>
          <p:spPr>
            <a:xfrm flipV="1">
              <a:off x="4932360" y="3452400"/>
              <a:ext cx="793800" cy="258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4" name="_s3091"/>
            <p:cNvSpPr/>
            <p:nvPr/>
          </p:nvSpPr>
          <p:spPr>
            <a:xfrm>
              <a:off x="5705640" y="2906640"/>
              <a:ext cx="836280" cy="836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Ушканьи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остров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5" name="_s3092"/>
            <p:cNvSpPr/>
            <p:nvPr/>
          </p:nvSpPr>
          <p:spPr>
            <a:xfrm flipV="1">
              <a:off x="4781520" y="2828880"/>
              <a:ext cx="490680" cy="67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6" name="_s3093"/>
            <p:cNvSpPr/>
            <p:nvPr/>
          </p:nvSpPr>
          <p:spPr>
            <a:xfrm>
              <a:off x="5099040" y="2073240"/>
              <a:ext cx="836640" cy="836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Чивыркуйск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зали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7" name="_s3094"/>
            <p:cNvSpPr/>
            <p:nvPr/>
          </p:nvSpPr>
          <p:spPr>
            <a:xfrm flipV="1">
              <a:off x="4537080" y="2590560"/>
              <a:ext cx="0" cy="83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8" name="_s3095"/>
            <p:cNvSpPr/>
            <p:nvPr/>
          </p:nvSpPr>
          <p:spPr>
            <a:xfrm>
              <a:off x="4119480" y="1755720"/>
              <a:ext cx="836640" cy="836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Шаман-камень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скал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9" name="_s3096"/>
            <p:cNvSpPr/>
            <p:nvPr/>
          </p:nvSpPr>
          <p:spPr>
            <a:xfrm>
              <a:off x="4119480" y="3424320"/>
              <a:ext cx="836640" cy="836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Достопримечательност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ключени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красиво и разнообразно озеро Байкал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зеро Байка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айкал – озеро тектоническ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исхождения в южной части Восточной Сибири, глубочайшее озеро планеты Земля, крупнейший природный резервуар пресной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500"/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500"/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Picture 6" descr="Круговая панорама Кругобайкалки (148 км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76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лора Байка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838080" y="1905120"/>
            <a:ext cx="392904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4916520" y="1905120"/>
            <a:ext cx="392904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468360" y="422100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4642920" y="4221000"/>
            <a:ext cx="4038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1" name="Picture 9" descr="Автор снимка Сластина Еле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557360"/>
            <a:ext cx="4032360" cy="2519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1" descr="Автор снимка Сластина Елен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4221000"/>
            <a:ext cx="4032360" cy="237672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3" descr="Автор снимка Сластина Елен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3280" y="1557360"/>
            <a:ext cx="4032360" cy="251928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15" descr="Автор снимка Сластина Елена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3280" y="4221000"/>
            <a:ext cx="4032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Фауна Байкал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457200" y="1599840"/>
            <a:ext cx="403848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4648320" y="1599840"/>
            <a:ext cx="403848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468360" y="422100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4642920" y="4221000"/>
            <a:ext cx="4038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0" name="Picture 9" descr="Автор снимка Сластина Еле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84280"/>
            <a:ext cx="4032360" cy="252108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13" descr="Автор снимка Сластина Елен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4149720"/>
            <a:ext cx="4032360" cy="2448000"/>
          </a:xfrm>
          <a:prstGeom prst="rect">
            <a:avLst/>
          </a:prstGeom>
          <a:ln w="0">
            <a:noFill/>
          </a:ln>
        </p:spPr>
      </p:pic>
      <p:pic>
        <p:nvPicPr>
          <p:cNvPr id="1322" name="Picture 15" descr="Автор снимка Сластина Елен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4195800"/>
            <a:ext cx="4032360" cy="2401920"/>
          </a:xfrm>
          <a:prstGeom prst="rect">
            <a:avLst/>
          </a:prstGeom>
          <a:ln w="0">
            <a:noFill/>
          </a:ln>
        </p:spPr>
      </p:pic>
      <p:pic>
        <p:nvPicPr>
          <p:cNvPr id="1323" name="Picture 17" descr="Автор снимка Сластина Елена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3280" y="1484280"/>
            <a:ext cx="4032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Легенды о Байкал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Говорят, что у батюшки Байкала было 335 рек-сыновей и одна дочь-Ангара, все они втекали в отца, дабы пополнять его воды, но вот его дочь полюбила реку </a:t>
            </a:r>
            <a:r>
              <a:rPr b="0" lang="en-US" sz="24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Енисей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 и стала выносить воды отца своему любимому, в ответ на это Отец Байкал кинул в свою дочь огромный кусок скалы и проклял её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Есть легенда, что прямо в середине озера существует островок, который в точности повторяет образ озера. На спутниковых снимках никакого острова не обнаружено. Но местные жители настаивают на том, что по определённым дням этот остров появляется из туман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7" name="Object 5"/>
          <p:cNvGraphicFramePr/>
          <p:nvPr/>
        </p:nvGraphicFramePr>
        <p:xfrm>
          <a:off x="179280" y="549360"/>
          <a:ext cx="8785440" cy="59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49360"/>
                    <a:ext cx="878544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войства воды озера Байка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ей очень мало растворенных и взвешенных минеральны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чтожно мало органических примес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 кисло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да Байкала очень прозрач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2" name="Picture 6" descr="300px-DSC017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трова Байка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Байкале находится 27 островов. Самый крупный из них – Ольхон (730 км² ). Крупнейший полуостров – Святой Но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Шаман-ск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5" name="Picture 5" descr="300px-%D0%A8%D0%B0%D0%BC%D0%B0%D0%BD-%D1%81%D0%BA%D0%B0%D0%BB%D0%B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3716280"/>
            <a:ext cx="5040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03:06:17Z</dcterms:created>
  <dc:creator>НАСТЮША</dc:creator>
  <dc:description/>
  <dc:language>en-US</dc:language>
  <cp:lastModifiedBy>Lena</cp:lastModifiedBy>
  <dcterms:modified xsi:type="dcterms:W3CDTF">2011-01-09T09:08:27Z</dcterms:modified>
  <cp:revision>6</cp:revision>
  <dc:subject/>
  <dc:title>Озеро Байкал.</dc:title>
</cp:coreProperties>
</file>