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6BB3-85F7-4784-B763-DF3A78AB5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FA0F-87F4-46C3-9CFC-18C7FD0663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1A48-BDB3-4903-8C6E-FF2D9A1A3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03AA-D00F-4F32-B8CF-FCF88C1AC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2EEE-10AF-4B6A-B362-D9187695E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7CDF-BA79-4C94-8194-0410147E7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4192-BCA1-4CED-95A3-B96F27C7A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794C-34DD-4C56-8506-D74790554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72C4-8602-47A3-8575-88F4E05F06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905C-8B9C-4219-97B7-6C4FD793A2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A9BB-55FD-44B1-9A7C-0DBB554A9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1D07-4E11-4C45-9A39-464F17D12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6832-BD0E-4288-AD1E-4AC9FC395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3E0-B8E2-4F5A-85E7-C4A11998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9A4-B6A9-4AA2-B822-D539AC68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C93-276B-4793-8BF6-7AFF906D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575-229A-42E9-9B38-8B1094BA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02CC-89D8-4C2C-B726-E6974FCF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5713-D635-4C1C-85B0-1C65CE20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D79D-B728-4467-9B40-EDA7D7EE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83D8-8357-452A-A7A6-AAD10921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7808-7D73-4793-8294-86D427D4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3F7A-9EA1-4845-A281-5CF2C1FF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B3B6-09AD-4E5C-B943-AEB0609F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DA1-F6A8-454D-8E2B-3ADE56CC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E5D1-F08E-4B12-A1F2-0A0DCCF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06E1-CBD2-4BDF-8608-5EF6329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76CB-88BB-435C-88EE-1D64C0A2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2C70-0908-453A-A66E-080BB129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D5DB-FAAE-4E26-8777-3B61CFC3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B2A7F-0E0E-4ED4-9477-43669A87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CD0F-2F32-4102-89AE-743FA4F8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B26A-26A4-41C1-9794-ABA9804F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6AA35-82AF-4119-A370-99BC2E1C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27D7-2F9E-4A7F-B39D-4D02221C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636-0C1F-4E17-A8A3-FCCB1BC8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73DB2-70D5-4FFE-AC6D-C8491DAB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8986C-B4AD-45B8-A0CE-BD9B459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D5F0-B9B3-4340-A570-870FACD8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075F-F836-4257-980C-15F5B1D5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A5A5C-6A72-4A66-AEC5-3D054431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EB3CB-0274-4101-9492-8D370F9F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E6F5-7F8D-4F0A-9A2D-B0A96DCE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418B5-6533-4655-9518-BE765302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2F270-B6E2-4990-92C2-1BCC1323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CB5FF-28D8-41BA-AE47-C15B5C12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1DF-1236-4646-87A7-F9150AF3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E8B39-EA7D-41A6-8FEC-38F8FFE3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DFFA-A527-41C2-B58D-7993DE08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47DE-FDC9-4C37-A133-EB8A8695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4F598-89E9-446E-A54A-03DA304E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ECAD-E067-474F-A469-9B6840E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5A0FF-99E6-4D2E-8884-487404FB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6C26A-5742-4599-9302-3C642AD1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2B0C-50B7-464A-AFFE-6D11C220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767C-2D1E-47BF-A67A-EA8CF847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5921F-F700-4298-B90B-A34134C9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573-61E2-4AC0-8616-A910B7CF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84C49-AD3C-45D0-86F8-97C4C1A9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0F15F-BB40-4E96-B2F1-3CEB1DAA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512E6-8573-412D-81E6-6616AF95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500A8-A323-48C3-B708-DC0646A2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B2841-FAE8-46CD-9477-5F85E536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699B-A1EF-4C94-9239-09B390E2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6B362-CF6D-4D27-9EE6-A2136B7C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FFD95-EB21-4ED8-9027-232B4792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89850-50DB-442B-BB35-B201E88F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3C392-6AA3-4AFE-ABCA-70DF0FD4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43C-27C5-483A-90E3-3DE0F21C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D2DD-9559-4764-93FF-4C80E13D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EF59D-B8EB-442E-B150-06CDE076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B7719-9ED4-40DF-8FCB-D604C32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7590F-CAD0-4279-86FC-23DBDE8D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3EF57-9AEA-40C1-B1F7-0FC1BA19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3B358-4196-4093-98A0-50C398CD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92B49-29AA-4B7C-A50A-0C1ED2C1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08B2F-1784-4710-B33A-5AEF2307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3644B-642A-43B6-A2D2-B03C04F2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C63A6-100A-4CC6-AA63-FD562F16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913-47A9-47DB-BE27-57A96F1A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FF9B4-FE52-4FC2-9B57-D21A591C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D4F9-6B88-4DE5-9095-FF69FD64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1927E-BA96-4D2D-8E63-EF40A7C2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70C-8FF5-4AAC-A4B6-0B892EBD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797-BEFA-4F59-99AF-BE76001B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76A0-C71C-47FB-851C-8B900004A9BC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8EEF-EE1F-47FA-A0BC-E1F9135D5DE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3F5B-6B7D-43E8-8DB8-59B1A4B2FE8D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839C-6017-4BED-AF63-95A85BD19FF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8F47-6CB5-47D9-A14A-7528CE44798E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FBE6-5A45-412E-9910-3928065F0CF1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1B95-243C-4EB8-87D1-E5196EA5E882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84D6-8527-410E-AC33-1B6C2CCD24C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61C3-2FC0-4D9F-B9C6-D667DCD0268E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AF01-F4C9-43CA-BC3A-F428FF54F00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B260-8289-40AF-A161-18CB2043DFD0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AC22-D8A1-419B-BFCB-E2B9D6FCC49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076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" descr=""/>
            <p:cNvPicPr/>
            <p:nvPr/>
          </p:nvPicPr>
          <p:blipFill>
            <a:blip r:embed="rId2"/>
            <a:stretch/>
          </p:blipFill>
          <p:spPr>
            <a:xfrm>
              <a:off x="1907640" y="0"/>
              <a:ext cx="72363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" descr=""/>
            <p:cNvPicPr/>
            <p:nvPr/>
          </p:nvPicPr>
          <p:blipFill>
            <a:blip r:embed="rId3"/>
            <a:stretch/>
          </p:blipFill>
          <p:spPr>
            <a:xfrm>
              <a:off x="3780000" y="41040"/>
              <a:ext cx="1428480" cy="137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9" name="Прямоугольник 10" descr=""/>
          <p:cNvPicPr/>
          <p:nvPr/>
        </p:nvPicPr>
        <p:blipFill>
          <a:blip r:embed="rId4"/>
          <a:stretch/>
        </p:blipFill>
        <p:spPr>
          <a:xfrm>
            <a:off x="682560" y="2054160"/>
            <a:ext cx="7871040" cy="23893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"/>
          <p:cNvSpPr/>
          <p:nvPr/>
        </p:nvSpPr>
        <p:spPr>
          <a:xfrm>
            <a:off x="4959360" y="5589720"/>
            <a:ext cx="406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Ковалев М.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менеджмент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ация: управление инвестициями и экономика строи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5"/>
          <p:cNvSpPr/>
          <p:nvPr/>
        </p:nvSpPr>
        <p:spPr>
          <a:xfrm>
            <a:off x="152280" y="5589720"/>
            <a:ext cx="454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дипломного проектирования: Бобыле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э.н., доц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7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0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81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казатели эффектив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3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6BA8-CB0B-4B74-A69F-1C003E93233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Прямоугольник 5" descr=""/>
          <p:cNvPicPr/>
          <p:nvPr/>
        </p:nvPicPr>
        <p:blipFill>
          <a:blip r:embed="rId5"/>
          <a:stretch/>
        </p:blipFill>
        <p:spPr>
          <a:xfrm>
            <a:off x="1152360" y="2730600"/>
            <a:ext cx="7345440" cy="101916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7" descr=""/>
          <p:cNvPicPr/>
          <p:nvPr/>
        </p:nvPicPr>
        <p:blipFill>
          <a:blip r:embed="rId6"/>
          <a:stretch/>
        </p:blipFill>
        <p:spPr>
          <a:xfrm>
            <a:off x="950760" y="1542960"/>
            <a:ext cx="7851960" cy="792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15" descr=""/>
          <p:cNvPicPr/>
          <p:nvPr/>
        </p:nvPicPr>
        <p:blipFill>
          <a:blip r:embed="rId7"/>
          <a:stretch/>
        </p:blipFill>
        <p:spPr>
          <a:xfrm>
            <a:off x="957240" y="2097000"/>
            <a:ext cx="7845480" cy="7923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16" descr=""/>
          <p:cNvPicPr/>
          <p:nvPr/>
        </p:nvPicPr>
        <p:blipFill>
          <a:blip r:embed="rId8"/>
          <a:stretch/>
        </p:blipFill>
        <p:spPr>
          <a:xfrm>
            <a:off x="3054240" y="3597120"/>
            <a:ext cx="3017880" cy="101772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17" descr=""/>
          <p:cNvPicPr/>
          <p:nvPr/>
        </p:nvPicPr>
        <p:blipFill>
          <a:blip r:embed="rId9"/>
          <a:stretch/>
        </p:blipFill>
        <p:spPr>
          <a:xfrm>
            <a:off x="3352680" y="4395960"/>
            <a:ext cx="2835360" cy="10173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18" descr=""/>
          <p:cNvPicPr/>
          <p:nvPr/>
        </p:nvPicPr>
        <p:blipFill>
          <a:blip r:embed="rId10"/>
          <a:stretch/>
        </p:blipFill>
        <p:spPr>
          <a:xfrm>
            <a:off x="2938320" y="5078520"/>
            <a:ext cx="321336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92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95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Риски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7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8AB1-7AE9-45A1-8356-847CA5CB92B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08000" y="1628640"/>
          <a:ext cx="8928000" cy="5113440"/>
        </p:xfrm>
        <a:graphic>
          <a:graphicData uri="http://schemas.openxmlformats.org/drawingml/2006/table">
            <a:tbl>
              <a:tblPr/>
              <a:tblGrid>
                <a:gridCol w="1944720"/>
                <a:gridCol w="574560"/>
                <a:gridCol w="6408720"/>
              </a:tblGrid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а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наче-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ммент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мер компан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3%. Рассматриваемое предприятие довольно крупное, объемы производства в масштабах стра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нансовая струк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 5 %. Данный показатель зависит от коэффициента концентрации собственного капитала и от показателя текущей ликвид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изводственная и территориальная диверсифик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3%. Производственная диверсификация практически отсутствует (единственное направление деятельности – авиационный ремонт, образовательная деятельность влияет незначительно). Территориальная диверсификация средняя (предприятие ремонтирует авиационную технику для России и ближнего зарубежь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версификация клиен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4%. Чем меньше зависимость доходов компании от одного или нескольких крупнейших клиентов, тем при прочих равных условиях она стабильнее. Потребителями авиационного ремонта  являются практически все авиакомпании аэропорта Внуково и некоторые – других аэропортов, т. е. клиенты немногочисленны и весом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7304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нтабельность предприятия и прогнозируемость его до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4%. Рентабельность и стабильность доходов в данном бизнесе высокие, но зависят от политики госуда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чество управл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чество управления отражается на всех сферах существования компании, т. е. текущее состояние компании и перспективы ее развития во многом предопределены качеством управления. Данный фактор риска определяем как среднюю величину факторов, кроме факторов, зависящих от величины компании и прогнозируемости доход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чие собственные рис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 5 %.  Учитывает вероятность влияния на получение прогнозируемых доходов других специфических рисков, присущих оцениваемой компании. Принимая во внимание специфику ведения бизнеса в России, необходимо предусмотреть в ставке дисконта величину данного фактора на уровне середины диапазо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828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40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076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3" descr=""/>
            <p:cNvPicPr/>
            <p:nvPr/>
          </p:nvPicPr>
          <p:blipFill>
            <a:blip r:embed="rId2"/>
            <a:stretch/>
          </p:blipFill>
          <p:spPr>
            <a:xfrm>
              <a:off x="1907640" y="0"/>
              <a:ext cx="72363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4" descr=""/>
            <p:cNvPicPr/>
            <p:nvPr/>
          </p:nvPicPr>
          <p:blipFill>
            <a:blip r:embed="rId3"/>
            <a:stretch/>
          </p:blipFill>
          <p:spPr>
            <a:xfrm>
              <a:off x="3780000" y="41040"/>
              <a:ext cx="142848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E417-654F-4ADD-9F2D-19DB1A9015D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Прямоугольник 2" descr=""/>
          <p:cNvPicPr/>
          <p:nvPr/>
        </p:nvPicPr>
        <p:blipFill>
          <a:blip r:embed="rId4"/>
          <a:stretch/>
        </p:blipFill>
        <p:spPr>
          <a:xfrm>
            <a:off x="1695600" y="2395440"/>
            <a:ext cx="559584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84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TextBox 7"/>
            <p:cNvGrpSpPr/>
            <p:nvPr/>
          </p:nvGrpSpPr>
          <p:grpSpPr>
            <a:xfrm>
              <a:off x="5338440" y="420480"/>
              <a:ext cx="3805560" cy="871920"/>
              <a:chOff x="5338440" y="420480"/>
              <a:chExt cx="3805560" cy="871920"/>
            </a:xfrm>
          </p:grpSpPr>
          <p:pic>
            <p:nvPicPr>
              <p:cNvPr id="287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5438520" y="47628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Характеристики дипломного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9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Прямоугольник 2"/>
          <p:cNvSpPr/>
          <p:nvPr/>
        </p:nvSpPr>
        <p:spPr>
          <a:xfrm>
            <a:off x="250920" y="1916280"/>
            <a:ext cx="866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проработан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ышение квалификации сотрудников силами предприятия – относительно новое направление деятельности хозяйствующих субъектов. В последние годы появилось много работ по этой теме, но единого подхода пока не проработано. Требуется дополнительный анализ и систематизация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336600" y="3359160"/>
            <a:ext cx="85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«Внуковский авиаремонтный завод №40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6"/>
          <p:cNvSpPr/>
          <p:nvPr/>
        </p:nvSpPr>
        <p:spPr>
          <a:xfrm>
            <a:off x="307800" y="3933720"/>
            <a:ext cx="85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деятельности предприятия за счет реконструкции нерентабельных и бесперспективных произво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8"/>
          <p:cNvSpPr/>
          <p:nvPr/>
        </p:nvSpPr>
        <p:spPr>
          <a:xfrm>
            <a:off x="336600" y="494172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ипломного проектир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циональной системы управления инвестиционным проектом с учетом перспектив развития управляемых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 расчет инвестиционной эффективности от предлагаемых мероприя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9FF0-962C-43AC-921C-16244D48329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9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299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казатели эффектив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1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8D2F-E5B0-475E-911F-130E11E7347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Объект 4"/>
              <p:cNvSpPr txBox="1"/>
              <p:nvPr/>
            </p:nvSpPr>
            <p:spPr>
              <a:xfrm>
                <a:off x="3132000" y="2060640"/>
                <a:ext cx="3961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Прибыль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Затраты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Инвестиции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04" name="Схема 5" descr=""/>
          <p:cNvPicPr/>
          <p:nvPr/>
        </p:nvPicPr>
        <p:blipFill>
          <a:blip r:embed="rId5"/>
          <a:stretch/>
        </p:blipFill>
        <p:spPr>
          <a:xfrm>
            <a:off x="755640" y="1779480"/>
            <a:ext cx="7199280" cy="4572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Объект 9"/>
              <p:cNvSpPr txBox="1"/>
              <p:nvPr/>
            </p:nvSpPr>
            <p:spPr>
              <a:xfrm>
                <a:off x="3203640" y="2924280"/>
                <a:ext cx="3744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Объект 12"/>
              <p:cNvSpPr txBox="1"/>
              <p:nvPr/>
            </p:nvSpPr>
            <p:spPr>
              <a:xfrm>
                <a:off x="3292560" y="3860640"/>
                <a:ext cx="25588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Прибыль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Затраты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Инвестиции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1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TextBox 10"/>
            <p:cNvGrpSpPr/>
            <p:nvPr/>
          </p:nvGrpSpPr>
          <p:grpSpPr>
            <a:xfrm>
              <a:off x="5338440" y="420480"/>
              <a:ext cx="3805560" cy="871920"/>
              <a:chOff x="5338440" y="420480"/>
              <a:chExt cx="3805560" cy="871920"/>
            </a:xfrm>
          </p:grpSpPr>
          <p:pic>
            <p:nvPicPr>
              <p:cNvPr id="314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438520" y="47628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Оценка эффективности на действующем предприят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6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EF4E-1307-4303-B464-C4485C117CB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Схема 3" descr=""/>
          <p:cNvPicPr/>
          <p:nvPr/>
        </p:nvPicPr>
        <p:blipFill>
          <a:blip r:embed="rId5"/>
          <a:stretch/>
        </p:blipFill>
        <p:spPr>
          <a:xfrm>
            <a:off x="1474920" y="1914480"/>
            <a:ext cx="61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2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TextBox 7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23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ложение дел в отрас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5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E27D-ABEE-4590-AD04-A333B630619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4" descr=""/>
          <p:cNvPicPr/>
          <p:nvPr/>
        </p:nvPicPr>
        <p:blipFill>
          <a:blip r:embed="rId5"/>
          <a:stretch/>
        </p:blipFill>
        <p:spPr>
          <a:xfrm>
            <a:off x="773280" y="1609560"/>
            <a:ext cx="4752720" cy="245916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5585400" y="2100240"/>
            <a:ext cx="18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иаперевоз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Диаграмма 4" descr=""/>
          <p:cNvPicPr/>
          <p:nvPr/>
        </p:nvPicPr>
        <p:blipFill>
          <a:blip r:embed="rId6"/>
          <a:stretch/>
        </p:blipFill>
        <p:spPr>
          <a:xfrm>
            <a:off x="560520" y="4197240"/>
            <a:ext cx="76626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3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34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Сущность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E0E8-9E92-4CC5-9C68-8C4CBD042CD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planprint"/>
          <p:cNvPicPr/>
          <p:nvPr/>
        </p:nvPicPr>
        <p:blipFill>
          <a:blip r:embed="rId5"/>
          <a:stretch/>
        </p:blipFill>
        <p:spPr>
          <a:xfrm>
            <a:off x="139680" y="1522440"/>
            <a:ext cx="3279960" cy="37353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0" y="5278320"/>
            <a:ext cx="867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Слесарно-механический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Цех по ремонту и техобслуживанию планеров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Цех ремонта агрегатов самолетов и двиг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Цех по ремонту и техобслуживанию планеров Air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– Механический це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– Цех по ремонту и техобслуживанию планеров ТУ-204, ТУ-214, ИЛ-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– Цех ремонта элементов план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ируемый цех – Цех по ремонту и техобслуживанию планеров ТУ-154, ИЛ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1" descr=""/>
          <p:cNvPicPr/>
          <p:nvPr/>
        </p:nvPicPr>
        <p:blipFill>
          <a:blip r:embed="rId6"/>
          <a:stretch/>
        </p:blipFill>
        <p:spPr>
          <a:xfrm>
            <a:off x="4583160" y="1522440"/>
            <a:ext cx="4421160" cy="30589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"/>
          <p:cNvSpPr/>
          <p:nvPr/>
        </p:nvSpPr>
        <p:spPr>
          <a:xfrm>
            <a:off x="5395320" y="45813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 подготовк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43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5" name="TextBox 10"/>
            <p:cNvGrpSpPr/>
            <p:nvPr/>
          </p:nvGrpSpPr>
          <p:grpSpPr>
            <a:xfrm>
              <a:off x="5338440" y="316800"/>
              <a:ext cx="3805560" cy="871920"/>
              <a:chOff x="5338440" y="316800"/>
              <a:chExt cx="3805560" cy="871920"/>
            </a:xfrm>
          </p:grpSpPr>
          <p:pic>
            <p:nvPicPr>
              <p:cNvPr id="346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31680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>
                <a:off x="5438520" y="37440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Сценарная матрица стратегических действ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8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1493-05CD-439C-ACAD-2900FA7B4D4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Таблица 13" descr=""/>
          <p:cNvPicPr/>
          <p:nvPr/>
        </p:nvPicPr>
        <p:blipFill>
          <a:blip r:embed="rId5"/>
          <a:stretch/>
        </p:blipFill>
        <p:spPr>
          <a:xfrm>
            <a:off x="444600" y="1816200"/>
            <a:ext cx="81262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5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7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58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лан маркетинг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0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4BFA-38E5-4B19-85ED-411E62DA009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4080" y="2492280"/>
          <a:ext cx="4011480" cy="3627360"/>
        </p:xfrm>
        <a:graphic>
          <a:graphicData uri="http://schemas.openxmlformats.org/drawingml/2006/table">
            <a:tbl>
              <a:tblPr/>
              <a:tblGrid>
                <a:gridCol w="392040"/>
                <a:gridCol w="2603520"/>
                <a:gridCol w="1015920"/>
              </a:tblGrid>
              <a:tr h="106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виакомпания-эксплуа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-во план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oeing 737 Next Gen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Москва» («Moscow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Оренбургские авиалинии» («Orenair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Якут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 («Yakutia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ибир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 («S7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Трансаэро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ransaer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Аэросвит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erosvi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Газпромавиа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azpromavi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363" name="Rectangle 11"/>
          <p:cNvSpPr/>
          <p:nvPr/>
        </p:nvSpPr>
        <p:spPr>
          <a:xfrm>
            <a:off x="128520" y="17614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евая аудитория ТОи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oeing 737 Next Gen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Схема 6" descr=""/>
          <p:cNvPicPr/>
          <p:nvPr/>
        </p:nvPicPr>
        <p:blipFill>
          <a:blip r:embed="rId5"/>
          <a:stretch/>
        </p:blipFill>
        <p:spPr>
          <a:xfrm>
            <a:off x="4468680" y="1341360"/>
            <a:ext cx="4523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6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69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Финансовый пл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33EB-E3E9-4D54-B127-50D915BBE68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187560" y="1486080"/>
            <a:ext cx="30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чет процентов по кредит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85760" y="1824120"/>
          <a:ext cx="7710480" cy="1055520"/>
        </p:xfrm>
        <a:graphic>
          <a:graphicData uri="http://schemas.openxmlformats.org/drawingml/2006/table">
            <a:tbl>
              <a:tblPr/>
              <a:tblGrid>
                <a:gridCol w="652320"/>
                <a:gridCol w="1513080"/>
                <a:gridCol w="1008000"/>
                <a:gridCol w="1440000"/>
                <a:gridCol w="1635120"/>
                <a:gridCol w="1461960"/>
              </a:tblGrid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лг на начал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нну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% погаш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едит погаш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лг 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11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880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880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8 4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321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0 6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1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06280" y="3376440"/>
          <a:ext cx="7101000" cy="3365640"/>
        </p:xfrm>
        <a:graphic>
          <a:graphicData uri="http://schemas.openxmlformats.org/drawingml/2006/table">
            <a:tbl>
              <a:tblPr/>
              <a:tblGrid>
                <a:gridCol w="2365560"/>
                <a:gridCol w="966600"/>
                <a:gridCol w="908280"/>
                <a:gridCol w="893520"/>
                <a:gridCol w="982800"/>
                <a:gridCol w="984240"/>
              </a:tblGrid>
              <a:tr h="1836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 grid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35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нвестицион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4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ая деятельност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8 615 7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2 022 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3 456 8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 887 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 887 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руч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8 292 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8 765 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7 501 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5 378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5 378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ые расх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4 296 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5 982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0 917 8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4 904 6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4 904 6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лог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5 379 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0 761 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127 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586 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586 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нансовая деятельност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160 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 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 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ствен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281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ем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зврат креди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 том числе процен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2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0 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нежный поток за пери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8 615 7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2 022 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1 617 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 047 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 047 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сконтированный денежный поток за пери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1 913 8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 701 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3 491 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 349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 512 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сконтный множитель при ставке дисконтирования 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3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376" name="Прямоугольник 13"/>
          <p:cNvSpPr/>
          <p:nvPr/>
        </p:nvSpPr>
        <p:spPr>
          <a:xfrm>
            <a:off x="179280" y="29973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ежные поток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2:32:01Z</dcterms:created>
  <dc:creator>User</dc:creator>
  <dc:description/>
  <dc:language>en-US</dc:language>
  <cp:lastModifiedBy>Гончарова Анастасия Вячеславовна</cp:lastModifiedBy>
  <dcterms:modified xsi:type="dcterms:W3CDTF">2011-05-31T11:08:34Z</dcterms:modified>
  <cp:revision>59</cp:revision>
  <dc:subject/>
  <dc:title>Итоговое совещание Совета УМО</dc:title>
</cp:coreProperties>
</file>