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907588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437D-D1C3-4420-AF83-C42B0A3D7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480060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28520" y="6935760"/>
            <a:ext cx="480060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3BAA-1BBA-4725-B15C-1ADD26A44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2852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48840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954E-60A2-4B55-BF65-05603E42E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651760" y="561312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274640" y="561312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28520" y="693576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2651760" y="693576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4274640" y="693576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CF6D-0443-4C7A-AFA3-816418866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113A6-1F69-4EE2-AADE-AA5CC4A2D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01D11-88E5-4158-904B-D7FCF6A46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3284D-CF59-4D8E-A9E5-0E680957B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8E2AF-2701-42A9-B00E-6CE7732AA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24362-F5F8-483C-8CCB-0A19A68A6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514440" y="3301920"/>
            <a:ext cx="5829120" cy="76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CC88E-FF31-40C6-984A-0493A2438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2852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CB1C4-B893-48A5-8471-60926BF42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3698-C5B3-4351-AD3E-F6049A63A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48840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01B26-80A2-4980-B0D1-E1CDEAD2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28520" y="6935760"/>
            <a:ext cx="480060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645EC-D19B-4292-9C7C-5C3739E1C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480060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028520" y="6935760"/>
            <a:ext cx="480060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9F8F6-C70F-4F34-BBAD-872EF2C8E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02852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348840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F9709-65BF-4936-B958-3A8DB7DF7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651760" y="561312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274640" y="561312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028520" y="693576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2651760" y="693576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4274640" y="693576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1B702-D750-4D58-B20A-E388888FA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5002-ED53-4CE7-88FA-A8600FA2C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6572-EC4E-4DC5-B6F8-D1119BC9D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93D4-57EA-4C64-A459-6E44ED443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514440" y="3301920"/>
            <a:ext cx="5829120" cy="76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2B8E-7B65-4B23-9A9B-E5E04EF6B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2852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3CF2-F0A3-4629-A18A-B0012E7B8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48840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7DB4-2110-4FC5-93F1-73C132D5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28520" y="6935760"/>
            <a:ext cx="480060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FDAC-12B0-49DF-8B2B-1E9AC6687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588000" y="641520"/>
            <a:ext cx="270000" cy="455436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6858000" cy="308124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679400"/>
            <a:ext cx="6858000" cy="822672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420840"/>
            <a:ext cx="6858000" cy="123480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3473280"/>
            <a:ext cx="6858000" cy="154656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857240" y="2200320"/>
            <a:ext cx="5000760" cy="770580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973760"/>
            <a:ext cx="6858000" cy="4414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5132520"/>
            <a:ext cx="4678200" cy="486072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5C35B-E818-468A-B32E-D81E04B0D935}" type="datetime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9D229-277F-48C0-A2D8-F218EF4ABD2E}" type="slidenum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588000" y="641520"/>
            <a:ext cx="270000" cy="455436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6858000" cy="308124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679400"/>
            <a:ext cx="6858000" cy="822672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420840"/>
            <a:ext cx="6858000" cy="123480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473280"/>
            <a:ext cx="6858000" cy="154656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57240" y="2200320"/>
            <a:ext cx="5000760" cy="770580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4973760"/>
            <a:ext cx="6858000" cy="4414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5132520"/>
            <a:ext cx="4678200" cy="486072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DF2D4-6108-4B0E-A0C5-30042AE0AB00}" type="datetime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36FC7-C4CF-4528-AA0F-CA1420042427}" type="slidenum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143000" y="825480"/>
            <a:ext cx="4724280" cy="239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0099"/>
                    </a:gs>
                    <a:gs pos="50000">
                      <a:srgbClr val="ffcc00"/>
                    </a:gs>
                    <a:gs pos="100000">
                      <a:srgbClr val="cc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Белки и 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0099"/>
                  </a:gs>
                  <a:gs pos="50000">
                    <a:srgbClr val="ffcc00"/>
                  </a:gs>
                  <a:gs pos="100000">
                    <a:srgbClr val="cc0099"/>
                  </a:gs>
                </a:gsLst>
                <a:lin ang="54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0099"/>
                    </a:gs>
                    <a:gs pos="50000">
                      <a:srgbClr val="ffcc00"/>
                    </a:gs>
                    <a:gs pos="100000">
                      <a:srgbClr val="cc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аминокислоты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0099"/>
                  </a:gs>
                  <a:gs pos="50000">
                    <a:srgbClr val="ffcc00"/>
                  </a:gs>
                  <a:gs pos="100000">
                    <a:srgbClr val="cc0099"/>
                  </a:gs>
                </a:gsLst>
                <a:lin ang="54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733920" y="8007480"/>
            <a:ext cx="2819160" cy="94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84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cc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лимовец Александр и</a:t>
            </a:r>
            <a:endParaRPr b="0" lang="en-US" sz="2400" spc="1" strike="noStrike">
              <a:ln w="12600">
                <a:solidFill>
                  <a:srgbClr val="ffffcc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cc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ихайлов Алексей</a:t>
            </a:r>
            <a:endParaRPr b="0" lang="en-US" sz="2400" spc="1" strike="noStrike">
              <a:ln w="12600">
                <a:solidFill>
                  <a:srgbClr val="ffffcc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62120" y="8172360"/>
            <a:ext cx="714240" cy="82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cc00"/>
                  </a:solidFill>
                  <a:miter/>
                </a:ln>
                <a:solidFill>
                  <a:srgbClr val="220011"/>
                </a:solidFill>
                <a:latin typeface="Impact"/>
              </a:rPr>
              <a:t>11-3</a:t>
            </a:r>
            <a:endParaRPr b="0" lang="en-US" sz="2400" spc="1" strike="noStrike">
              <a:ln w="12600">
                <a:solidFill>
                  <a:srgbClr val="ffcc00"/>
                </a:solidFill>
                <a:miter/>
              </a:ln>
              <a:solidFill>
                <a:srgbClr val="220011"/>
              </a:solidFill>
              <a:latin typeface="Impact"/>
              <a:ea typeface="Impact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8T20:12:51Z</dcterms:created>
  <dc:creator>Алексей</dc:creator>
  <dc:description/>
  <dc:language>en-US</dc:language>
  <cp:lastModifiedBy>Алексей</cp:lastModifiedBy>
  <cp:lastPrinted>2002-03-18T20:47:09Z</cp:lastPrinted>
  <dcterms:modified xsi:type="dcterms:W3CDTF">2002-03-19T13:01:34Z</dcterms:modified>
  <cp:revision>4</cp:revision>
  <dc:subject/>
  <dc:title>Заголовок слайда отсутствует</dc:title>
</cp:coreProperties>
</file>