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0ED-2B05-4B1E-8E1D-631C3DB3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B92-9212-4920-92BA-F4B66B77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189-57F9-4982-8569-AC3772D9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25B-51B0-47DD-9B0A-8786E872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0334-D5D7-4F24-A14A-EF50F73C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12AE-7ADA-475E-AA4A-D8B47E4A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C7AD-97CA-4A37-8AE5-E790877B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2289-0859-434D-9F21-A4290EE6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60DF-4D92-4C2A-9130-950B6D60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BEB2-D772-47BB-A7A7-437CFD8E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9FFC-4C98-478B-B104-398ED5E8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A32-BA93-4B21-B73A-01AB77E3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EFC0-18ED-4A8E-83A9-F3041347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6AA9-F884-4EBB-8E7A-C786F104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7613-9B68-46B2-96CF-92273312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6D5F-B5B7-406A-91A2-D5FCB566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3D87-76F9-4384-BD1E-B540A6EB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48B-3B8A-4C59-AF11-5B168FD9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C86-27DF-4164-8553-BC2F7C72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98D-085A-48E1-8D48-C4794361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301-A49D-4193-A3F1-843A9C9C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15E-37CA-4DCA-8126-410A908C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633-4980-47AF-8CA6-E4D9C7F6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56E-1AF8-4977-B718-BAEADAD0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03BE-C0CF-4C33-A0DF-915068818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CC22-9C6B-49C4-A2B3-EF6F659CC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Дипломный проект</a:t>
            </a:r>
            <a:br>
              <a:rPr sz="48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«Оптимизация движения денежных потоков в учреждениях сферы здравоохранения (на примере ГУЗ «Областной кожно-венерологический диспансер»)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52120" y="3886200"/>
            <a:ext cx="57150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дентка гр. ФН-6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ециаль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Финансы и креди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мскова Александ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Финансово-экономическое обоснование организации анонимного медицинского обслуживани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асчет точки безубыточности и запаса финансовой устойчивости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0080" y="2058840"/>
            <a:ext cx="768384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Таким образом, проведенные анализ и экономическое обоснование предполагаемого отделения анонимной медицинской помощи показывают, что подобная реструктуризация деятельности анализируемого предприятия экономически выгодна и предприятие получит достаточно высокую прибыл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Цель и задачи дипломного проект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ью дипломного проекта было проанализировать пути оптимизации движения денежных потоков в учреждениях сферы здравоохран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соответствии с поставленной целью в дипломном проекте были поставлены и решены следующие задач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Рассмотрены теоретические источники по проблемам управления денежными потоками предприятия и по проблемам оптимизации этой деятельности в условиях развития рыночных отнош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Изучены методики анализа управления денежными потоками предприят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Проанализированы состав, структура, динамика денежных потоков в ГУЗ «Областной кожно-венерологический диспансер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Подготовлены предложения по оптимизации процесса управления денежными потоками и произведена оценка эффективности предлагаемых мероприят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инансирование учреждений здравоохранения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933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ежные потоки предприят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12800"/>
            <a:ext cx="8229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Анализ показателей эффективности ГУЗ «Областной кожно-венерологический диспансер» за 2005 - 2009 гг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Анализ показателей эффективности использования оборотных средств ГУЗ «Областной кожно-венерологический диспансер» за 2005 - 2009 гг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7586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Анализ поступлений финансовых средств по комплексным целевым программам из бюджета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Исходные данные для расчета экономической эффективности предлагаемых мероприятий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82296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Эффективность мероприятий по повышению эффективности использования оборудования отдела платных косметических услуг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2679840"/>
            <a:ext cx="822960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ly</cp:lastModifiedBy>
  <dcterms:modified xsi:type="dcterms:W3CDTF">2011-02-02T17:02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