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hammer.wav" ContentType="audio/x-wav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277-B7EA-46E9-BEB7-DA8D07AC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027C-6215-4768-B8F0-CEB85E95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D4A5B-5EFC-48D3-A07F-0E2991EA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E8F48-B56D-455A-AD79-1F6B852E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40191-B7FF-4070-A198-3F9C06F1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ED3F0-5E5F-46C1-95AA-9F15A198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DF919-6CDE-4CE0-A3C1-38BBAEE9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8D2BE-9F00-431C-901B-E4CE569C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2E12E-7178-4E7B-9320-1AA3C642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76920-5D25-4256-8BC3-F26D7965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5612F-8A71-4E46-8186-FD5B4448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F00720-DF18-4674-9D63-8AC4AA33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B47-067A-41B2-A526-4F3C6156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D3B74C-D297-4BB4-B2AD-6C506AD3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02C179-FBC4-46C2-BC18-BB1A7FB1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2E4776-EE49-4333-84C6-4ABE2F4B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57CD0C-45B9-4A48-B5DF-D98BB76D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42B75F-6B85-4C50-BC8E-3AC73516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FBDE2E-6034-45A8-A00F-717808C9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8EAEDC-B41B-4004-95D1-626B00F9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004421-AA82-444F-82D1-32F4BA1B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FB75B8-F649-4FE0-A3A0-D41B6BBD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AFE73C-9F99-48DB-85ED-57105692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328-472D-4261-8A77-6A8CC3F6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20041B-CC30-4C1C-B469-D6B30365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4A4745-6310-42D1-AA16-FF12BF33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5642A7-49CA-4905-AC2E-658EA8AC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06FAEA-60D6-4FDA-9B27-ABF73B30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9E4940-C720-4AD1-BA97-FBFF8DC1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4A9ED9-943B-454C-8AFA-B0317A63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61ED56-9260-436F-B0DA-4270D82F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BF56FA-F427-4B23-B764-8B48F1E0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B216C9-0A86-4A23-89F3-FC558C7D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88072F-4011-42B3-B037-70BCFB83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1DFB-1534-4580-8AEB-8670DAA1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A52445-90B0-4474-B372-D496C06B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C05B6A-443E-4196-90E2-D861FDD7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9E7E79-B833-403D-B547-5E006AE1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3E2AF-14F1-4CDF-8885-AD7A7AF5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C9765-2575-46BF-A87E-D78228B4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6897D-392E-4687-875F-21D7D019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F07EA-23B9-406A-95AA-1188D5E8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1B6AA-991D-46A3-B4A4-B627F56A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2BCF4-2A6F-435D-AF36-99A52FD1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F6AC2-91FD-4F0A-8768-167FBBF7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D6E9-17F4-4591-9467-DBDF6F8A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1555F-3B88-4231-A014-09D4CE5A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D499D-94A4-4FE3-BAF2-A697045E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370EA-FF5F-4CB0-B408-AC7E5332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52BF5-20CE-4CC1-8BA8-2C22C97F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32001-86BD-4239-BDB6-875818B1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44BC4-DBA9-483E-A6D4-AC31F21B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FBF49-8D40-4925-B57D-6B7806F7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5A146-C7C1-4650-B4EE-29831653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0A012-964D-4ED2-8771-B05FCBDF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87377-8B82-4720-AE20-EBDB6871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153F-7A55-47DB-B0FE-DD792706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C6E1B-F01B-45BC-B718-3599E989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C2EFE-1249-4597-8EDE-71F0DE54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F6AB0-83DB-4231-84E8-D8BBD34B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3C6B6-100C-4FBF-AC09-91A19BB5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E1D4C-75BC-4C09-A61A-AC6BFF8C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CF344-19E1-466F-937E-DB8D6CE7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2CCFC-CD74-4BAD-AAD8-13E8DC68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D380C-9469-4DEA-9E6B-9A1311AD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32C54-0CF6-40D4-9C62-4CE7079B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5AFCF-324E-4C05-958B-3F7016BD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EB5D-8CD2-4E4F-BD1C-EDB53BBD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0CADE-EE2C-41CB-8F06-6B8CFA85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5A31F-7EF5-441E-8E1B-2FF13204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DF6DB-943E-4381-8E83-4589A27D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96D9F-CD56-40B1-B7ED-BBB0FFB8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017B6-38A6-4DAE-88CA-8D885F3F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77269-9C99-4912-9433-B8808F4A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ACEF9-881B-456C-9791-2893E472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CF64D-6DB6-47D7-9FE1-D858BE6D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82580-C2B0-464F-96F7-E3E2C7BE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6A986-C428-4B1C-AD25-2305569B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DBA6-5B41-4967-BDF7-9167DE88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6BE43-B4C6-4536-ABB3-FE0B0DCC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950FB6-B3D9-4E2D-B5E7-3D8493F9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27049-CF90-4EE6-960C-3C777C3E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4042F-6C71-4CAD-B941-1094C458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C4BE2-8308-452A-85E0-41845450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20BE5-D172-4417-9587-879BEF3E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CDD66-6F8C-4090-8B01-E88DB91C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4276D-FD8A-4394-8BED-A1AF01B9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3B982-30DA-4E87-B366-BA236CE5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038D1-DBC8-4996-AEAD-A5D0354A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BBD5-46C4-40AA-AC5D-B998D24A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A0BA3-2C7B-4A1F-BB55-13338977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5E365-EA77-415D-BD83-75290F1E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A996C-5B47-46C4-8C8F-42D916A0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03F636-60AD-4E62-BE06-36DC59D4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A1A36-E558-4865-A172-2DFC9CAF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7E246-CE1D-4CF1-A8DD-FA3C3115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3FB070-E6C3-4101-B5D2-9100FB0D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1D2A7-7F4D-48D2-A683-1FBB47D5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645AB-AED5-4BBC-AE32-ED044D56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950C2E-04DE-4B17-AB9D-69720DE1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D353-4474-4EFE-825A-DF222D65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360460-0907-4530-8D6D-5C1B56CE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383EF-FB87-4C83-AA75-B786BC3A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A7B0B-0BF3-4A45-A0D6-DE1D5470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4E8-D7F6-4242-A690-AEB22C9F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A0B7-90C6-41C6-A7D6-328FCF0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B1D2-EE57-4166-8619-8BCFCEBE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A16C-5388-4B98-A95A-C97E8BA5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42FD-C8AB-434A-B3B8-9A7F6C1A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2045-E5E7-440F-889E-9E4E171B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2432-79EA-4336-BC44-1A61F7D0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B2F0-A6C0-4554-9E6D-C7F4F06E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2AA5-F242-46FA-B0F4-A45860AB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42C2-6084-4A4D-91AC-E4441FA6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F99D-58A1-4132-80E8-D880088E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064-D646-4A89-A150-B4B9AACC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139CE-A96E-4B56-956F-E4C46C51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4C77-3059-4AAB-A38A-F8132C76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ADC47-EBD2-42E7-9045-E2B8ABCB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478AC-DD02-45A1-B025-4BFB29BB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4507-19CB-455B-B1FC-BE70C0B6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21477-561A-47AB-8026-AE2A5148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98BFD-E66F-4E20-8EF3-664BF7D5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7B4A-6357-4D6C-ACE0-648BDAEF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3812-AD5C-4A25-BCFE-AB33C116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64AF6-1643-4614-BD32-E6EB3297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C1C-B861-454A-A6EC-FD549141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8F2A-5002-406F-B299-698B113F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E774-3FA5-4476-BBC4-BAA59DA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488AE-F0DA-4460-A800-0AC11B01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15AA-97ED-49CA-BBB5-362937A3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6FFF-1B08-4C6D-8C8C-ED688D1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9711-6FF7-489A-A988-3C87AFFF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320F4-A869-437E-8D1F-06E8CAA0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88783-398A-47AF-9418-A45E55FC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C24EB-95EC-4B3C-B1CC-57915BBA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F8B22-5525-4A67-A5B2-092ABC3F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1D5-7962-4E81-8B70-9906EF2D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6C1C3-3313-4450-BC53-183E64D9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4D8A-8FF6-4D2F-91DB-42389BAB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71A12-F811-4F57-8B49-6A57282A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690C3-A562-4880-B46C-82866341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A8D5F-431D-49A4-B11F-CAD7D362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97760-FFAB-4B52-B806-5296A1F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A1387-DC72-4BA9-89A7-8B83E031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8C0C6-03FB-4269-BEE3-239CB1F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968F5-D685-4F7F-9843-3DAD1AC2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E37D8-F69A-4819-BFB6-0D3B9551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E22-B876-4DA6-9883-44E62CD0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86ADC-E323-49C3-B5BD-36A2022F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B9EC23-DA35-4967-8E7D-92C03D21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ED096-2D98-46D1-A8C7-EBF9527A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6FC5D-FD38-46D2-8929-F4EDECB7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E3EC6D-E349-4855-9CFA-E8D89E81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29948-055A-48B0-938E-824D724B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11B96-B972-4157-BC23-9AF28EC3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22341-FBF1-4E13-BEA2-494C8474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8F0E8-74D5-4F69-AD85-41B8F6EF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1139C-1090-4741-85DE-6DB41798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92F-AE73-4543-879A-5660E786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ABBA1-633F-4BF9-86C5-D48472DC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7F3CEA-A989-4C8C-8640-127D981C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50CF5-0EFB-4993-A1A4-9AD25308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5602F-580F-4531-8F0E-E6339505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7162D-5B2A-4123-9C14-A3811129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CA95A-DC40-47BC-BDBB-005FA415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EFF05-9988-4346-97A1-0B562C03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08419-8534-4F47-BBBE-43F681DC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8790F-7BB0-4D38-8342-457C76D3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8C711-A347-4330-9AF4-7630FFAC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5E4-10D9-400D-BFDB-FF0B8898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AA335-CEBC-4B69-ABCC-A9F5D24B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E62A9-2DA0-4237-97EE-32C9887D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719AC-E8CD-4FD1-BA63-8524217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4E0C8-D7FE-4F24-833F-EB26AD7F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C9BB1-8D67-4333-8CFC-E5BDBE21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CC91B-0EA6-42AC-9B5E-24247FD9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26540-AB71-42B1-B826-F423D8EC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118ED-11F6-4822-82EF-A2411F14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721FB-2E61-4C38-B557-30F70D82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F883A-DC8D-4585-BD0D-D3C7815B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78C-6ACB-4804-BD5F-CAA5427F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0505E-70AF-4C69-8597-115830F6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CF891-CB96-494D-A6D8-6524B189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7C3C0-D0AF-48A2-8C6A-560464E4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8E013-1799-4492-95A0-9FC97A3C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BB3F9-6F14-4C21-A1C6-346D01B4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9B51E-2BA9-4746-A84A-58857D80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71CC1-A315-4D3A-B31E-D173943B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58707-C8FC-4791-8DF9-FAEDB1A3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21329-0E17-4804-8373-56E3499D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7A40F-EAEC-4EC7-8116-138C0E75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62E8-0FA5-484C-8E61-07472646A2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E453-A090-40A1-9892-7FA6A28164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2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2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2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3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8D4C-10B0-47D8-8694-589909D904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78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78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78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8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8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9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9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9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9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0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0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0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0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1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1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1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2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2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2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3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3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3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3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4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4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4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5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5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5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6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6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6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7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7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7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8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8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8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8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88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89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89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47EA-F67A-4841-B29C-5AF954770B0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9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D7A7-646B-42FE-8487-5A71BE0849C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1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9D4D-80FF-4F5C-AD99-D84FD27572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060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061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062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3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064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67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068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69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070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71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072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3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4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5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6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7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8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9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0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1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2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3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4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5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6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7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8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9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0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1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2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3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4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5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6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7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8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9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0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1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2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3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4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5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6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7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108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109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0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1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2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3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4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5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6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7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8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9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0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1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2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3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4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5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6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7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8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9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0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1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2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3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4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5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6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7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8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9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0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1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2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3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4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5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6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7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8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9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0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1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2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3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4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5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6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157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158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0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161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0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1171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7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1178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custGeom>
                  <a:avLst/>
                  <a:gdLst>
                    <a:gd name="textAreaLeft" fmla="*/ 0 w 255960"/>
                    <a:gd name="textAreaRight" fmla="*/ 256320 w 2559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FB1C-5DE0-4AA3-B453-F93AD5AB25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225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226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8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229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4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A4EC-185F-4022-A002-2D14F7C158C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B125-BB60-4643-BB22-B138996F17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F109-C960-4AE9-9719-AFAE43DCCE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4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5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8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59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62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65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68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71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74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77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80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83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86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89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92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95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98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01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04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07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10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13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16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19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24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27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30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33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36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39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42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45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48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51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54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6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6489-C5CA-4648-877D-1217B0607991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20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23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B713-F1A0-41B5-A8AC-3912EE90306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9558-7377-4442-9F47-0ADC48104F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7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4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25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26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28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1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432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3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434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35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436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7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9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0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1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2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6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7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1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2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6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1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2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3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5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6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7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9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0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1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72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473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5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6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0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1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2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5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6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7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8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9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0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21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522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4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525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4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535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1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542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7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3D6F-1DEA-4831-A73E-8C59C5CB51F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771F-BF00-49CC-B54A-2DAD256383D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E5B9-268C-4CCB-9555-2C85DCCBC6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33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ff33"/>
                </a:solidFill>
                <a:latin typeface="Tahoma"/>
                <a:ea typeface="Times New Roman"/>
              </a:rPr>
              <a:t>Министерство образования и науки РФ</a:t>
            </a:r>
            <a:br>
              <a:rPr sz="1600"/>
            </a:br>
            <a:r>
              <a:rPr b="1" lang="ru-RU" sz="1600" spc="-1" strike="noStrike">
                <a:solidFill>
                  <a:srgbClr val="66ff33"/>
                </a:solidFill>
                <a:latin typeface="Tahom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6ff33"/>
                </a:solidFill>
                <a:latin typeface="Tahoma"/>
              </a:rPr>
              <a:t>С</a:t>
            </a:r>
            <a:r>
              <a:rPr b="1" lang="ru-RU" sz="1600" spc="-1" strike="noStrike">
                <a:solidFill>
                  <a:srgbClr val="66ff33"/>
                </a:solidFill>
                <a:latin typeface="Tahoma"/>
                <a:ea typeface="Times New Roman"/>
              </a:rPr>
              <a:t>очинский Государственный Университет Туризма и Курортного Дела</a:t>
            </a:r>
            <a:br>
              <a:rPr sz="1600"/>
            </a:br>
            <a:r>
              <a:rPr b="1" lang="ru-RU" sz="1600" spc="-1" strike="noStrike">
                <a:solidFill>
                  <a:srgbClr val="66ff33"/>
                </a:solidFill>
                <a:latin typeface="Tahoma"/>
                <a:ea typeface="Times New Roman"/>
              </a:rPr>
              <a:t>Институт Экономики и Менеджмента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ОТЧЕТ </a:t>
            </a:r>
            <a:br>
              <a:rPr sz="2400"/>
            </a:br>
            <a:br>
              <a:rPr sz="2400"/>
            </a:b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Вариант 12</a:t>
            </a:r>
            <a:br>
              <a:rPr sz="36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066680" y="3573000"/>
            <a:ext cx="369576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удент 3 кур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уппы  06-ВЭ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лихов Михаил Юрье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ahoma"/>
              </a:rPr>
              <a:t>Файл отчета – Отчет_Пелихов_в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914720" y="3716280"/>
            <a:ext cx="3695400" cy="23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рил: к.э.н., доц. Терентьев И.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edge/>
    <p:sndAc>
      <p:stSnd>
        <p:snd r:embed="rId1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Arial Black"/>
              </a:rPr>
              <a:t>ПОЖЕЛАНИЯ АВТОР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3347640" y="1744560"/>
            <a:ext cx="5614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олгария, которую Вы откроете для себя благодаря этому путешествию, поразит Вас своей сказочной природой, богатой культурой, изысканными памятниками древней истории и архитектуры. Посетив ее однажды, Вы захотите возвращаться сюда снова и снова, в поисках неизведанных мест, новых открытий и впечатлений и пусть это станет для Вас доброй традицией!!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ългария, която вие ще отворите с себе си поради това пътуване, ще ви учуди с фантастичната природа, богатата култура, рафинираните паметници на древна история и архитектура. Посетили сте го веднъж, вие искате да се завърнете тук отново и отново, в търсения на новите места, нови начални и впечатления и фал то става с вас вид традиция!!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23" name="Picture 7" descr="Фото Пелихов"/>
          <p:cNvPicPr/>
          <p:nvPr/>
        </p:nvPicPr>
        <p:blipFill>
          <a:blip r:embed="rId1"/>
          <a:stretch/>
        </p:blipFill>
        <p:spPr>
          <a:xfrm>
            <a:off x="611280" y="2060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aeaea"/>
                </a:solidFill>
                <a:uFillTx/>
                <a:latin typeface="Tahoma"/>
              </a:rPr>
              <a:t>БОЛГАРИЯ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905360" y="1981080"/>
            <a:ext cx="3705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Tahoma"/>
              </a:rPr>
              <a:t>Болгария обладает красивой природой, развитой экскурсионной базой, тёплым мягким климатом и таким же морем. </a:t>
            </a: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Так что сегодня страна остаётся одним из лучших вариантов сравнительно недорогого семейного отдыха — особенно с детьми.</a:t>
            </a:r>
            <a:r>
              <a:rPr b="0" i="1" lang="ru-RU" sz="20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0" name="Group 13"/>
          <p:cNvGrpSpPr/>
          <p:nvPr/>
        </p:nvGrpSpPr>
        <p:grpSpPr>
          <a:xfrm>
            <a:off x="1116000" y="2276640"/>
            <a:ext cx="3887640" cy="3313080"/>
            <a:chOff x="1116000" y="2276640"/>
            <a:chExt cx="3887640" cy="3313080"/>
          </a:xfrm>
        </p:grpSpPr>
        <p:pic>
          <p:nvPicPr>
            <p:cNvPr id="1281" name="Picture 14" descr="C:\Documents and Settings\Сергей\Рабочий стол\Интернет тур\Описание страны\Болгария - описание3.files\spring.jpg"/>
            <p:cNvPicPr/>
            <p:nvPr/>
          </p:nvPicPr>
          <p:blipFill>
            <a:blip r:embed="rId1"/>
            <a:stretch/>
          </p:blipFill>
          <p:spPr>
            <a:xfrm>
              <a:off x="3117240" y="3970800"/>
              <a:ext cx="1886400" cy="16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Picture 15" descr="C:\Documents and Settings\Сергей\Рабочий стол\Интернет тур\Описание страны\Болгария - описание3.files\summer.jpg"/>
            <p:cNvPicPr/>
            <p:nvPr/>
          </p:nvPicPr>
          <p:blipFill>
            <a:blip r:embed="rId2"/>
            <a:stretch/>
          </p:blipFill>
          <p:spPr>
            <a:xfrm>
              <a:off x="1116000" y="2276640"/>
              <a:ext cx="1886400" cy="16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Picture 16" descr="C:\Documents and Settings\Сергей\Рабочий стол\Интернет тур\Описание страны\Болгария - описание3.files\winter.jpg"/>
            <p:cNvPicPr/>
            <p:nvPr/>
          </p:nvPicPr>
          <p:blipFill>
            <a:blip r:embed="rId3"/>
            <a:stretch/>
          </p:blipFill>
          <p:spPr>
            <a:xfrm>
              <a:off x="3117240" y="2276640"/>
              <a:ext cx="1886400" cy="16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Picture 17" descr="C:\Documents and Settings\Сергей\Рабочий стол\Интернет тур\Описание страны\Болгария - описание3.files\autumn.jpg"/>
            <p:cNvPicPr/>
            <p:nvPr/>
          </p:nvPicPr>
          <p:blipFill>
            <a:blip r:embed="rId4"/>
            <a:stretch/>
          </p:blipFill>
          <p:spPr>
            <a:xfrm>
              <a:off x="1116000" y="3970800"/>
              <a:ext cx="1886400" cy="1618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edge/>
    <p:sndAc>
      <p:stSnd>
        <p:snd r:embed="rId5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СОФИЯ  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снованная семь тысяч лет назад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фия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– второй старейший город Европ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Софии в избытке находятся музеи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Богатая и разнообразная история, великолепная горная природа, целый спектр достопримечательностей и масса культурных событий делает Софию городом, привлекательным для истинных любителей путешеств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HOTEL CENTRAL****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 расположен в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самом центре Софии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, рядом со всеми главными достопримечательностям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Номера современные, хорошо оборудованы. В номерах все высокого качества, они оформлены со вкусом и приравнены к номерам лучших отелей Западной Европы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7" name="Picture 13" descr="C:\Documents and Settings\Сергей\Рабочий стол\Интернет тур\София\фото вид спереди.files\375852.jpg"/>
          <p:cNvPicPr/>
          <p:nvPr/>
        </p:nvPicPr>
        <p:blipFill>
          <a:blip r:embed="rId1"/>
          <a:stretch/>
        </p:blipFill>
        <p:spPr>
          <a:xfrm>
            <a:off x="5335560" y="4425840"/>
            <a:ext cx="3252960" cy="1657440"/>
          </a:xfrm>
          <a:prstGeom prst="rect">
            <a:avLst/>
          </a:prstGeom>
          <a:ln w="0">
            <a:noFill/>
          </a:ln>
        </p:spPr>
      </p:pic>
      <p:pic>
        <p:nvPicPr>
          <p:cNvPr id="1288" name="Picture 17" descr="Фото Болгария : София : София"/>
          <p:cNvPicPr/>
          <p:nvPr/>
        </p:nvPicPr>
        <p:blipFill>
          <a:blip r:embed="rId2"/>
          <a:stretch/>
        </p:blipFill>
        <p:spPr>
          <a:xfrm>
            <a:off x="5435640" y="1628640"/>
            <a:ext cx="2997000" cy="213516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hamm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dceb9"/>
                </a:solidFill>
                <a:uFillTx/>
                <a:latin typeface="Arial"/>
              </a:rPr>
              <a:t>ЭКСКУРСИИ В СОФИИ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90" name="Picture 11" descr="Dragalevtsi Monastery"/>
          <p:cNvPicPr/>
          <p:nvPr/>
        </p:nvPicPr>
        <p:blipFill>
          <a:blip r:embed="rId1"/>
          <a:stretch/>
        </p:blipFill>
        <p:spPr>
          <a:xfrm>
            <a:off x="755640" y="3573360"/>
            <a:ext cx="1636560" cy="225756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0" descr="Фото Болгария : София : Церковь Александра Невского"/>
          <p:cNvPicPr/>
          <p:nvPr/>
        </p:nvPicPr>
        <p:blipFill>
          <a:blip r:embed="rId2"/>
          <a:stretch/>
        </p:blipFill>
        <p:spPr>
          <a:xfrm>
            <a:off x="2843280" y="1557360"/>
            <a:ext cx="1977840" cy="1832040"/>
          </a:xfrm>
          <a:prstGeom prst="rect">
            <a:avLst/>
          </a:prstGeom>
          <a:ln w="0">
            <a:noFill/>
          </a:ln>
        </p:spPr>
      </p:pic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1. «София» - обзорная экскурсия по городу с гидом, на микроавтобусе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2. Экскурсия по монастырям в окрестностях Софии на микроавтобус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13"/>
          <p:cNvSpPr/>
          <p:nvPr/>
        </p:nvSpPr>
        <p:spPr>
          <a:xfrm>
            <a:off x="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wedge/>
    <p:sndAc>
      <p:stSnd>
        <p:snd r:embed="rId3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6600"/>
                </a:solidFill>
                <a:uFillTx/>
                <a:latin typeface="Tahoma"/>
              </a:rPr>
              <a:t>ВАР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упный портовый город Варна издавна привлекает туристов своей красотой и изумительным расположением на берегу Черного мор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на - жемчужина черноморского побережья Болга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амом сердце Варны расположен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RAND HOTEL MUSALA PALACE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*****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уютный, респектабельный, один из старейших отелей гор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6" name="FotoHotel" descr="Musala Palace Hotel Varna (Bulgaria) - 9000 3 Musala Str."/>
          <p:cNvPicPr/>
          <p:nvPr/>
        </p:nvPicPr>
        <p:blipFill>
          <a:blip r:embed="rId1"/>
          <a:stretch/>
        </p:blipFill>
        <p:spPr>
          <a:xfrm>
            <a:off x="4932360" y="3559320"/>
            <a:ext cx="3152880" cy="19065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18" descr="Пляжи Варны"/>
          <p:cNvPicPr/>
          <p:nvPr/>
        </p:nvPicPr>
        <p:blipFill>
          <a:blip r:embed="rId2"/>
          <a:stretch/>
        </p:blipFill>
        <p:spPr>
          <a:xfrm>
            <a:off x="5003640" y="1197000"/>
            <a:ext cx="2979720" cy="223524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ЭКСКУРСИИ В ВАРН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. Аладжа монастырь. Вечерняя Вар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. Варна-дельфинар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1" name="Picture 7" descr="Аладжа 2"/>
          <p:cNvPicPr/>
          <p:nvPr/>
        </p:nvPicPr>
        <p:blipFill>
          <a:blip r:embed="rId1"/>
          <a:stretch/>
        </p:blipFill>
        <p:spPr>
          <a:xfrm>
            <a:off x="900000" y="3357720"/>
            <a:ext cx="1871640" cy="130644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varna1web"/>
          <p:cNvPicPr/>
          <p:nvPr/>
        </p:nvPicPr>
        <p:blipFill>
          <a:blip r:embed="rId2"/>
          <a:stretch/>
        </p:blipFill>
        <p:spPr>
          <a:xfrm>
            <a:off x="900000" y="4797360"/>
            <a:ext cx="1944720" cy="155592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http://www.bolgaria-tour.ru/files/travels/136/1.jpg"/>
          <p:cNvPicPr/>
          <p:nvPr/>
        </p:nvPicPr>
        <p:blipFill>
          <a:blip r:embed="rId3"/>
          <a:stretch/>
        </p:blipFill>
        <p:spPr>
          <a:xfrm>
            <a:off x="3708360" y="3357720"/>
            <a:ext cx="4776840" cy="30160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4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4" name=""/>
          <p:cNvGraphicFramePr/>
          <p:nvPr/>
        </p:nvGraphicFramePr>
        <p:xfrm>
          <a:off x="395280" y="189000"/>
          <a:ext cx="8209080" cy="6610320"/>
        </p:xfrm>
        <a:graphic>
          <a:graphicData uri="http://schemas.openxmlformats.org/drawingml/2006/table">
            <a:tbl>
              <a:tblPr/>
              <a:tblGrid>
                <a:gridCol w="711360"/>
                <a:gridCol w="2387520"/>
                <a:gridCol w="1276200"/>
                <a:gridCol w="1278000"/>
                <a:gridCol w="1278000"/>
                <a:gridCol w="127800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ТОИМОСТЬ 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у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ол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вр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лев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АВИАПЕРЕЛЕ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чи-Моск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7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3,94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90,01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81,72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сква-Соф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77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21,3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91,3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926,1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фия-Вар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0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84,74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5,8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47,32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на-Моск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39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13,2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47,3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968,1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сква-Соч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7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3,94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90,01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81,72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21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327,2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64,5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405,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7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6600"/>
                          </a:solidFill>
                          <a:latin typeface="Arial Cyr"/>
                        </a:rPr>
                        <a:t>ПРОЖИВ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ф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001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49,73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975,4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669,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99,5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30,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524,2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ск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947,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79,1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2,21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36,41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3618,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695,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22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236,0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7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ЭКСКУРС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9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оф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зорна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248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80,00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49,63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монастыря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095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58,26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1,65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ар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ладжа - Вечерня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398,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44,00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9,7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ельфинар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287,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39,30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0,58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029,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21,58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401,5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7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66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cc6600"/>
                          </a:solidFill>
                          <a:latin typeface="Arial Cyr"/>
                        </a:rPr>
                        <a:t>ВИЗ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из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1,943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7,119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Общая стоим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183949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7794,4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4979,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15139,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Общая округленная ст-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1839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77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49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15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p:transition advTm="5000">
    <p:wedge/>
    <p:sndAc>
      <p:stSnd>
        <p:snd r:embed="rId1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Organization Chart 35"/>
          <p:cNvGrpSpPr/>
          <p:nvPr/>
        </p:nvGrpSpPr>
        <p:grpSpPr>
          <a:xfrm>
            <a:off x="431640" y="692280"/>
            <a:ext cx="8388000" cy="5351400"/>
            <a:chOff x="431640" y="692280"/>
            <a:chExt cx="8388000" cy="5351400"/>
          </a:xfrm>
        </p:grpSpPr>
        <p:cxnSp>
          <p:nvCxnSpPr>
            <p:cNvPr id="1306" name="_s1028"/>
            <p:cNvCxnSpPr>
              <a:stCxn id="1307" idx="0"/>
              <a:endCxn id="1308" idx="5"/>
            </p:cNvCxnSpPr>
            <p:nvPr/>
          </p:nvCxnSpPr>
          <p:spPr>
            <a:xfrm flipV="1" rot="16200000">
              <a:off x="5879880" y="1576800"/>
              <a:ext cx="1071000" cy="358128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09" name="_s1029"/>
            <p:cNvCxnSpPr>
              <a:stCxn id="1310" idx="0"/>
              <a:endCxn id="1308" idx="4"/>
            </p:cNvCxnSpPr>
            <p:nvPr/>
          </p:nvCxnSpPr>
          <p:spPr>
            <a:xfrm flipV="1" rot="16200000">
              <a:off x="5164920" y="2291760"/>
              <a:ext cx="1071000" cy="215172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11" name="_s1030"/>
            <p:cNvCxnSpPr>
              <a:stCxn id="1312" idx="0"/>
              <a:endCxn id="1308" idx="3"/>
            </p:cNvCxnSpPr>
            <p:nvPr/>
          </p:nvCxnSpPr>
          <p:spPr>
            <a:xfrm flipV="1" rot="16200000">
              <a:off x="4448880" y="3007800"/>
              <a:ext cx="1071000" cy="71964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13" name="_s1031"/>
            <p:cNvCxnSpPr>
              <a:stCxn id="1314" idx="0"/>
              <a:endCxn id="1308" idx="2"/>
            </p:cNvCxnSpPr>
            <p:nvPr/>
          </p:nvCxnSpPr>
          <p:spPr>
            <a:xfrm flipH="1" flipV="1" rot="5400000">
              <a:off x="3732840" y="3010680"/>
              <a:ext cx="1071000" cy="71388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15" name="_s1032"/>
            <p:cNvCxnSpPr>
              <a:stCxn id="1316" idx="0"/>
              <a:endCxn id="1308" idx="1"/>
            </p:cNvCxnSpPr>
            <p:nvPr/>
          </p:nvCxnSpPr>
          <p:spPr>
            <a:xfrm flipH="1" flipV="1" rot="5400000">
              <a:off x="3016800" y="2294640"/>
              <a:ext cx="1071000" cy="214632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17" name="_s1033"/>
            <p:cNvCxnSpPr>
              <a:stCxn id="1318" idx="0"/>
              <a:endCxn id="1308" idx="0"/>
            </p:cNvCxnSpPr>
            <p:nvPr/>
          </p:nvCxnSpPr>
          <p:spPr>
            <a:xfrm flipH="1" flipV="1" rot="5400000">
              <a:off x="2300400" y="1578240"/>
              <a:ext cx="1071000" cy="357876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308" name="_s1034"/>
            <p:cNvSpPr/>
            <p:nvPr/>
          </p:nvSpPr>
          <p:spPr>
            <a:xfrm>
              <a:off x="4011120" y="69228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ac2c0"/>
                </a:gs>
                <a:gs pos="50000">
                  <a:srgbClr val="757868"/>
                </a:gs>
                <a:gs pos="100000">
                  <a:srgbClr val="9ac2c0"/>
                </a:gs>
              </a:gsLst>
              <a:lin ang="8100000"/>
            </a:gradFill>
            <a:ln w="3240">
              <a:solidFill>
                <a:srgbClr val="9ac2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ГРАФИК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АРШРУТ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_s1035"/>
            <p:cNvSpPr/>
            <p:nvPr/>
          </p:nvSpPr>
          <p:spPr>
            <a:xfrm>
              <a:off x="43164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СОЧ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_s1036"/>
            <p:cNvSpPr/>
            <p:nvPr/>
          </p:nvSpPr>
          <p:spPr>
            <a:xfrm>
              <a:off x="186372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ОСКВ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_s1037"/>
            <p:cNvSpPr/>
            <p:nvPr/>
          </p:nvSpPr>
          <p:spPr>
            <a:xfrm>
              <a:off x="329616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СОФИ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_s1038"/>
            <p:cNvSpPr/>
            <p:nvPr/>
          </p:nvSpPr>
          <p:spPr>
            <a:xfrm>
              <a:off x="472860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ВАРН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_s1039"/>
            <p:cNvSpPr/>
            <p:nvPr/>
          </p:nvSpPr>
          <p:spPr>
            <a:xfrm>
              <a:off x="616104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ОСКВ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_s1040"/>
            <p:cNvSpPr/>
            <p:nvPr/>
          </p:nvSpPr>
          <p:spPr>
            <a:xfrm>
              <a:off x="7593480" y="3903120"/>
              <a:ext cx="122616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СОЧ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5000">
    <p:wedge/>
    <p:sndAc>
      <p:stSnd>
        <p:snd r:embed="rId1" name="hammer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рафик маршру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324000" y="1676520"/>
          <a:ext cx="8518320" cy="5030640"/>
        </p:xfrm>
        <a:graphic>
          <a:graphicData uri="http://schemas.openxmlformats.org/drawingml/2006/table">
            <a:tbl>
              <a:tblPr/>
              <a:tblGrid>
                <a:gridCol w="1555560"/>
                <a:gridCol w="2075040"/>
                <a:gridCol w="4887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3300"/>
                          </a:solidFill>
                          <a:latin typeface="Arial Cyr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3300"/>
                          </a:solidFill>
                          <a:latin typeface="Arial Cyr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3300"/>
                          </a:solidFill>
                          <a:latin typeface="Arial Cyr"/>
                        </a:rPr>
                        <a:t>Собы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,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Со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Москв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Соф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Соф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Варн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Вар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Москв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/10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азмещение в гостинице в Москв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Со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wedge/>
    <p:sndAc>
      <p:stSnd>
        <p:snd r:embed="rId1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17:23:07Z</dcterms:created>
  <dc:creator>Сергей</dc:creator>
  <dc:description/>
  <dc:language>en-US</dc:language>
  <cp:lastModifiedBy>Танюшка</cp:lastModifiedBy>
  <dcterms:modified xsi:type="dcterms:W3CDTF">2010-12-08T08:31:06Z</dcterms:modified>
  <cp:revision>12</cp:revision>
  <dc:subject/>
  <dc:title>Слайд 1</dc:title>
</cp:coreProperties>
</file>