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D61-021F-43AF-BFF4-2D8E7E6B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82B-C3A3-4137-A45C-86FEF8A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EB1-57EF-4F91-AD51-D0F8F41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F79-F423-4F9E-804E-E7309EA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CE53-56DA-43E2-8505-DF9E3B9A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D861-223E-465F-A6CF-5E5C38D2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B232-D712-408D-8D37-B76DCD7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E529-851B-4ED3-B29F-A486179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E230-C89B-4DC8-93E7-CB7D68A6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0A3-024C-4221-8634-FFA2AE9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1E9B-4101-4DBC-B62A-281DB08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2C3-11FA-49E1-84F9-BD63F456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3086-979E-4CA5-8AE6-44281E9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6DB5-3C46-421E-9EDC-D04C014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A27A-8BDE-4D13-B407-13560E2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CE0B-6425-4B0B-AF01-6798861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C9FA-9499-476B-A05D-5FB358E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5C287-8213-4D1C-8335-11610A66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93D0-D039-49D0-B211-6AF8452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3FA4-FD44-48C6-9FCE-9B143E1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60B3-2805-49B1-B21B-DF2082C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52BCC-55E4-4897-8F36-E96A52F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308-6E0C-4E88-9D24-860E1A4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F916-4982-4075-B5C9-B0BCBA0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DB4D-F34D-45DE-AD28-C5D2111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2BB6-863E-49A2-AF33-C38C1D5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E6E0-25FB-4C2F-A0FF-2145BFC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8BA7-E712-4051-B05D-87A3D48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6937-5E1D-4EEE-8BB4-D2742C80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415C-E59C-4334-80AE-633E3D9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EF61-9D4C-4628-912C-196725AA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FCFA-ACB0-4B84-8787-4E8C0352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EB84-0EA9-43F2-BE2B-AEF1A07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BF2-45F1-43A7-B843-7CBC26A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7F98-E1CA-4478-9374-77E6C73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D8D8-C552-4D30-B14A-0BAA202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05C6-C744-45BE-B242-1F97453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B766-AC09-4403-99DF-E1EDBD1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4C20-81B1-4003-A82F-3A2C5CE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E2E6-F010-43A7-AD18-8798E00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121C-2A65-4275-9637-1C84A63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D3F5-A93C-4127-A33B-D110A49B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44F7-F0A2-462A-BCE8-75B721F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4C99-9349-4CD6-AB72-1B0255E3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8DF-D2EB-4A12-8F39-6A20AD5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8AF9-2A3B-4537-889F-84FB53F6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9680-9113-4E8D-8B41-DC8BDF6C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8BCBD-BF9A-486B-9ADA-6A4044E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E875-41FA-4332-9368-6D79069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EE20-3CF6-4862-B819-570EA40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EAF7-9A45-4EBE-B1D8-7AE774F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2038B-FFFA-41DB-80ED-3F3E998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C883-A64B-4F96-AE91-935B5357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A38E-993D-4CC0-8BF0-8A1423A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E718-ED4D-44F0-931D-9C08959B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C4A-8B2D-4B31-85AE-3D614EE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4F1B-369B-421D-97B5-A63EE510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79052-A9D6-4AA8-8DE4-FD775EB3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F62A-7AF3-4E98-ABB5-F23F977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637D-26DB-49BB-9FE2-8CB3FFBC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0B60-2900-4E68-B9E0-358A34EE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15BF-2540-4892-A338-5C17EA7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693EC-3EBB-4591-AC01-28AB04C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E332-19DA-431A-8F08-AC14E28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C285-6DB3-4BF4-8C27-53C76BC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44F70-604C-4FEE-8F5C-44E9364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C5A-CA37-473E-9CA1-D62C738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2B1F-6CEF-4982-94B8-0129A29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3189-4F82-4BBC-A6FD-B2BA5DEF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6A639-75B9-499E-B7D9-C6D9986E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F9FF6-CC37-4F1D-BE1A-AA5A1B36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E6FB-8FD8-4BB1-A4FA-B08E7AE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AE04-DBEC-416E-A280-272AF27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DCBE1-1101-4497-A8C0-749EC42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94A5-EB13-4B05-9562-59D9DBB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A57D2-5777-4260-94EC-ADBEEF9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C5424-DDAA-4084-B153-8CE35F4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BF5-AEEF-4DEE-8505-AAE148A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B929-5444-4F33-9A38-F30DF6E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A39F-7AA1-40C6-A947-A16A382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15A0-4C1E-4DE0-8732-F0684A4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349F-283E-4F77-82D7-5893EDA5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CA0D-D3C6-42AA-9FDD-18263BC5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ABD-2989-4B86-BC29-A3E3CB4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D7D1-2556-4571-8C1C-F13F3665554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1E8-F293-4C6C-B270-969BE3E3D76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272-312A-4F50-91C1-082ECF1A55D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1FD-EB99-47BE-B037-74A1CED6C84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FCB5-F547-4FC6-B831-F538FB11492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3AD7-3843-4CE7-9538-D6D4AF10D06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4E1-8C4A-4562-9230-2E787940812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822240" y="1305000"/>
            <a:ext cx="7785360" cy="1305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995280" y="5661000"/>
            <a:ext cx="4954680" cy="9367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полнил: Омельченко П.Н.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тудент 1 курса специальности «Экология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333000"/>
            <a:ext cx="777240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344520" algn="just">
              <a:lnSpc>
                <a:spcPct val="8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100 лет назад отцы — основатели космонавтики вряд ли могли себе представить, что космические корабли будут выбрасывать на свалку после одного-единственного полета. Неудивительно, что первые проекты кораблей виделись многоразовыми и зачастую крылатыми. Долгое время — до самого начала пилотируемых полетов — они конкурировали на чертежных досках конструкторов с одноразовыми «Востоками» и «Меркуриями». Увы, большинство многоразовых кораблей так и остались проектами, а единственная система многократного применения, принятая в эксплуатацию (Space Shuttle), оказалась страшно дорогой и далеко не самой надежной. Почему так получилось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2" descr="http://galspace.spb.ru/index140.file/01.jpg"/>
          <p:cNvPicPr/>
          <p:nvPr/>
        </p:nvPicPr>
        <p:blipFill>
          <a:blip r:embed="rId1"/>
          <a:stretch/>
        </p:blipFill>
        <p:spPr>
          <a:xfrm>
            <a:off x="611280" y="260280"/>
            <a:ext cx="533376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39640" y="4149720"/>
          <a:ext cx="8136000" cy="2427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319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Зенгер" Так виделся запуск космического самолета немецким инжинерам в середине 1980-х годов. Первая ступень - самолет-разгонщик с прямоточными воздушнымо-реактивными двигателями. Вторая орбитальная ступень стартует на высоте более 30 км при скорости 6,8 Маха. стартовая масса системы - 340 т, из них 100 т водорода. Вторая ступень несет 65,5 т ракетного топлива. Экипаж - 2 пилота, 4 пассажира, груз - 2-3 тонны. первая ступень проектировалась как гиперзвуковой пассажирский самолет на 250 мест. Орбитальная допускала модификацию на 36 пассажир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1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92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Гермес", Франция/ЕКА, 1979-1994. Орбитальный самолет, запускаемый вертикально ракетой Ариан-5, садящийся горизонтально с боковым маневром до 1500 км. Стартовая масса - 700 т, орбитальная ступень - 10-20 т. Экипаж 3-4 человека, вывозимый груз - 3 т, возвращаемый 1,5 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39640" y="3860640"/>
          <a:ext cx="8425080" cy="276876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Клипер", Россия, с 2000 года. Разрабатываемый новый космический корабль с многоразовой кабиной для доставки экипажа и грузов на околоземную орбиту и орбитальную станцию. Вертикальный запуск ракетой "Союз-2", посадка горизонтальная либо парашютная. Экипаж - 5-6 человек, стартовая масса корабля - до 13 т, посадочная масса - до 8,8 т. Ожидаемый срок - 2015 го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Venture Star, США, 1993-2001. Проект одноступенчатой многоразовой транспортной космической системы с вертикальным стартом и горизонтальной посадкой. Работы были свернуты на стадии прототипа (проект Х-33) из-за многочисленных технических проблем. Основная - недостаточная прочность конструкции при жестких ограничениях на массу аппарата в цел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4" name="Рисунок 4" descr="http://galspace.spb.ru/index140.file/03.jpg"/>
          <p:cNvPicPr/>
          <p:nvPr/>
        </p:nvPicPr>
        <p:blipFill>
          <a:blip r:embed="rId1"/>
          <a:stretch/>
        </p:blipFill>
        <p:spPr>
          <a:xfrm>
            <a:off x="3780000" y="71280"/>
            <a:ext cx="5333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52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елноки нового поко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3789360"/>
          <a:ext cx="3780000" cy="30686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5238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Эскиз стартовой компоновки космического корабля "Клипер" (один из вариантов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4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Буран", СССР, 1976-? (не закрыт). Многоразовый космический корабль, аналог системы Space Shuttl. Вертикальный старт, горизонтальная посадка с боковым маневром 2000 км. Стартовая масса (с ракетой "Энергия") - 2375 т, орбитальная ступень 105 т. Экипаж - 10 человек, полезная нагрузка - 30 т. На снимке крупнейший в мире транспортный самолет Ан-225 "Мрия" перевозит Бура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7" name="Рисунок 7" descr="http://galspace.spb.ru/index140.file/06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http://galspace.spb.ru/index140.file/05.jpg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3789360"/>
          <a:ext cx="3780000" cy="334980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281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МАКС, СССР/Россия, с 1985 года. Многоразовая система с воздушным стартом, посадка горизонтальная. Взлетная масса - 620 т, вторая ступень с топливным баком - 275 т, орбитальный самолет - 27 т. Экипаж - 2 человека, полезная нагрузка - до 8 т. По утверждению разработчиков (НПО Молния). МАКС - наиболее близкая к реализации проект многоразового корабл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32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31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Орион". США. Новый корабль для доставки экипажа и грузов на околоземную и окололунную орбиты и обратно. Многоразовым является только модуль экипажа с теплозащитой. Старт вертикальный, спуск управляемый с использованием подъемной силы корпуса, приземление на парашюте. Масса орбитальной ступени - 25 т, масса при посадке - 7,5 т. Экипаж 4-6 человек. Первый пилотируемый полет - 2014 год, первый полет к Луне - 2020 го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80" name="Рисунок 9" descr="http://galspace.spb.ru/index140.file/08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8" descr="http://galspace.spb.ru/index140.file/07.jpg"/>
          <p:cNvPicPr/>
          <p:nvPr/>
        </p:nvPicPr>
        <p:blipFill>
          <a:blip r:embed="rId2"/>
          <a:srcRect l="0" t="2438" r="0" b="4951"/>
          <a:stretch/>
        </p:blipFill>
        <p:spPr>
          <a:xfrm>
            <a:off x="3809880" y="3357720"/>
            <a:ext cx="533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6:42Z</dcterms:created>
  <dc:creator>1</dc:creator>
  <dc:description/>
  <dc:language>en-US</dc:language>
  <cp:lastModifiedBy>Ната</cp:lastModifiedBy>
  <dcterms:modified xsi:type="dcterms:W3CDTF">2011-04-22T10:21:37Z</dcterms:modified>
  <cp:revision>7</cp:revision>
  <dc:subject/>
  <dc:title>Космические корабли</dc:title>
</cp:coreProperties>
</file>