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510-254B-4FEC-B275-437CC8A1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403-D248-406D-AFE2-261F22E8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290-8D47-4511-A2D2-74425788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4D2-ADEE-45C9-8D20-5A78B004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8643-DE39-48B9-8809-DAFE6FB4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9F9B-248B-4424-A15A-85BF1055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E026-6EB8-43AC-8FD0-5B31A5DE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7F55-B4C0-4753-BA11-420CC65C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F220-6F6B-4351-9607-6915B217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B8DF-2B3D-4B70-B5F7-171EF76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7264-219B-4224-A053-026C7AF5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762B-4D86-4A86-94B6-029F4726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A5DD-1755-4FF5-9A85-C5FF18F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47FD-17D9-458A-8D59-90E1FEE7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4955-424B-456D-BEE3-A6C7250B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3E3D-6609-4D50-AF75-76EBFF98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C2C4-EECF-425D-9DAB-496CAC25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9F4-C816-4811-A7AE-B0D2641A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F38-6963-4EC7-ADBA-BB7146A1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478-B52E-48E9-9807-5A3F9EBA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7D1-F1FC-4CA8-A03F-604C3444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B49-1728-40EF-ABEF-97ED158B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642-0A57-4D07-9451-3A3AAC3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CB4-6030-431C-8924-4731AE82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EF53-B497-46AD-8A57-954C03DCEA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1554-C49C-4D23-BB83-11D2B00ADB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8208720" cy="439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Однорідні члени речення </a:t>
            </a:r>
            <a:br>
              <a:rPr sz="7200"/>
            </a:b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і</a:t>
            </a:r>
            <a:br>
              <a:rPr sz="7200"/>
            </a:br>
            <a:r>
              <a:rPr b="1" lang="uk-UA" sz="7200" spc="-1" strike="noStrike">
                <a:solidFill>
                  <a:srgbClr val="ff3300"/>
                </a:solidFill>
                <a:latin typeface="Comic Sans MS"/>
              </a:rPr>
              <a:t>коми</a:t>
            </a: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 між ними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916000" y="259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На допомогу учневі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62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81342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cc"/>
                </a:solidFill>
                <a:latin typeface="Comic Sans MS"/>
              </a:rPr>
              <a:t>Прочитай реченн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mic Sans MS"/>
              </a:rPr>
              <a:t>Ліс одягнувся в </a:t>
            </a:r>
            <a:r>
              <a:rPr b="0" lang="uk-UA" sz="6000" spc="-1" strike="noStrike">
                <a:solidFill>
                  <a:srgbClr val="33cc33"/>
                </a:solidFill>
                <a:latin typeface="Comic Sans MS"/>
              </a:rPr>
              <a:t>біле, пухнасте, чарівне</a:t>
            </a:r>
            <a:r>
              <a:rPr b="0" lang="uk-UA" sz="6000" spc="-1" strike="noStrike">
                <a:solidFill>
                  <a:srgbClr val="000000"/>
                </a:solidFill>
                <a:latin typeface="Comic Sans MS"/>
              </a:rPr>
              <a:t> вбрання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844800" y="3109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1581120" cy="259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3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799308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cc"/>
                </a:solidFill>
                <a:latin typeface="Comic Sans MS"/>
              </a:rPr>
              <a:t>Зверни увагу на сло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278136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Чому між ними стоять ко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11280" y="151920"/>
            <a:ext cx="694512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mic Sans MS"/>
              </a:rPr>
              <a:t>Знайдемо підмет і присудок в цьому реченні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Ліс</a:t>
            </a: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 – підмет.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(саме про нього говориться в реченні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Ліс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(що зробив?) </a:t>
            </a: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6000" spc="-1" strike="noStrike">
                <a:solidFill>
                  <a:srgbClr val="33cc33"/>
                </a:solidFill>
                <a:latin typeface="Comic Sans MS"/>
              </a:rPr>
              <a:t>одягнувс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mic Sans MS"/>
              </a:rPr>
              <a:t>(це присудок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7440" cy="3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6729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mic Sans MS"/>
              </a:rPr>
              <a:t>Ліс одягнувся у яке вбранн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cc33"/>
                </a:solidFill>
                <a:latin typeface="Comic Sans MS"/>
              </a:rPr>
              <a:t>...біле, пухнасте, чарівне..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729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9200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...біле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пухнасте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cc33"/>
                </a:solidFill>
                <a:latin typeface="Comic Sans MS"/>
              </a:rPr>
              <a:t>чарівне..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Comic Sans MS"/>
              </a:rPr>
              <a:t>- це однорідні члени реченн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672948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Comic Sans MS"/>
              </a:rPr>
              <a:t>Однорідні члени речення – це такі слова, які відповідають на одне і те ж саме запитання і належать до одного і того ж самого слов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8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днорідні члени речення і коми між ни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3300"/>
                </a:solidFill>
                <a:latin typeface="Comic Sans MS"/>
              </a:rPr>
              <a:t>Між однорідними членами речення на письмі ставляться коми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5:28Z</dcterms:created>
  <dc:creator>student</dc:creator>
  <dc:description/>
  <dc:language>en-US</dc:language>
  <cp:lastModifiedBy>student</cp:lastModifiedBy>
  <dcterms:modified xsi:type="dcterms:W3CDTF">2005-10-21T14:35:45Z</dcterms:modified>
  <cp:revision>12</cp:revision>
  <dc:subject/>
  <dc:title>Однорідні члени речення  і коми між ни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