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F464-4529-4C2B-BDCB-28D9CD47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1C6D-90BF-4249-A290-F0059043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D79C-F613-4657-92AF-79F71D017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5ECA-454E-4ED3-B993-739E85066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64F5-DF5D-490A-80E8-87E979419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02EC-D269-47A1-8141-27737976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D00E-2CDD-44F3-A984-872179B9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1F31-08E4-4DA6-ACEF-862F1C56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AC2F-1387-4AE1-A310-5778DEF4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123F-F3B8-497E-917C-DA6E6E6E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C7E1-0070-4D7A-B8A9-CA3D26CF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54B8-361C-4708-905A-26C61A2B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2F3E-DC39-497B-A309-E7DB36D5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44DD-6324-4B4F-A325-BBB0BEE6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CACB-224F-439B-B3E8-2A61926D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CE22-D029-4991-86BF-B0B750DB5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3753-9321-47BC-ABBA-D81CBFE93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7855-14CD-4F9A-ACA6-84AC9E53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1C51-D213-4EED-9956-50D67ED7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5F4F-53CB-41E0-BA91-8D06C81C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09D5-C5DD-4B4C-A818-19A3CB0C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DFC9-7930-4FFB-8E74-3BCE1197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2924-2BB3-4B7F-AAE8-4021A466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01BC-FAC0-40AA-8455-B7D0AFCB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F496-2325-4DAB-B485-0561EA539F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D2D9-2163-400C-81DA-4D1D2B3888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777080" cy="4032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00cc"/>
                </a:solidFill>
                <a:latin typeface="Comic Sans MS"/>
              </a:rPr>
              <a:t>Правопис ненаголошених </a:t>
            </a:r>
            <a:r>
              <a:rPr b="1" i="1" lang="uk-UA" sz="6600" spc="-1" strike="noStrike">
                <a:solidFill>
                  <a:srgbClr val="ff0000"/>
                </a:solidFill>
                <a:latin typeface="Comic Sans MS"/>
              </a:rPr>
              <a:t>е</a:t>
            </a:r>
            <a:r>
              <a:rPr b="1" lang="uk-UA" sz="6600" spc="-1" strike="noStrike">
                <a:solidFill>
                  <a:srgbClr val="0000cc"/>
                </a:solidFill>
                <a:latin typeface="Comic Sans MS"/>
              </a:rPr>
              <a:t> та </a:t>
            </a:r>
            <a:r>
              <a:rPr b="1" i="1" lang="uk-UA" sz="6600" spc="-1" strike="noStrike">
                <a:solidFill>
                  <a:srgbClr val="ff0000"/>
                </a:solidFill>
                <a:latin typeface="Comic Sans MS"/>
              </a:rPr>
              <a:t>и</a:t>
            </a:r>
            <a:r>
              <a:rPr b="1" lang="uk-UA" sz="6600" spc="-1" strike="noStrike">
                <a:solidFill>
                  <a:srgbClr val="0000cc"/>
                </a:solidFill>
                <a:latin typeface="Comic Sans MS"/>
              </a:rPr>
              <a:t> в корені слова</a:t>
            </a:r>
            <a:endParaRPr b="0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842920" y="55162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mic Sans MS"/>
              </a:rPr>
              <a:t>Наочний посібни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7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443640" y="4365720"/>
            <a:ext cx="1744560" cy="18367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Правопис ненаголошених </a:t>
            </a: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е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 та </a:t>
            </a: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 в корені слов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561440" cy="40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mic Sans MS"/>
              </a:rPr>
              <a:t>В деяких словах ми не можемо почути на слух, яку букву писати в корені слова, наприклад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uk-UA" sz="36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м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0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6729120" cy="62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Правопис</a:t>
            </a:r>
            <a:r>
              <a:rPr b="1" lang="uk-UA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ненаголошених </a:t>
            </a: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е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 та </a:t>
            </a: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 в корені слов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5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omic Sans MS"/>
              </a:rPr>
              <a:t>Це створює величезні труднощі у написанні слів, чи не так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omic Sans MS"/>
              </a:rPr>
              <a:t>Як же вирішити цю проблему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7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68007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Правопис</a:t>
            </a:r>
            <a:r>
              <a:rPr b="1" lang="uk-UA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ненаголошених </a:t>
            </a: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е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 та </a:t>
            </a: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 в корені слов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Все дуже просто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mic Sans MS"/>
              </a:rPr>
              <a:t>Зверни увагу на наголос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i="1" lang="uk-UA" sz="48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á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0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6870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Правопис</a:t>
            </a:r>
            <a:r>
              <a:rPr b="1" lang="uk-UA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ненаголошених </a:t>
            </a: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е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 та </a:t>
            </a: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 в корені слов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Змінимо слово так, щоб наголос падав на той звук, написати який ми вагаємось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Наприклад, скажемо ці слова у множині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i="1" lang="uk-UA" sz="36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м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ù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é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1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651640" y="3429000"/>
            <a:ext cx="2995560" cy="29574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68709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Правопис</a:t>
            </a:r>
            <a:r>
              <a:rPr b="1" lang="uk-UA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ненаголошених </a:t>
            </a: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е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 та </a:t>
            </a: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 в корені слов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77025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Comic Sans MS"/>
              </a:rPr>
              <a:t>Проблема вирішена, чи не так?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5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620280"/>
            <a:ext cx="6870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Правопис</a:t>
            </a:r>
            <a:r>
              <a:rPr b="1" lang="uk-UA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ненаголошених </a:t>
            </a: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е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 та </a:t>
            </a: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 в корені слов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Comic Sans MS"/>
              </a:rPr>
              <a:t>Таке саме правило можна застосувати практично для всіх орфогра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4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b200"/>
                </a:solidFill>
                <a:latin typeface="Comic Sans MS"/>
              </a:rPr>
              <a:t>Спробуйте самі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7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2:01:32Z</dcterms:created>
  <dc:creator>student</dc:creator>
  <dc:description/>
  <dc:language>en-US</dc:language>
  <cp:lastModifiedBy>student</cp:lastModifiedBy>
  <dcterms:modified xsi:type="dcterms:W3CDTF">2005-10-25T11:36:35Z</dcterms:modified>
  <cp:revision>6</cp:revision>
  <dc:subject/>
  <dc:title>Правопис ненаголошених е та и в корені сло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